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8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jpeg" ContentType="image/jpeg"/>
  <Override PartName="/ppt/media/image29.wmf" ContentType="image/x-wmf"/>
  <Override PartName="/ppt/media/image1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22.png" ContentType="image/png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AD7-6057-40DE-8094-F0715018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976-60E2-41A4-BAB2-A12ECFB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D0D-04E0-4252-AC69-F6CF162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A3D-5C96-42F4-B4ED-B3009AE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1B67-68CD-4CD2-B796-AE95B86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D9E3-5E36-4005-BD11-C079647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4B8-7C1F-410B-B678-3ECCA96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59FE-A8AA-4FC0-BAD0-4AB2577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ECC9-E10E-4C03-8E0B-BAAC7DCB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28E1-C4FE-47A7-8140-89569EF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A68E-ABB9-4E4E-9008-8714645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2F2-08A5-4A33-8C88-0FC323E2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1FE6-6E56-4E04-B32D-D95F55D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F80D-996F-4638-8961-0CC00CC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CDD-38AD-427B-B357-32E13DC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F66B-620A-4D2E-82D9-C95B988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8310-70DA-43A6-80A5-E3C86FDA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303-66CC-4E73-B913-C7AF9E0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7FB-1173-4EB8-BFF4-E7C282F4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C65-CE0F-4939-9332-F25DD0C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87D-89B5-43CB-BA08-7114F1E4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5E0-CF96-4699-B57F-6C786D8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987-21CD-410C-BEDE-A85E2AA2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E51-BD30-4CD1-B2A4-3EC1E78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EAE-D58F-4380-9AFD-C82FE746EE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D25-F3B8-42FE-805F-4E21451FC8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drunjie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zguohua888.b2b.hc360.com/supply/25473309.htm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wdtrade.cn/product/productlist226_5_299.html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xec.cn/index/products.asp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1.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带晶闸管的电子线路的安装与调试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机床的检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地电阻测试仪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服装，施工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715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邵鸿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27000" y="167400"/>
            <a:ext cx="3460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  <a:ea typeface="隶书"/>
              </a:rPr>
              <a:t>(3)</a:t>
            </a:r>
            <a:r>
              <a:rPr b="1" lang="zh-CN" sz="3400" spc="-1" strike="noStrike">
                <a:solidFill>
                  <a:srgbClr val="0000ff"/>
                </a:solidFill>
                <a:latin typeface="Garamond"/>
                <a:ea typeface="隶书"/>
              </a:rPr>
              <a:t>单相桥式全波</a:t>
            </a:r>
            <a:r>
              <a:rPr b="1" lang="zh-CN" sz="3400" spc="-1" strike="noStrike">
                <a:solidFill>
                  <a:srgbClr val="4a03d9"/>
                </a:solidFill>
                <a:latin typeface="Garamond"/>
                <a:ea typeface="隶书"/>
              </a:rPr>
              <a:t>整流电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122480" y="1206360"/>
            <a:ext cx="7340040" cy="2860560"/>
            <a:chOff x="1122480" y="1206360"/>
            <a:chExt cx="7340040" cy="2860560"/>
          </a:xfrm>
        </p:grpSpPr>
        <p:grpSp>
          <p:nvGrpSpPr>
            <p:cNvPr id="296" name=""/>
            <p:cNvGrpSpPr/>
            <p:nvPr/>
          </p:nvGrpSpPr>
          <p:grpSpPr>
            <a:xfrm>
              <a:off x="1122480" y="1206360"/>
              <a:ext cx="7340040" cy="2860560"/>
              <a:chOff x="1122480" y="1206360"/>
              <a:chExt cx="7340040" cy="2860560"/>
            </a:xfrm>
          </p:grpSpPr>
          <p:sp>
            <p:nvSpPr>
              <p:cNvPr id="297" name=""/>
              <p:cNvSpPr/>
              <p:nvPr/>
            </p:nvSpPr>
            <p:spPr>
              <a:xfrm>
                <a:off x="1722240" y="160812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42680" y="156672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22240" y="3589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42680" y="354780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2616120" y="2023920"/>
                <a:ext cx="7560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H="1">
                <a:off x="2954880" y="202392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30320" y="17953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1920" y="1608120"/>
                <a:ext cx="21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017520" y="3584160"/>
                <a:ext cx="211896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03800" y="1566720"/>
                <a:ext cx="116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65800" y="2408040"/>
                <a:ext cx="185400" cy="614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05000" y="406692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1141200" y="2111040"/>
                <a:ext cx="1114200" cy="633600"/>
                <a:chOff x="1141200" y="2111040"/>
                <a:chExt cx="1114200" cy="633600"/>
              </a:xfrm>
            </p:grpSpPr>
            <p:sp>
              <p:nvSpPr>
                <p:cNvPr id="310" name=""/>
                <p:cNvSpPr/>
                <p:nvPr/>
              </p:nvSpPr>
              <p:spPr>
                <a:xfrm flipV="1">
                  <a:off x="1141200" y="211104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141200" y="2744640"/>
                  <a:ext cx="111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未知"/>
              <p:cNvSpPr/>
              <p:nvPr/>
            </p:nvSpPr>
            <p:spPr>
              <a:xfrm>
                <a:off x="1137960" y="242568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22480" y="190476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66840" y="201744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16120" y="16030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16120" y="31669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1920" y="16063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31920" y="31669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36840" y="160308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136840" y="3395160"/>
                <a:ext cx="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0000">
                <a:off x="4565520" y="2055240"/>
                <a:ext cx="1111320" cy="1109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511160" y="2030760"/>
                <a:ext cx="381960" cy="400320"/>
                <a:chOff x="4511160" y="2030760"/>
                <a:chExt cx="381960" cy="4003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668840" y="203076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2700000">
                  <a:off x="4554720" y="2117160"/>
                  <a:ext cx="29448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336640" y="2772000"/>
                <a:ext cx="383400" cy="400680"/>
                <a:chOff x="5336640" y="2772000"/>
                <a:chExt cx="383400" cy="400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495760" y="277200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700000">
                  <a:off x="5380920" y="2857320"/>
                  <a:ext cx="29448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309640" y="2026080"/>
                <a:ext cx="400680" cy="383040"/>
                <a:chOff x="5309640" y="2026080"/>
                <a:chExt cx="400680" cy="383040"/>
              </a:xfrm>
            </p:grpSpPr>
            <p:sp>
              <p:nvSpPr>
                <p:cNvPr id="329" name=""/>
                <p:cNvSpPr/>
                <p:nvPr/>
              </p:nvSpPr>
              <p:spPr>
                <a:xfrm flipH="1">
                  <a:off x="5486400" y="2184840"/>
                  <a:ext cx="22392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8100000">
                  <a:off x="5353920" y="2093400"/>
                  <a:ext cx="2944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27000" y="2802600"/>
                <a:ext cx="399600" cy="382320"/>
                <a:chOff x="4527000" y="2802600"/>
                <a:chExt cx="399600" cy="382320"/>
              </a:xfrm>
            </p:grpSpPr>
            <p:sp>
              <p:nvSpPr>
                <p:cNvPr id="332" name=""/>
                <p:cNvSpPr/>
                <p:nvPr/>
              </p:nvSpPr>
              <p:spPr>
                <a:xfrm flipH="1">
                  <a:off x="4703400" y="296136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8100000">
                  <a:off x="4571640" y="2869560"/>
                  <a:ext cx="29340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4005000" y="263196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05000" y="2631960"/>
                <a:ext cx="0" cy="14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73800" y="3022560"/>
                <a:ext cx="0" cy="10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273800" y="1566720"/>
                <a:ext cx="0" cy="82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03800" y="1566720"/>
                <a:ext cx="0" cy="10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03640" y="261612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6040" y="210024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25520" y="210024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57400" y="1206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53920" y="1226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57400" y="3492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52520" y="168120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1760" y="291600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89320" y="216684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25720" y="255744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51640" y="1849320"/>
                <a:ext cx="101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708680" y="2465280"/>
              <a:ext cx="73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45320" y="246528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33440" y="78120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成：由四个二极管组成桥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2120" y="4248000"/>
            <a:ext cx="4010040" cy="2379600"/>
            <a:chOff x="492120" y="4248000"/>
            <a:chExt cx="4010040" cy="2379600"/>
          </a:xfrm>
        </p:grpSpPr>
        <p:sp>
          <p:nvSpPr>
            <p:cNvPr id="354" name=""/>
            <p:cNvSpPr/>
            <p:nvPr/>
          </p:nvSpPr>
          <p:spPr>
            <a:xfrm>
              <a:off x="1714320" y="426708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95440" y="474336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7000" y="4743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95440" y="58482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7000" y="5848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6880" y="426708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48000" y="474336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19200" y="4743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8000" y="58482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19200" y="5848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95600" y="428616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5600" y="661032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14840" y="426708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00360" y="5181480"/>
              <a:ext cx="209520" cy="53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3920" y="5257800"/>
              <a:ext cx="59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3920" y="56577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19360" y="4248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440" y="52196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28720" y="56196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19360" y="65530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8960" y="4611600"/>
              <a:ext cx="66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30320" y="4510080"/>
              <a:ext cx="56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9840" y="581472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46160" y="457488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22400" y="5814720"/>
              <a:ext cx="56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2120" y="514188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0200" y="5180040"/>
              <a:ext cx="561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28520" y="531468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24360" y="508608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838760" y="4628880"/>
            <a:ext cx="3943440" cy="1791000"/>
            <a:chOff x="4838760" y="4628880"/>
            <a:chExt cx="3943440" cy="1791000"/>
          </a:xfrm>
        </p:grpSpPr>
        <p:sp>
          <p:nvSpPr>
            <p:cNvPr id="384" name=""/>
            <p:cNvSpPr/>
            <p:nvPr/>
          </p:nvSpPr>
          <p:spPr>
            <a:xfrm rot="18804000">
              <a:off x="6062760" y="4863960"/>
              <a:ext cx="1038240" cy="10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201000" y="5133960"/>
              <a:ext cx="761760" cy="514440"/>
              <a:chOff x="6201000" y="5133960"/>
              <a:chExt cx="761760" cy="514440"/>
            </a:xfrm>
          </p:grpSpPr>
          <p:sp>
            <p:nvSpPr>
              <p:cNvPr id="386" name=""/>
              <p:cNvSpPr/>
              <p:nvPr/>
            </p:nvSpPr>
            <p:spPr>
              <a:xfrm rot="5400000">
                <a:off x="6343920" y="5181480"/>
                <a:ext cx="514440" cy="41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201000" y="540072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91760" y="515304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238720" y="464832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6880" y="611532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53200" y="481968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38760" y="501012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34280" y="46288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5200" y="464832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29480" y="5410440"/>
              <a:ext cx="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9480" y="6400800"/>
              <a:ext cx="21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2840" y="4629240"/>
              <a:ext cx="0" cy="177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86880" y="5276880"/>
              <a:ext cx="171360" cy="49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640" y="5219640"/>
              <a:ext cx="0" cy="5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72360" y="520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2860200" y="1604160"/>
            <a:ext cx="506520" cy="3686400"/>
            <a:chOff x="2860200" y="1604160"/>
            <a:chExt cx="506520" cy="3686400"/>
          </a:xfrm>
        </p:grpSpPr>
        <p:sp>
          <p:nvSpPr>
            <p:cNvPr id="402" name=""/>
            <p:cNvSpPr/>
            <p:nvPr/>
          </p:nvSpPr>
          <p:spPr>
            <a:xfrm>
              <a:off x="2896560" y="1604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0200" y="4587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09760" y="2146320"/>
            <a:ext cx="4224240" cy="2916360"/>
            <a:chOff x="3209760" y="2146320"/>
            <a:chExt cx="4224240" cy="2916360"/>
          </a:xfrm>
        </p:grpSpPr>
        <p:sp>
          <p:nvSpPr>
            <p:cNvPr id="405" name="未知"/>
            <p:cNvSpPr/>
            <p:nvPr/>
          </p:nvSpPr>
          <p:spPr>
            <a:xfrm>
              <a:off x="3209760" y="2146320"/>
              <a:ext cx="4224240" cy="2916360"/>
            </a:xfrm>
            <a:custGeom>
              <a:avLst/>
              <a:gdLst/>
              <a:ahLst/>
              <a:rect l="l" t="t" r="r" b="b"/>
              <a:pathLst>
                <a:path w="2661" h="1837">
                  <a:moveTo>
                    <a:pt x="0" y="22"/>
                  </a:moveTo>
                  <a:cubicBezTo>
                    <a:pt x="135" y="22"/>
                    <a:pt x="270" y="22"/>
                    <a:pt x="390" y="22"/>
                  </a:cubicBezTo>
                  <a:cubicBezTo>
                    <a:pt x="510" y="22"/>
                    <a:pt x="625" y="21"/>
                    <a:pt x="720" y="22"/>
                  </a:cubicBezTo>
                  <a:cubicBezTo>
                    <a:pt x="815" y="23"/>
                    <a:pt x="880" y="23"/>
                    <a:pt x="960" y="28"/>
                  </a:cubicBezTo>
                  <a:cubicBezTo>
                    <a:pt x="1040" y="33"/>
                    <a:pt x="1140" y="28"/>
                    <a:pt x="1200" y="52"/>
                  </a:cubicBezTo>
                  <a:cubicBezTo>
                    <a:pt x="1260" y="76"/>
                    <a:pt x="1252" y="93"/>
                    <a:pt x="1320" y="172"/>
                  </a:cubicBezTo>
                  <a:cubicBezTo>
                    <a:pt x="1388" y="251"/>
                    <a:pt x="1543" y="467"/>
                    <a:pt x="1608" y="526"/>
                  </a:cubicBezTo>
                  <a:cubicBezTo>
                    <a:pt x="1673" y="585"/>
                    <a:pt x="1692" y="552"/>
                    <a:pt x="1710" y="526"/>
                  </a:cubicBezTo>
                  <a:cubicBezTo>
                    <a:pt x="1728" y="500"/>
                    <a:pt x="1715" y="433"/>
                    <a:pt x="1716" y="370"/>
                  </a:cubicBezTo>
                  <a:cubicBezTo>
                    <a:pt x="1717" y="307"/>
                    <a:pt x="1713" y="203"/>
                    <a:pt x="1716" y="148"/>
                  </a:cubicBezTo>
                  <a:cubicBezTo>
                    <a:pt x="1719" y="93"/>
                    <a:pt x="1700" y="62"/>
                    <a:pt x="1734" y="40"/>
                  </a:cubicBezTo>
                  <a:cubicBezTo>
                    <a:pt x="1768" y="18"/>
                    <a:pt x="1814" y="22"/>
                    <a:pt x="1920" y="16"/>
                  </a:cubicBezTo>
                  <a:cubicBezTo>
                    <a:pt x="2026" y="10"/>
                    <a:pt x="2258" y="0"/>
                    <a:pt x="2370" y="4"/>
                  </a:cubicBezTo>
                  <a:cubicBezTo>
                    <a:pt x="2482" y="8"/>
                    <a:pt x="2547" y="11"/>
                    <a:pt x="2592" y="40"/>
                  </a:cubicBezTo>
                  <a:cubicBezTo>
                    <a:pt x="2637" y="69"/>
                    <a:pt x="2631" y="91"/>
                    <a:pt x="2640" y="178"/>
                  </a:cubicBezTo>
                  <a:cubicBezTo>
                    <a:pt x="2649" y="265"/>
                    <a:pt x="2645" y="334"/>
                    <a:pt x="2646" y="562"/>
                  </a:cubicBezTo>
                  <a:cubicBezTo>
                    <a:pt x="2647" y="790"/>
                    <a:pt x="2649" y="1348"/>
                    <a:pt x="2646" y="1546"/>
                  </a:cubicBezTo>
                  <a:cubicBezTo>
                    <a:pt x="2643" y="1744"/>
                    <a:pt x="2653" y="1705"/>
                    <a:pt x="2628" y="1750"/>
                  </a:cubicBezTo>
                  <a:cubicBezTo>
                    <a:pt x="2603" y="1795"/>
                    <a:pt x="2661" y="1804"/>
                    <a:pt x="2496" y="1816"/>
                  </a:cubicBezTo>
                  <a:cubicBezTo>
                    <a:pt x="2331" y="1828"/>
                    <a:pt x="1960" y="1820"/>
                    <a:pt x="1638" y="1822"/>
                  </a:cubicBezTo>
                  <a:cubicBezTo>
                    <a:pt x="1316" y="1824"/>
                    <a:pt x="765" y="1831"/>
                    <a:pt x="564" y="1828"/>
                  </a:cubicBezTo>
                  <a:cubicBezTo>
                    <a:pt x="363" y="1825"/>
                    <a:pt x="460" y="1823"/>
                    <a:pt x="432" y="1804"/>
                  </a:cubicBezTo>
                  <a:cubicBezTo>
                    <a:pt x="404" y="1785"/>
                    <a:pt x="401" y="1837"/>
                    <a:pt x="396" y="1714"/>
                  </a:cubicBezTo>
                  <a:cubicBezTo>
                    <a:pt x="391" y="1591"/>
                    <a:pt x="395" y="1189"/>
                    <a:pt x="402" y="1066"/>
                  </a:cubicBezTo>
                  <a:cubicBezTo>
                    <a:pt x="409" y="943"/>
                    <a:pt x="417" y="1000"/>
                    <a:pt x="438" y="976"/>
                  </a:cubicBezTo>
                  <a:cubicBezTo>
                    <a:pt x="459" y="952"/>
                    <a:pt x="491" y="931"/>
                    <a:pt x="528" y="922"/>
                  </a:cubicBezTo>
                  <a:cubicBezTo>
                    <a:pt x="565" y="913"/>
                    <a:pt x="587" y="861"/>
                    <a:pt x="660" y="922"/>
                  </a:cubicBezTo>
                  <a:cubicBezTo>
                    <a:pt x="733" y="983"/>
                    <a:pt x="903" y="1214"/>
                    <a:pt x="966" y="1288"/>
                  </a:cubicBezTo>
                  <a:cubicBezTo>
                    <a:pt x="1029" y="1362"/>
                    <a:pt x="1024" y="1340"/>
                    <a:pt x="1038" y="1366"/>
                  </a:cubicBezTo>
                  <a:cubicBezTo>
                    <a:pt x="1052" y="1392"/>
                    <a:pt x="1056" y="1418"/>
                    <a:pt x="1050" y="1444"/>
                  </a:cubicBezTo>
                  <a:cubicBezTo>
                    <a:pt x="1044" y="1470"/>
                    <a:pt x="1043" y="1505"/>
                    <a:pt x="1002" y="1522"/>
                  </a:cubicBezTo>
                  <a:cubicBezTo>
                    <a:pt x="961" y="1539"/>
                    <a:pt x="868" y="1543"/>
                    <a:pt x="804" y="1546"/>
                  </a:cubicBezTo>
                  <a:cubicBezTo>
                    <a:pt x="740" y="1549"/>
                    <a:pt x="738" y="1541"/>
                    <a:pt x="618" y="1540"/>
                  </a:cubicBezTo>
                  <a:cubicBezTo>
                    <a:pt x="498" y="1539"/>
                    <a:pt x="177" y="1541"/>
                    <a:pt x="84" y="154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10240" y="3181320"/>
              <a:ext cx="0" cy="78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065240" y="2044800"/>
            <a:ext cx="7340040" cy="2860560"/>
            <a:chOff x="1065240" y="2044800"/>
            <a:chExt cx="7340040" cy="2860560"/>
          </a:xfrm>
        </p:grpSpPr>
        <p:grpSp>
          <p:nvGrpSpPr>
            <p:cNvPr id="408" name=""/>
            <p:cNvGrpSpPr/>
            <p:nvPr/>
          </p:nvGrpSpPr>
          <p:grpSpPr>
            <a:xfrm>
              <a:off x="1065240" y="2044800"/>
              <a:ext cx="7340040" cy="2860560"/>
              <a:chOff x="1065240" y="2044800"/>
              <a:chExt cx="7340040" cy="2860560"/>
            </a:xfrm>
          </p:grpSpPr>
          <p:sp>
            <p:nvSpPr>
              <p:cNvPr id="409" name=""/>
              <p:cNvSpPr/>
              <p:nvPr/>
            </p:nvSpPr>
            <p:spPr>
              <a:xfrm>
                <a:off x="1665000" y="2446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85440" y="240516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65000" y="4427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85440" y="438624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2558880" y="2862360"/>
                <a:ext cx="7560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flipH="1">
                <a:off x="2897640" y="286236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73080" y="263376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74680" y="2446560"/>
                <a:ext cx="21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960280" y="4422600"/>
                <a:ext cx="211896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46560" y="2405160"/>
                <a:ext cx="116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08560" y="3246480"/>
                <a:ext cx="185400" cy="614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7760" y="490536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1083960" y="2949480"/>
                <a:ext cx="1114200" cy="633600"/>
                <a:chOff x="1083960" y="2949480"/>
                <a:chExt cx="1114200" cy="633600"/>
              </a:xfrm>
            </p:grpSpPr>
            <p:sp>
              <p:nvSpPr>
                <p:cNvPr id="422" name=""/>
                <p:cNvSpPr/>
                <p:nvPr/>
              </p:nvSpPr>
              <p:spPr>
                <a:xfrm flipV="1">
                  <a:off x="1083960" y="294948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83960" y="3583080"/>
                  <a:ext cx="111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未知"/>
              <p:cNvSpPr/>
              <p:nvPr/>
            </p:nvSpPr>
            <p:spPr>
              <a:xfrm>
                <a:off x="1080720" y="326412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65240" y="274320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009600" y="285588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58880" y="24415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58880" y="40053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74680" y="24447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74680" y="40053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079600" y="244152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079600" y="4233600"/>
                <a:ext cx="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700000">
                <a:off x="4508280" y="2893680"/>
                <a:ext cx="1111320" cy="1109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453920" y="2869200"/>
                <a:ext cx="381960" cy="400320"/>
                <a:chOff x="4453920" y="2869200"/>
                <a:chExt cx="381960" cy="400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611600" y="286920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2700000">
                  <a:off x="4497480" y="2955600"/>
                  <a:ext cx="29448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279400" y="3610440"/>
                <a:ext cx="383400" cy="400680"/>
                <a:chOff x="5279400" y="3610440"/>
                <a:chExt cx="383400" cy="4006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438520" y="361044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2700000">
                  <a:off x="5323680" y="3695760"/>
                  <a:ext cx="29448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252400" y="2864520"/>
                <a:ext cx="400680" cy="383040"/>
                <a:chOff x="5252400" y="2864520"/>
                <a:chExt cx="400680" cy="383040"/>
              </a:xfrm>
            </p:grpSpPr>
            <p:sp>
              <p:nvSpPr>
                <p:cNvPr id="441" name=""/>
                <p:cNvSpPr/>
                <p:nvPr/>
              </p:nvSpPr>
              <p:spPr>
                <a:xfrm flipH="1">
                  <a:off x="5429160" y="3023280"/>
                  <a:ext cx="22392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8100000">
                  <a:off x="5296680" y="2931840"/>
                  <a:ext cx="2944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469760" y="3641040"/>
                <a:ext cx="399600" cy="382320"/>
                <a:chOff x="4469760" y="3641040"/>
                <a:chExt cx="399600" cy="382320"/>
              </a:xfrm>
            </p:grpSpPr>
            <p:sp>
              <p:nvSpPr>
                <p:cNvPr id="444" name=""/>
                <p:cNvSpPr/>
                <p:nvPr/>
              </p:nvSpPr>
              <p:spPr>
                <a:xfrm flipH="1">
                  <a:off x="4646160" y="37998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8100000">
                  <a:off x="4514400" y="3708000"/>
                  <a:ext cx="29340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 flipH="1">
                <a:off x="3947760" y="34704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47760" y="3470400"/>
                <a:ext cx="0" cy="14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16560" y="3861000"/>
                <a:ext cx="0" cy="10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216560" y="2405160"/>
                <a:ext cx="0" cy="82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46560" y="2405160"/>
                <a:ext cx="0" cy="10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46400" y="345456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58800" y="29386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8280" y="29386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0160" y="204480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6680" y="20653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00160" y="433080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95280" y="251964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54520" y="375444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32080" y="3005280"/>
                <a:ext cx="5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68480" y="339588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94400" y="2687760"/>
                <a:ext cx="101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651440" y="3303720"/>
              <a:ext cx="73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88080" y="330372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073160" y="272880"/>
            <a:ext cx="227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半周时电流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03360" y="5591160"/>
            <a:ext cx="4918320" cy="579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导通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2782800" y="1196280"/>
            <a:ext cx="470160" cy="3299040"/>
            <a:chOff x="2782800" y="1196280"/>
            <a:chExt cx="470160" cy="3299040"/>
          </a:xfrm>
        </p:grpSpPr>
        <p:sp>
          <p:nvSpPr>
            <p:cNvPr id="467" name=""/>
            <p:cNvSpPr/>
            <p:nvPr/>
          </p:nvSpPr>
          <p:spPr>
            <a:xfrm>
              <a:off x="2862360" y="1196280"/>
              <a:ext cx="33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82800" y="37918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191040" y="1890720"/>
            <a:ext cx="3744720" cy="2722680"/>
            <a:chOff x="3191040" y="1890720"/>
            <a:chExt cx="3744720" cy="2722680"/>
          </a:xfrm>
        </p:grpSpPr>
        <p:sp>
          <p:nvSpPr>
            <p:cNvPr id="470" name="未知"/>
            <p:cNvSpPr/>
            <p:nvPr/>
          </p:nvSpPr>
          <p:spPr>
            <a:xfrm>
              <a:off x="3191040" y="1890720"/>
              <a:ext cx="3744720" cy="2722680"/>
            </a:xfrm>
            <a:custGeom>
              <a:avLst/>
              <a:gdLst/>
              <a:ahLst/>
              <a:rect l="l" t="t" r="r" b="b"/>
              <a:pathLst>
                <a:path w="2359" h="1715">
                  <a:moveTo>
                    <a:pt x="30" y="1437"/>
                  </a:moveTo>
                  <a:cubicBezTo>
                    <a:pt x="350" y="1438"/>
                    <a:pt x="670" y="1439"/>
                    <a:pt x="834" y="1437"/>
                  </a:cubicBezTo>
                  <a:cubicBezTo>
                    <a:pt x="998" y="1435"/>
                    <a:pt x="966" y="1434"/>
                    <a:pt x="1014" y="1425"/>
                  </a:cubicBezTo>
                  <a:cubicBezTo>
                    <a:pt x="1062" y="1416"/>
                    <a:pt x="1084" y="1412"/>
                    <a:pt x="1122" y="1383"/>
                  </a:cubicBezTo>
                  <a:cubicBezTo>
                    <a:pt x="1160" y="1354"/>
                    <a:pt x="1205" y="1289"/>
                    <a:pt x="1242" y="1251"/>
                  </a:cubicBezTo>
                  <a:cubicBezTo>
                    <a:pt x="1279" y="1213"/>
                    <a:pt x="1292" y="1211"/>
                    <a:pt x="1344" y="1155"/>
                  </a:cubicBezTo>
                  <a:cubicBezTo>
                    <a:pt x="1396" y="1099"/>
                    <a:pt x="1497" y="985"/>
                    <a:pt x="1554" y="915"/>
                  </a:cubicBezTo>
                  <a:cubicBezTo>
                    <a:pt x="1611" y="845"/>
                    <a:pt x="1645" y="788"/>
                    <a:pt x="1686" y="735"/>
                  </a:cubicBezTo>
                  <a:cubicBezTo>
                    <a:pt x="1727" y="682"/>
                    <a:pt x="1778" y="645"/>
                    <a:pt x="1800" y="597"/>
                  </a:cubicBezTo>
                  <a:cubicBezTo>
                    <a:pt x="1822" y="549"/>
                    <a:pt x="1815" y="497"/>
                    <a:pt x="1818" y="447"/>
                  </a:cubicBezTo>
                  <a:cubicBezTo>
                    <a:pt x="1821" y="397"/>
                    <a:pt x="1816" y="352"/>
                    <a:pt x="1818" y="297"/>
                  </a:cubicBezTo>
                  <a:cubicBezTo>
                    <a:pt x="1820" y="242"/>
                    <a:pt x="1825" y="158"/>
                    <a:pt x="1830" y="117"/>
                  </a:cubicBezTo>
                  <a:cubicBezTo>
                    <a:pt x="1835" y="76"/>
                    <a:pt x="1837" y="68"/>
                    <a:pt x="1848" y="51"/>
                  </a:cubicBezTo>
                  <a:cubicBezTo>
                    <a:pt x="1859" y="34"/>
                    <a:pt x="1861" y="22"/>
                    <a:pt x="1896" y="15"/>
                  </a:cubicBezTo>
                  <a:cubicBezTo>
                    <a:pt x="1931" y="8"/>
                    <a:pt x="1999" y="11"/>
                    <a:pt x="2058" y="9"/>
                  </a:cubicBezTo>
                  <a:cubicBezTo>
                    <a:pt x="2117" y="7"/>
                    <a:pt x="2207" y="0"/>
                    <a:pt x="2250" y="3"/>
                  </a:cubicBezTo>
                  <a:cubicBezTo>
                    <a:pt x="2293" y="6"/>
                    <a:pt x="2300" y="13"/>
                    <a:pt x="2316" y="27"/>
                  </a:cubicBezTo>
                  <a:cubicBezTo>
                    <a:pt x="2332" y="41"/>
                    <a:pt x="2342" y="62"/>
                    <a:pt x="2346" y="87"/>
                  </a:cubicBezTo>
                  <a:cubicBezTo>
                    <a:pt x="2350" y="112"/>
                    <a:pt x="2343" y="93"/>
                    <a:pt x="2340" y="177"/>
                  </a:cubicBezTo>
                  <a:cubicBezTo>
                    <a:pt x="2337" y="261"/>
                    <a:pt x="2331" y="500"/>
                    <a:pt x="2328" y="591"/>
                  </a:cubicBezTo>
                  <a:cubicBezTo>
                    <a:pt x="2325" y="682"/>
                    <a:pt x="2321" y="666"/>
                    <a:pt x="2322" y="723"/>
                  </a:cubicBezTo>
                  <a:cubicBezTo>
                    <a:pt x="2323" y="780"/>
                    <a:pt x="2331" y="872"/>
                    <a:pt x="2334" y="933"/>
                  </a:cubicBezTo>
                  <a:cubicBezTo>
                    <a:pt x="2337" y="994"/>
                    <a:pt x="2340" y="1053"/>
                    <a:pt x="2340" y="1089"/>
                  </a:cubicBezTo>
                  <a:cubicBezTo>
                    <a:pt x="2340" y="1125"/>
                    <a:pt x="2334" y="1123"/>
                    <a:pt x="2334" y="1149"/>
                  </a:cubicBezTo>
                  <a:cubicBezTo>
                    <a:pt x="2334" y="1175"/>
                    <a:pt x="2339" y="1220"/>
                    <a:pt x="2340" y="1245"/>
                  </a:cubicBezTo>
                  <a:cubicBezTo>
                    <a:pt x="2341" y="1270"/>
                    <a:pt x="2338" y="1243"/>
                    <a:pt x="2340" y="1299"/>
                  </a:cubicBezTo>
                  <a:cubicBezTo>
                    <a:pt x="2342" y="1355"/>
                    <a:pt x="2359" y="1517"/>
                    <a:pt x="2352" y="1581"/>
                  </a:cubicBezTo>
                  <a:cubicBezTo>
                    <a:pt x="2345" y="1645"/>
                    <a:pt x="2344" y="1663"/>
                    <a:pt x="2298" y="1683"/>
                  </a:cubicBezTo>
                  <a:cubicBezTo>
                    <a:pt x="2252" y="1703"/>
                    <a:pt x="2192" y="1696"/>
                    <a:pt x="2076" y="1701"/>
                  </a:cubicBezTo>
                  <a:cubicBezTo>
                    <a:pt x="1960" y="1706"/>
                    <a:pt x="1760" y="1711"/>
                    <a:pt x="1602" y="1713"/>
                  </a:cubicBezTo>
                  <a:cubicBezTo>
                    <a:pt x="1444" y="1715"/>
                    <a:pt x="1283" y="1714"/>
                    <a:pt x="1128" y="1713"/>
                  </a:cubicBezTo>
                  <a:cubicBezTo>
                    <a:pt x="973" y="1712"/>
                    <a:pt x="773" y="1709"/>
                    <a:pt x="672" y="1707"/>
                  </a:cubicBezTo>
                  <a:cubicBezTo>
                    <a:pt x="571" y="1705"/>
                    <a:pt x="550" y="1707"/>
                    <a:pt x="522" y="1701"/>
                  </a:cubicBezTo>
                  <a:cubicBezTo>
                    <a:pt x="494" y="1695"/>
                    <a:pt x="511" y="1689"/>
                    <a:pt x="504" y="1671"/>
                  </a:cubicBezTo>
                  <a:cubicBezTo>
                    <a:pt x="497" y="1653"/>
                    <a:pt x="486" y="1642"/>
                    <a:pt x="480" y="1593"/>
                  </a:cubicBezTo>
                  <a:cubicBezTo>
                    <a:pt x="474" y="1544"/>
                    <a:pt x="470" y="1427"/>
                    <a:pt x="468" y="1377"/>
                  </a:cubicBezTo>
                  <a:cubicBezTo>
                    <a:pt x="466" y="1327"/>
                    <a:pt x="469" y="1356"/>
                    <a:pt x="468" y="1293"/>
                  </a:cubicBezTo>
                  <a:cubicBezTo>
                    <a:pt x="467" y="1230"/>
                    <a:pt x="454" y="1073"/>
                    <a:pt x="462" y="999"/>
                  </a:cubicBezTo>
                  <a:cubicBezTo>
                    <a:pt x="470" y="925"/>
                    <a:pt x="491" y="888"/>
                    <a:pt x="516" y="849"/>
                  </a:cubicBezTo>
                  <a:cubicBezTo>
                    <a:pt x="541" y="810"/>
                    <a:pt x="549" y="817"/>
                    <a:pt x="612" y="765"/>
                  </a:cubicBezTo>
                  <a:cubicBezTo>
                    <a:pt x="675" y="713"/>
                    <a:pt x="817" y="609"/>
                    <a:pt x="894" y="537"/>
                  </a:cubicBezTo>
                  <a:cubicBezTo>
                    <a:pt x="971" y="465"/>
                    <a:pt x="1047" y="399"/>
                    <a:pt x="1074" y="333"/>
                  </a:cubicBezTo>
                  <a:cubicBezTo>
                    <a:pt x="1101" y="267"/>
                    <a:pt x="1059" y="175"/>
                    <a:pt x="1056" y="141"/>
                  </a:cubicBezTo>
                  <a:cubicBezTo>
                    <a:pt x="1053" y="107"/>
                    <a:pt x="1073" y="135"/>
                    <a:pt x="1056" y="129"/>
                  </a:cubicBezTo>
                  <a:cubicBezTo>
                    <a:pt x="1039" y="123"/>
                    <a:pt x="1048" y="109"/>
                    <a:pt x="954" y="105"/>
                  </a:cubicBezTo>
                  <a:cubicBezTo>
                    <a:pt x="860" y="101"/>
                    <a:pt x="626" y="105"/>
                    <a:pt x="492" y="105"/>
                  </a:cubicBezTo>
                  <a:cubicBezTo>
                    <a:pt x="358" y="105"/>
                    <a:pt x="232" y="106"/>
                    <a:pt x="150" y="105"/>
                  </a:cubicBezTo>
                  <a:cubicBezTo>
                    <a:pt x="68" y="104"/>
                    <a:pt x="25" y="100"/>
                    <a:pt x="0" y="9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95800" y="2514600"/>
              <a:ext cx="0" cy="876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932040" y="1511280"/>
            <a:ext cx="7340040" cy="2860560"/>
            <a:chOff x="932040" y="1511280"/>
            <a:chExt cx="7340040" cy="2860560"/>
          </a:xfrm>
        </p:grpSpPr>
        <p:sp>
          <p:nvSpPr>
            <p:cNvPr id="473" name=""/>
            <p:cNvSpPr/>
            <p:nvPr/>
          </p:nvSpPr>
          <p:spPr>
            <a:xfrm>
              <a:off x="7518240" y="2770200"/>
              <a:ext cx="73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4880" y="27702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32040" y="1511280"/>
              <a:ext cx="7340040" cy="2860560"/>
              <a:chOff x="932040" y="1511280"/>
              <a:chExt cx="7340040" cy="286056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932040" y="1511280"/>
                <a:ext cx="7340040" cy="2860560"/>
                <a:chOff x="932040" y="1511280"/>
                <a:chExt cx="7340040" cy="2860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531800" y="1913040"/>
                  <a:ext cx="91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452240" y="1871640"/>
                  <a:ext cx="7596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531800" y="3894120"/>
                  <a:ext cx="91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452240" y="3852720"/>
                  <a:ext cx="7596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未知"/>
                <p:cNvSpPr/>
                <p:nvPr/>
              </p:nvSpPr>
              <p:spPr>
                <a:xfrm>
                  <a:off x="2425680" y="2328840"/>
                  <a:ext cx="7560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未知"/>
                <p:cNvSpPr/>
                <p:nvPr/>
              </p:nvSpPr>
              <p:spPr>
                <a:xfrm flipH="1">
                  <a:off x="2764440" y="2328840"/>
                  <a:ext cx="7596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639880" y="210024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841480" y="1913040"/>
                  <a:ext cx="21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2827080" y="3889080"/>
                  <a:ext cx="211896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13360" y="1871640"/>
                  <a:ext cx="11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975360" y="2712960"/>
                  <a:ext cx="185400" cy="614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814560" y="4371840"/>
                  <a:ext cx="326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950760" y="2415960"/>
                  <a:ext cx="1114200" cy="633600"/>
                  <a:chOff x="950760" y="2415960"/>
                  <a:chExt cx="1114200" cy="6336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950760" y="2415960"/>
                    <a:ext cx="0" cy="63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950760" y="3049560"/>
                    <a:ext cx="111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" name="未知"/>
                <p:cNvSpPr/>
                <p:nvPr/>
              </p:nvSpPr>
              <p:spPr>
                <a:xfrm>
                  <a:off x="947520" y="2730600"/>
                  <a:ext cx="807840" cy="59688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932040" y="2209680"/>
                  <a:ext cx="561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876400" y="2322360"/>
                  <a:ext cx="561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25680" y="190800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25680" y="34718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841480" y="19112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841480" y="34718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946400" y="1908000"/>
                  <a:ext cx="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4946400" y="3700080"/>
                  <a:ext cx="0" cy="18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2700000">
                  <a:off x="4375080" y="2360160"/>
                  <a:ext cx="1111320" cy="1109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4320720" y="2335680"/>
                  <a:ext cx="381960" cy="400320"/>
                  <a:chOff x="4320720" y="2335680"/>
                  <a:chExt cx="381960" cy="4003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4478400" y="2335680"/>
                    <a:ext cx="224280" cy="224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2700000">
                    <a:off x="4364280" y="2422080"/>
                    <a:ext cx="294480" cy="2458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146200" y="3076920"/>
                  <a:ext cx="383400" cy="400680"/>
                  <a:chOff x="5146200" y="3076920"/>
                  <a:chExt cx="383400" cy="4006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5305320" y="3076920"/>
                    <a:ext cx="224280" cy="224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700000">
                    <a:off x="5190480" y="3162240"/>
                    <a:ext cx="294480" cy="2473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5119200" y="2331000"/>
                  <a:ext cx="400680" cy="383040"/>
                  <a:chOff x="5119200" y="2331000"/>
                  <a:chExt cx="400680" cy="3830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>
                    <a:off x="5295960" y="2489760"/>
                    <a:ext cx="223920" cy="223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8100000">
                    <a:off x="5163480" y="2398320"/>
                    <a:ext cx="29448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336560" y="3107520"/>
                  <a:ext cx="399600" cy="382320"/>
                  <a:chOff x="4336560" y="3107520"/>
                  <a:chExt cx="399600" cy="3823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4512960" y="326628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8100000">
                    <a:off x="4381200" y="3174480"/>
                    <a:ext cx="29340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 flipH="1">
                  <a:off x="3814560" y="2936880"/>
                  <a:ext cx="33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14560" y="2936880"/>
                  <a:ext cx="0" cy="1434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083360" y="3327480"/>
                  <a:ext cx="0" cy="10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7083360" y="1871640"/>
                  <a:ext cx="0" cy="82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913360" y="1871640"/>
                  <a:ext cx="0" cy="106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13200" y="2921040"/>
                  <a:ext cx="19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25600" y="24051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935080" y="24051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766960" y="1511280"/>
                  <a:ext cx="183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463480" y="153180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766960" y="3797280"/>
                  <a:ext cx="183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862080" y="1986120"/>
                  <a:ext cx="561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521320" y="3220920"/>
                  <a:ext cx="561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98880" y="2471760"/>
                  <a:ext cx="561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535280" y="2862360"/>
                  <a:ext cx="56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61200" y="2154240"/>
                  <a:ext cx="1010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>
                <a:off x="7518240" y="2770200"/>
                <a:ext cx="736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54880" y="2770200"/>
                <a:ext cx="0" cy="58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343080" y="324000"/>
            <a:ext cx="35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半周时电流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03360" y="5591160"/>
            <a:ext cx="5330880" cy="579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导通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截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5297400" y="874800"/>
            <a:ext cx="3605040" cy="2967120"/>
            <a:chOff x="5297400" y="874800"/>
            <a:chExt cx="3605040" cy="2967120"/>
          </a:xfrm>
        </p:grpSpPr>
        <p:sp>
          <p:nvSpPr>
            <p:cNvPr id="535" name=""/>
            <p:cNvSpPr/>
            <p:nvPr/>
          </p:nvSpPr>
          <p:spPr>
            <a:xfrm>
              <a:off x="5297400" y="874800"/>
              <a:ext cx="3605040" cy="2967120"/>
            </a:xfrm>
            <a:prstGeom prst="rect">
              <a:avLst/>
            </a:prstGeom>
            <a:solidFill>
              <a:srgbClr val="ffffd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48440" y="878040"/>
              <a:ext cx="0" cy="29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5297400" y="1817280"/>
              <a:ext cx="360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446800" y="104148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83280" y="1814400"/>
            <a:ext cx="20034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流通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224840" y="1071720"/>
            <a:ext cx="12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96240" y="1857240"/>
            <a:ext cx="19368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流通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62560" y="1418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单相桥式整流电路输出波形及二极管上电压波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52280" y="800280"/>
            <a:ext cx="4672080" cy="3279600"/>
            <a:chOff x="152280" y="800280"/>
            <a:chExt cx="4672080" cy="3279600"/>
          </a:xfrm>
        </p:grpSpPr>
        <p:grpSp>
          <p:nvGrpSpPr>
            <p:cNvPr id="544" name=""/>
            <p:cNvGrpSpPr/>
            <p:nvPr/>
          </p:nvGrpSpPr>
          <p:grpSpPr>
            <a:xfrm>
              <a:off x="249120" y="906480"/>
              <a:ext cx="4575240" cy="3173400"/>
              <a:chOff x="249120" y="906480"/>
              <a:chExt cx="4575240" cy="3173400"/>
            </a:xfrm>
          </p:grpSpPr>
          <p:sp>
            <p:nvSpPr>
              <p:cNvPr id="545" name=""/>
              <p:cNvSpPr/>
              <p:nvPr/>
            </p:nvSpPr>
            <p:spPr>
              <a:xfrm>
                <a:off x="323640" y="1360440"/>
                <a:ext cx="210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09600" y="3336840"/>
                <a:ext cx="212076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398760" y="13194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60760" y="21607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96720" y="3819600"/>
                <a:ext cx="327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15800" y="201780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30360" y="13557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430360" y="31482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700000">
                <a:off x="1859400" y="1805400"/>
                <a:ext cx="1111320" cy="1113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1829160" y="1783080"/>
                <a:ext cx="383040" cy="401040"/>
                <a:chOff x="1829160" y="1783080"/>
                <a:chExt cx="383040" cy="4010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987920" y="178308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700000">
                  <a:off x="1873080" y="1868400"/>
                  <a:ext cx="2944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657880" y="2524680"/>
                <a:ext cx="383040" cy="401040"/>
                <a:chOff x="2657880" y="2524680"/>
                <a:chExt cx="383040" cy="4010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816640" y="252468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700000">
                  <a:off x="2701800" y="2610000"/>
                  <a:ext cx="2944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2624400" y="1778040"/>
                <a:ext cx="400680" cy="383400"/>
                <a:chOff x="2624400" y="1778040"/>
                <a:chExt cx="400680" cy="383400"/>
              </a:xfrm>
            </p:grpSpPr>
            <p:sp>
              <p:nvSpPr>
                <p:cNvPr id="561" name=""/>
                <p:cNvSpPr/>
                <p:nvPr/>
              </p:nvSpPr>
              <p:spPr>
                <a:xfrm flipH="1">
                  <a:off x="2800800" y="193716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8100000">
                  <a:off x="2668320" y="1845720"/>
                  <a:ext cx="29448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833480" y="2556360"/>
                <a:ext cx="401040" cy="383040"/>
                <a:chOff x="1833480" y="2556360"/>
                <a:chExt cx="401040" cy="3830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2010240" y="2715120"/>
                  <a:ext cx="224280" cy="224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8100000">
                  <a:off x="1877760" y="2623680"/>
                  <a:ext cx="2944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1296360" y="238428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96720" y="23842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68760" y="27748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568760" y="13190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398760" y="13194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98600" y="2368440"/>
                <a:ext cx="20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9120" y="9064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9120" y="31924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31640" y="143352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79640" y="284148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382840" y="1919160"/>
                <a:ext cx="563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17440" y="2309760"/>
                <a:ext cx="563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13120" y="1582920"/>
                <a:ext cx="1011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6320" y="1905120"/>
                <a:ext cx="0" cy="950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541080" y="1079640"/>
                <a:ext cx="4225680" cy="2916000"/>
                <a:chOff x="541080" y="1079640"/>
                <a:chExt cx="4225680" cy="2916000"/>
              </a:xfrm>
            </p:grpSpPr>
            <p:sp>
              <p:nvSpPr>
                <p:cNvPr id="581" name="未知"/>
                <p:cNvSpPr/>
                <p:nvPr/>
              </p:nvSpPr>
              <p:spPr>
                <a:xfrm>
                  <a:off x="541080" y="1079640"/>
                  <a:ext cx="4225680" cy="2916000"/>
                </a:xfrm>
                <a:custGeom>
                  <a:avLst/>
                  <a:gdLst/>
                  <a:ahLst/>
                  <a:rect l="l" t="t" r="r" b="b"/>
                  <a:pathLst>
                    <a:path w="2661" h="1837">
                      <a:moveTo>
                        <a:pt x="0" y="22"/>
                      </a:moveTo>
                      <a:cubicBezTo>
                        <a:pt x="135" y="22"/>
                        <a:pt x="270" y="22"/>
                        <a:pt x="390" y="22"/>
                      </a:cubicBezTo>
                      <a:cubicBezTo>
                        <a:pt x="510" y="22"/>
                        <a:pt x="625" y="21"/>
                        <a:pt x="720" y="22"/>
                      </a:cubicBezTo>
                      <a:cubicBezTo>
                        <a:pt x="815" y="23"/>
                        <a:pt x="880" y="23"/>
                        <a:pt x="960" y="28"/>
                      </a:cubicBezTo>
                      <a:cubicBezTo>
                        <a:pt x="1040" y="33"/>
                        <a:pt x="1140" y="28"/>
                        <a:pt x="1200" y="52"/>
                      </a:cubicBezTo>
                      <a:cubicBezTo>
                        <a:pt x="1260" y="76"/>
                        <a:pt x="1252" y="93"/>
                        <a:pt x="1320" y="172"/>
                      </a:cubicBezTo>
                      <a:cubicBezTo>
                        <a:pt x="1388" y="251"/>
                        <a:pt x="1543" y="467"/>
                        <a:pt x="1608" y="526"/>
                      </a:cubicBezTo>
                      <a:cubicBezTo>
                        <a:pt x="1673" y="585"/>
                        <a:pt x="1692" y="552"/>
                        <a:pt x="1710" y="526"/>
                      </a:cubicBezTo>
                      <a:cubicBezTo>
                        <a:pt x="1728" y="500"/>
                        <a:pt x="1715" y="433"/>
                        <a:pt x="1716" y="370"/>
                      </a:cubicBezTo>
                      <a:cubicBezTo>
                        <a:pt x="1717" y="307"/>
                        <a:pt x="1713" y="203"/>
                        <a:pt x="1716" y="148"/>
                      </a:cubicBezTo>
                      <a:cubicBezTo>
                        <a:pt x="1719" y="93"/>
                        <a:pt x="1700" y="62"/>
                        <a:pt x="1734" y="40"/>
                      </a:cubicBezTo>
                      <a:cubicBezTo>
                        <a:pt x="1768" y="18"/>
                        <a:pt x="1814" y="22"/>
                        <a:pt x="1920" y="16"/>
                      </a:cubicBezTo>
                      <a:cubicBezTo>
                        <a:pt x="2026" y="10"/>
                        <a:pt x="2258" y="0"/>
                        <a:pt x="2370" y="4"/>
                      </a:cubicBezTo>
                      <a:cubicBezTo>
                        <a:pt x="2482" y="8"/>
                        <a:pt x="2547" y="11"/>
                        <a:pt x="2592" y="40"/>
                      </a:cubicBezTo>
                      <a:cubicBezTo>
                        <a:pt x="2637" y="69"/>
                        <a:pt x="2631" y="91"/>
                        <a:pt x="2640" y="178"/>
                      </a:cubicBezTo>
                      <a:cubicBezTo>
                        <a:pt x="2649" y="265"/>
                        <a:pt x="2645" y="334"/>
                        <a:pt x="2646" y="562"/>
                      </a:cubicBezTo>
                      <a:cubicBezTo>
                        <a:pt x="2647" y="790"/>
                        <a:pt x="2649" y="1348"/>
                        <a:pt x="2646" y="1546"/>
                      </a:cubicBezTo>
                      <a:cubicBezTo>
                        <a:pt x="2643" y="1744"/>
                        <a:pt x="2653" y="1705"/>
                        <a:pt x="2628" y="1750"/>
                      </a:cubicBezTo>
                      <a:cubicBezTo>
                        <a:pt x="2603" y="1795"/>
                        <a:pt x="2661" y="1804"/>
                        <a:pt x="2496" y="1816"/>
                      </a:cubicBezTo>
                      <a:cubicBezTo>
                        <a:pt x="2331" y="1828"/>
                        <a:pt x="1960" y="1820"/>
                        <a:pt x="1638" y="1822"/>
                      </a:cubicBezTo>
                      <a:cubicBezTo>
                        <a:pt x="1316" y="1824"/>
                        <a:pt x="765" y="1831"/>
                        <a:pt x="564" y="1828"/>
                      </a:cubicBezTo>
                      <a:cubicBezTo>
                        <a:pt x="363" y="1825"/>
                        <a:pt x="460" y="1823"/>
                        <a:pt x="432" y="1804"/>
                      </a:cubicBezTo>
                      <a:cubicBezTo>
                        <a:pt x="404" y="1785"/>
                        <a:pt x="401" y="1837"/>
                        <a:pt x="396" y="1714"/>
                      </a:cubicBezTo>
                      <a:cubicBezTo>
                        <a:pt x="391" y="1591"/>
                        <a:pt x="395" y="1189"/>
                        <a:pt x="402" y="1066"/>
                      </a:cubicBezTo>
                      <a:cubicBezTo>
                        <a:pt x="409" y="943"/>
                        <a:pt x="417" y="1000"/>
                        <a:pt x="438" y="976"/>
                      </a:cubicBezTo>
                      <a:cubicBezTo>
                        <a:pt x="459" y="952"/>
                        <a:pt x="491" y="931"/>
                        <a:pt x="528" y="922"/>
                      </a:cubicBezTo>
                      <a:cubicBezTo>
                        <a:pt x="565" y="913"/>
                        <a:pt x="587" y="861"/>
                        <a:pt x="660" y="922"/>
                      </a:cubicBezTo>
                      <a:cubicBezTo>
                        <a:pt x="733" y="983"/>
                        <a:pt x="903" y="1214"/>
                        <a:pt x="966" y="1288"/>
                      </a:cubicBezTo>
                      <a:cubicBezTo>
                        <a:pt x="1029" y="1362"/>
                        <a:pt x="1024" y="1340"/>
                        <a:pt x="1038" y="1366"/>
                      </a:cubicBezTo>
                      <a:cubicBezTo>
                        <a:pt x="1052" y="1392"/>
                        <a:pt x="1056" y="1418"/>
                        <a:pt x="1050" y="1444"/>
                      </a:cubicBezTo>
                      <a:cubicBezTo>
                        <a:pt x="1044" y="1470"/>
                        <a:pt x="1043" y="1505"/>
                        <a:pt x="1002" y="1522"/>
                      </a:cubicBezTo>
                      <a:cubicBezTo>
                        <a:pt x="961" y="1539"/>
                        <a:pt x="868" y="1543"/>
                        <a:pt x="804" y="1546"/>
                      </a:cubicBezTo>
                      <a:cubicBezTo>
                        <a:pt x="740" y="1549"/>
                        <a:pt x="738" y="1541"/>
                        <a:pt x="618" y="1540"/>
                      </a:cubicBezTo>
                      <a:cubicBezTo>
                        <a:pt x="498" y="1539"/>
                        <a:pt x="177" y="1541"/>
                        <a:pt x="84" y="154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43000" y="2114280"/>
                  <a:ext cx="0" cy="7808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617400" y="1357200"/>
                <a:ext cx="3746160" cy="2722680"/>
                <a:chOff x="617400" y="1357200"/>
                <a:chExt cx="3746160" cy="2722680"/>
              </a:xfrm>
            </p:grpSpPr>
            <p:sp>
              <p:nvSpPr>
                <p:cNvPr id="584" name="未知"/>
                <p:cNvSpPr/>
                <p:nvPr/>
              </p:nvSpPr>
              <p:spPr>
                <a:xfrm>
                  <a:off x="617400" y="1357200"/>
                  <a:ext cx="3746160" cy="2722680"/>
                </a:xfrm>
                <a:custGeom>
                  <a:avLst/>
                  <a:gdLst/>
                  <a:ahLst/>
                  <a:rect l="l" t="t" r="r" b="b"/>
                  <a:pathLst>
                    <a:path w="2359" h="1715">
                      <a:moveTo>
                        <a:pt x="30" y="1437"/>
                      </a:moveTo>
                      <a:cubicBezTo>
                        <a:pt x="350" y="1438"/>
                        <a:pt x="670" y="1439"/>
                        <a:pt x="834" y="1437"/>
                      </a:cubicBezTo>
                      <a:cubicBezTo>
                        <a:pt x="998" y="1435"/>
                        <a:pt x="966" y="1434"/>
                        <a:pt x="1014" y="1425"/>
                      </a:cubicBezTo>
                      <a:cubicBezTo>
                        <a:pt x="1062" y="1416"/>
                        <a:pt x="1084" y="1412"/>
                        <a:pt x="1122" y="1383"/>
                      </a:cubicBezTo>
                      <a:cubicBezTo>
                        <a:pt x="1160" y="1354"/>
                        <a:pt x="1205" y="1289"/>
                        <a:pt x="1242" y="1251"/>
                      </a:cubicBezTo>
                      <a:cubicBezTo>
                        <a:pt x="1279" y="1213"/>
                        <a:pt x="1292" y="1211"/>
                        <a:pt x="1344" y="1155"/>
                      </a:cubicBezTo>
                      <a:cubicBezTo>
                        <a:pt x="1396" y="1099"/>
                        <a:pt x="1497" y="985"/>
                        <a:pt x="1554" y="915"/>
                      </a:cubicBezTo>
                      <a:cubicBezTo>
                        <a:pt x="1611" y="845"/>
                        <a:pt x="1645" y="788"/>
                        <a:pt x="1686" y="735"/>
                      </a:cubicBezTo>
                      <a:cubicBezTo>
                        <a:pt x="1727" y="682"/>
                        <a:pt x="1778" y="645"/>
                        <a:pt x="1800" y="597"/>
                      </a:cubicBezTo>
                      <a:cubicBezTo>
                        <a:pt x="1822" y="549"/>
                        <a:pt x="1815" y="497"/>
                        <a:pt x="1818" y="447"/>
                      </a:cubicBezTo>
                      <a:cubicBezTo>
                        <a:pt x="1821" y="397"/>
                        <a:pt x="1816" y="352"/>
                        <a:pt x="1818" y="297"/>
                      </a:cubicBezTo>
                      <a:cubicBezTo>
                        <a:pt x="1820" y="242"/>
                        <a:pt x="1825" y="158"/>
                        <a:pt x="1830" y="117"/>
                      </a:cubicBezTo>
                      <a:cubicBezTo>
                        <a:pt x="1835" y="76"/>
                        <a:pt x="1837" y="68"/>
                        <a:pt x="1848" y="51"/>
                      </a:cubicBezTo>
                      <a:cubicBezTo>
                        <a:pt x="1859" y="34"/>
                        <a:pt x="1861" y="22"/>
                        <a:pt x="1896" y="15"/>
                      </a:cubicBezTo>
                      <a:cubicBezTo>
                        <a:pt x="1931" y="8"/>
                        <a:pt x="1999" y="11"/>
                        <a:pt x="2058" y="9"/>
                      </a:cubicBezTo>
                      <a:cubicBezTo>
                        <a:pt x="2117" y="7"/>
                        <a:pt x="2207" y="0"/>
                        <a:pt x="2250" y="3"/>
                      </a:cubicBezTo>
                      <a:cubicBezTo>
                        <a:pt x="2293" y="6"/>
                        <a:pt x="2300" y="13"/>
                        <a:pt x="2316" y="27"/>
                      </a:cubicBezTo>
                      <a:cubicBezTo>
                        <a:pt x="2332" y="41"/>
                        <a:pt x="2342" y="62"/>
                        <a:pt x="2346" y="87"/>
                      </a:cubicBezTo>
                      <a:cubicBezTo>
                        <a:pt x="2350" y="112"/>
                        <a:pt x="2343" y="93"/>
                        <a:pt x="2340" y="177"/>
                      </a:cubicBezTo>
                      <a:cubicBezTo>
                        <a:pt x="2337" y="261"/>
                        <a:pt x="2331" y="500"/>
                        <a:pt x="2328" y="591"/>
                      </a:cubicBezTo>
                      <a:cubicBezTo>
                        <a:pt x="2325" y="682"/>
                        <a:pt x="2321" y="666"/>
                        <a:pt x="2322" y="723"/>
                      </a:cubicBezTo>
                      <a:cubicBezTo>
                        <a:pt x="2323" y="780"/>
                        <a:pt x="2331" y="872"/>
                        <a:pt x="2334" y="933"/>
                      </a:cubicBezTo>
                      <a:cubicBezTo>
                        <a:pt x="2337" y="994"/>
                        <a:pt x="2340" y="1053"/>
                        <a:pt x="2340" y="1089"/>
                      </a:cubicBezTo>
                      <a:cubicBezTo>
                        <a:pt x="2340" y="1125"/>
                        <a:pt x="2334" y="1123"/>
                        <a:pt x="2334" y="1149"/>
                      </a:cubicBezTo>
                      <a:cubicBezTo>
                        <a:pt x="2334" y="1175"/>
                        <a:pt x="2339" y="1220"/>
                        <a:pt x="2340" y="1245"/>
                      </a:cubicBezTo>
                      <a:cubicBezTo>
                        <a:pt x="2341" y="1270"/>
                        <a:pt x="2338" y="1243"/>
                        <a:pt x="2340" y="1299"/>
                      </a:cubicBezTo>
                      <a:cubicBezTo>
                        <a:pt x="2342" y="1355"/>
                        <a:pt x="2359" y="1517"/>
                        <a:pt x="2352" y="1581"/>
                      </a:cubicBezTo>
                      <a:cubicBezTo>
                        <a:pt x="2345" y="1645"/>
                        <a:pt x="2344" y="1663"/>
                        <a:pt x="2298" y="1683"/>
                      </a:cubicBezTo>
                      <a:cubicBezTo>
                        <a:pt x="2252" y="1703"/>
                        <a:pt x="2192" y="1696"/>
                        <a:pt x="2076" y="1701"/>
                      </a:cubicBezTo>
                      <a:cubicBezTo>
                        <a:pt x="1960" y="1706"/>
                        <a:pt x="1760" y="1711"/>
                        <a:pt x="1602" y="1713"/>
                      </a:cubicBezTo>
                      <a:cubicBezTo>
                        <a:pt x="1444" y="1715"/>
                        <a:pt x="1283" y="1714"/>
                        <a:pt x="1128" y="1713"/>
                      </a:cubicBezTo>
                      <a:cubicBezTo>
                        <a:pt x="973" y="1712"/>
                        <a:pt x="773" y="1709"/>
                        <a:pt x="672" y="1707"/>
                      </a:cubicBezTo>
                      <a:cubicBezTo>
                        <a:pt x="571" y="1705"/>
                        <a:pt x="550" y="1707"/>
                        <a:pt x="522" y="1701"/>
                      </a:cubicBezTo>
                      <a:cubicBezTo>
                        <a:pt x="494" y="1695"/>
                        <a:pt x="511" y="1689"/>
                        <a:pt x="504" y="1671"/>
                      </a:cubicBezTo>
                      <a:cubicBezTo>
                        <a:pt x="497" y="1653"/>
                        <a:pt x="486" y="1642"/>
                        <a:pt x="480" y="1593"/>
                      </a:cubicBezTo>
                      <a:cubicBezTo>
                        <a:pt x="474" y="1544"/>
                        <a:pt x="470" y="1427"/>
                        <a:pt x="468" y="1377"/>
                      </a:cubicBezTo>
                      <a:cubicBezTo>
                        <a:pt x="466" y="1327"/>
                        <a:pt x="469" y="1356"/>
                        <a:pt x="468" y="1293"/>
                      </a:cubicBezTo>
                      <a:cubicBezTo>
                        <a:pt x="467" y="1230"/>
                        <a:pt x="454" y="1073"/>
                        <a:pt x="462" y="999"/>
                      </a:cubicBezTo>
                      <a:cubicBezTo>
                        <a:pt x="470" y="925"/>
                        <a:pt x="491" y="888"/>
                        <a:pt x="516" y="849"/>
                      </a:cubicBezTo>
                      <a:cubicBezTo>
                        <a:pt x="541" y="810"/>
                        <a:pt x="549" y="817"/>
                        <a:pt x="612" y="765"/>
                      </a:cubicBezTo>
                      <a:cubicBezTo>
                        <a:pt x="675" y="713"/>
                        <a:pt x="817" y="609"/>
                        <a:pt x="894" y="537"/>
                      </a:cubicBezTo>
                      <a:cubicBezTo>
                        <a:pt x="971" y="465"/>
                        <a:pt x="1047" y="399"/>
                        <a:pt x="1074" y="333"/>
                      </a:cubicBezTo>
                      <a:cubicBezTo>
                        <a:pt x="1101" y="267"/>
                        <a:pt x="1059" y="175"/>
                        <a:pt x="1056" y="141"/>
                      </a:cubicBezTo>
                      <a:cubicBezTo>
                        <a:pt x="1053" y="107"/>
                        <a:pt x="1073" y="135"/>
                        <a:pt x="1056" y="129"/>
                      </a:cubicBezTo>
                      <a:cubicBezTo>
                        <a:pt x="1039" y="123"/>
                        <a:pt x="1048" y="109"/>
                        <a:pt x="954" y="105"/>
                      </a:cubicBezTo>
                      <a:cubicBezTo>
                        <a:pt x="860" y="101"/>
                        <a:pt x="626" y="105"/>
                        <a:pt x="492" y="105"/>
                      </a:cubicBezTo>
                      <a:cubicBezTo>
                        <a:pt x="358" y="105"/>
                        <a:pt x="232" y="106"/>
                        <a:pt x="150" y="105"/>
                      </a:cubicBezTo>
                      <a:cubicBezTo>
                        <a:pt x="68" y="104"/>
                        <a:pt x="25" y="100"/>
                        <a:pt x="0" y="99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323600" y="1981080"/>
                  <a:ext cx="0" cy="87624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3825720" y="213192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52280" y="800280"/>
              <a:ext cx="552600" cy="2921040"/>
              <a:chOff x="152280" y="800280"/>
              <a:chExt cx="552600" cy="2921040"/>
            </a:xfrm>
          </p:grpSpPr>
          <p:sp>
            <p:nvSpPr>
              <p:cNvPr id="588" name=""/>
              <p:cNvSpPr/>
              <p:nvPr/>
            </p:nvSpPr>
            <p:spPr>
              <a:xfrm>
                <a:off x="152280" y="80028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09520" y="3200760"/>
                <a:ext cx="49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"/>
          <p:cNvSpPr/>
          <p:nvPr/>
        </p:nvSpPr>
        <p:spPr>
          <a:xfrm>
            <a:off x="5391000" y="3848040"/>
            <a:ext cx="3505320" cy="106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整流输出电压平均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9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75160" y="4852080"/>
            <a:ext cx="3559320" cy="116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负载电流平均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/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0.9 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0" y="6305400"/>
            <a:ext cx="5353200" cy="568080"/>
            <a:chOff x="0" y="6305400"/>
            <a:chExt cx="5353200" cy="568080"/>
          </a:xfrm>
        </p:grpSpPr>
        <p:sp>
          <p:nvSpPr>
            <p:cNvPr id="593" name=""/>
            <p:cNvSpPr/>
            <p:nvPr/>
          </p:nvSpPr>
          <p:spPr>
            <a:xfrm>
              <a:off x="0" y="6305400"/>
              <a:ext cx="5353200" cy="520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二极管最大反向电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476520" y="6383160"/>
              <a:ext cx="1826280" cy="490320"/>
              <a:chOff x="3476520" y="6383160"/>
              <a:chExt cx="1826280" cy="490320"/>
            </a:xfrm>
          </p:grpSpPr>
          <p:sp>
            <p:nvSpPr>
              <p:cNvPr id="595" name=""/>
              <p:cNvSpPr/>
              <p:nvPr/>
            </p:nvSpPr>
            <p:spPr>
              <a:xfrm flipV="1">
                <a:off x="4479840" y="6690600"/>
                <a:ext cx="46080" cy="270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525920" y="6699240"/>
                <a:ext cx="66600" cy="1188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599000" y="6462360"/>
                <a:ext cx="88920" cy="355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87920" y="6462360"/>
                <a:ext cx="2142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65240" y="6605280"/>
                <a:ext cx="46260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R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99840" y="6629400"/>
                <a:ext cx="10296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68200" y="6446520"/>
                <a:ext cx="178920" cy="4269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76520" y="6386400"/>
                <a:ext cx="256680" cy="4269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42080" y="6408720"/>
                <a:ext cx="256680" cy="4269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39360" y="6383160"/>
                <a:ext cx="282600" cy="4269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未知"/>
          <p:cNvSpPr/>
          <p:nvPr/>
        </p:nvSpPr>
        <p:spPr>
          <a:xfrm>
            <a:off x="520560" y="4249800"/>
            <a:ext cx="3908520" cy="582480"/>
          </a:xfrm>
          <a:custGeom>
            <a:avLst/>
            <a:gdLst/>
            <a:ahLst/>
            <a:rect l="l" t="t" r="r" b="b"/>
            <a:pathLst>
              <a:path w="4320" h="960">
                <a:moveTo>
                  <a:pt x="0" y="480"/>
                </a:moveTo>
                <a:cubicBezTo>
                  <a:pt x="144" y="240"/>
                  <a:pt x="288" y="0"/>
                  <a:pt x="432" y="0"/>
                </a:cubicBezTo>
                <a:cubicBezTo>
                  <a:pt x="576" y="0"/>
                  <a:pt x="720" y="320"/>
                  <a:pt x="864" y="480"/>
                </a:cubicBezTo>
                <a:cubicBezTo>
                  <a:pt x="1008" y="640"/>
                  <a:pt x="1152" y="960"/>
                  <a:pt x="1296" y="960"/>
                </a:cubicBezTo>
                <a:cubicBezTo>
                  <a:pt x="1440" y="960"/>
                  <a:pt x="1584" y="640"/>
                  <a:pt x="1728" y="480"/>
                </a:cubicBezTo>
                <a:cubicBezTo>
                  <a:pt x="1872" y="320"/>
                  <a:pt x="2016" y="0"/>
                  <a:pt x="2160" y="0"/>
                </a:cubicBezTo>
                <a:cubicBezTo>
                  <a:pt x="2304" y="0"/>
                  <a:pt x="2448" y="320"/>
                  <a:pt x="2592" y="480"/>
                </a:cubicBezTo>
                <a:cubicBezTo>
                  <a:pt x="2736" y="640"/>
                  <a:pt x="2880" y="960"/>
                  <a:pt x="3024" y="960"/>
                </a:cubicBezTo>
                <a:cubicBezTo>
                  <a:pt x="3168" y="960"/>
                  <a:pt x="3312" y="640"/>
                  <a:pt x="3456" y="480"/>
                </a:cubicBezTo>
                <a:cubicBezTo>
                  <a:pt x="3600" y="320"/>
                  <a:pt x="3744" y="0"/>
                  <a:pt x="3888" y="0"/>
                </a:cubicBezTo>
                <a:cubicBezTo>
                  <a:pt x="4032" y="0"/>
                  <a:pt x="4176" y="240"/>
                  <a:pt x="4320" y="4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14480" y="3602880"/>
            <a:ext cx="4843440" cy="1045440"/>
            <a:chOff x="114480" y="3602880"/>
            <a:chExt cx="4843440" cy="1045440"/>
          </a:xfrm>
        </p:grpSpPr>
        <p:grpSp>
          <p:nvGrpSpPr>
            <p:cNvPr id="607" name=""/>
            <p:cNvGrpSpPr/>
            <p:nvPr/>
          </p:nvGrpSpPr>
          <p:grpSpPr>
            <a:xfrm>
              <a:off x="520920" y="4065480"/>
              <a:ext cx="4091040" cy="493560"/>
              <a:chOff x="520920" y="4065480"/>
              <a:chExt cx="4091040" cy="493560"/>
            </a:xfrm>
          </p:grpSpPr>
          <p:sp>
            <p:nvSpPr>
              <p:cNvPr id="608" name=""/>
              <p:cNvSpPr/>
              <p:nvPr/>
            </p:nvSpPr>
            <p:spPr>
              <a:xfrm flipV="1">
                <a:off x="520920" y="4065480"/>
                <a:ext cx="0" cy="49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0920" y="4540680"/>
                <a:ext cx="40910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14480" y="3602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4635720" y="4442040"/>
                  <a:ext cx="32220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"/>
          <p:cNvGrpSpPr/>
          <p:nvPr/>
        </p:nvGrpSpPr>
        <p:grpSpPr>
          <a:xfrm>
            <a:off x="512640" y="5288040"/>
            <a:ext cx="4406760" cy="869760"/>
            <a:chOff x="512640" y="5288040"/>
            <a:chExt cx="4406760" cy="869760"/>
          </a:xfrm>
        </p:grpSpPr>
        <p:grpSp>
          <p:nvGrpSpPr>
            <p:cNvPr id="613" name=""/>
            <p:cNvGrpSpPr/>
            <p:nvPr/>
          </p:nvGrpSpPr>
          <p:grpSpPr>
            <a:xfrm>
              <a:off x="512640" y="5288040"/>
              <a:ext cx="4091040" cy="869760"/>
              <a:chOff x="512640" y="5288040"/>
              <a:chExt cx="4091040" cy="869760"/>
            </a:xfrm>
          </p:grpSpPr>
          <p:sp>
            <p:nvSpPr>
              <p:cNvPr id="614" name=""/>
              <p:cNvSpPr/>
              <p:nvPr/>
            </p:nvSpPr>
            <p:spPr>
              <a:xfrm flipV="1">
                <a:off x="512640" y="5288040"/>
                <a:ext cx="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2640" y="5821200"/>
                <a:ext cx="409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597200" y="5743440"/>
                  <a:ext cx="322200" cy="20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"/>
          <p:cNvGrpSpPr/>
          <p:nvPr/>
        </p:nvGrpSpPr>
        <p:grpSpPr>
          <a:xfrm>
            <a:off x="462600" y="5289840"/>
            <a:ext cx="3961440" cy="825120"/>
            <a:chOff x="462600" y="5289840"/>
            <a:chExt cx="3961440" cy="825120"/>
          </a:xfrm>
        </p:grpSpPr>
        <p:grpSp>
          <p:nvGrpSpPr>
            <p:cNvPr id="618" name=""/>
            <p:cNvGrpSpPr/>
            <p:nvPr/>
          </p:nvGrpSpPr>
          <p:grpSpPr>
            <a:xfrm>
              <a:off x="517680" y="5824440"/>
              <a:ext cx="3906360" cy="290520"/>
              <a:chOff x="517680" y="5824440"/>
              <a:chExt cx="3906360" cy="290520"/>
            </a:xfrm>
          </p:grpSpPr>
          <p:sp>
            <p:nvSpPr>
              <p:cNvPr id="619" name="未知"/>
              <p:cNvSpPr/>
              <p:nvPr/>
            </p:nvSpPr>
            <p:spPr>
              <a:xfrm>
                <a:off x="517680" y="582444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>
                <a:off x="2080080" y="582444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>
                <a:off x="3642840" y="582444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462600" y="5289840"/>
              <a:ext cx="89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000" spc="-1" strike="noStrike" baseline="-25000">
                  <a:solidFill>
                    <a:srgbClr val="ff33cc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000" spc="-1" strike="noStrike" baseline="-25000">
                  <a:solidFill>
                    <a:srgbClr val="ff33cc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,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000" spc="-1" strike="noStrike" baseline="-25000">
                  <a:solidFill>
                    <a:srgbClr val="ff33cc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000" spc="-1" strike="noStrike" baseline="-25000">
                  <a:solidFill>
                    <a:srgbClr val="ff33cc"/>
                  </a:solidFill>
                  <a:latin typeface="Times New Roman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261080" y="5347080"/>
            <a:ext cx="2388240" cy="774360"/>
            <a:chOff x="1261080" y="5347080"/>
            <a:chExt cx="2388240" cy="774360"/>
          </a:xfrm>
        </p:grpSpPr>
        <p:grpSp>
          <p:nvGrpSpPr>
            <p:cNvPr id="624" name=""/>
            <p:cNvGrpSpPr/>
            <p:nvPr/>
          </p:nvGrpSpPr>
          <p:grpSpPr>
            <a:xfrm>
              <a:off x="1303200" y="5830920"/>
              <a:ext cx="2346120" cy="290520"/>
              <a:chOff x="1303200" y="5830920"/>
              <a:chExt cx="2346120" cy="290520"/>
            </a:xfrm>
          </p:grpSpPr>
          <p:sp>
            <p:nvSpPr>
              <p:cNvPr id="625" name="未知"/>
              <p:cNvSpPr/>
              <p:nvPr/>
            </p:nvSpPr>
            <p:spPr>
              <a:xfrm>
                <a:off x="1303200" y="5830920"/>
                <a:ext cx="78156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3b81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>
                <a:off x="2866320" y="5830920"/>
                <a:ext cx="7830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3b81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261080" y="5347080"/>
              <a:ext cx="89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b812f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000" spc="-1" strike="noStrike" baseline="-25000">
                  <a:solidFill>
                    <a:srgbClr val="3b812f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000" spc="-1" strike="noStrike" baseline="-25000">
                  <a:solidFill>
                    <a:srgbClr val="3b812f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3b812f"/>
                  </a:solidFill>
                  <a:latin typeface="Times New Roman"/>
                  <a:ea typeface="楷体_GB2312"/>
                </a:rPr>
                <a:t>,</a:t>
              </a:r>
              <a:r>
                <a:rPr b="1" i="1" lang="en-US" sz="2000" spc="-1" strike="noStrike">
                  <a:solidFill>
                    <a:srgbClr val="3b812f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000" spc="-1" strike="noStrike" baseline="-25000">
                  <a:solidFill>
                    <a:srgbClr val="3b812f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000" spc="-1" strike="noStrike" baseline="-25000">
                  <a:solidFill>
                    <a:srgbClr val="3b812f"/>
                  </a:solidFill>
                  <a:latin typeface="Times New Roman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0560" y="4873320"/>
            <a:ext cx="3908520" cy="290520"/>
            <a:chOff x="520560" y="4873320"/>
            <a:chExt cx="3908520" cy="290520"/>
          </a:xfrm>
        </p:grpSpPr>
        <p:sp>
          <p:nvSpPr>
            <p:cNvPr id="629" name="未知"/>
            <p:cNvSpPr/>
            <p:nvPr/>
          </p:nvSpPr>
          <p:spPr>
            <a:xfrm flipV="1">
              <a:off x="520560" y="487296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 flipV="1">
              <a:off x="2084400" y="487296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 flipV="1">
              <a:off x="3647880" y="487296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301760" y="4873320"/>
            <a:ext cx="2346480" cy="290520"/>
            <a:chOff x="1301760" y="4873320"/>
            <a:chExt cx="2346480" cy="290520"/>
          </a:xfrm>
        </p:grpSpPr>
        <p:sp>
          <p:nvSpPr>
            <p:cNvPr id="633" name="未知"/>
            <p:cNvSpPr/>
            <p:nvPr/>
          </p:nvSpPr>
          <p:spPr>
            <a:xfrm flipV="1">
              <a:off x="1301760" y="4872960"/>
              <a:ext cx="7826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 flipV="1">
              <a:off x="2865600" y="4872960"/>
              <a:ext cx="7826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680" y="4386240"/>
            <a:ext cx="4871160" cy="971640"/>
            <a:chOff x="67680" y="4386240"/>
            <a:chExt cx="4871160" cy="971640"/>
          </a:xfrm>
        </p:grpSpPr>
        <p:grpSp>
          <p:nvGrpSpPr>
            <p:cNvPr id="636" name=""/>
            <p:cNvGrpSpPr/>
            <p:nvPr/>
          </p:nvGrpSpPr>
          <p:grpSpPr>
            <a:xfrm>
              <a:off x="520920" y="4745160"/>
              <a:ext cx="4417920" cy="612720"/>
              <a:chOff x="520920" y="4745160"/>
              <a:chExt cx="4417920" cy="6127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520920" y="4745160"/>
                <a:ext cx="4091040" cy="612720"/>
                <a:chOff x="520920" y="4745160"/>
                <a:chExt cx="4091040" cy="612720"/>
              </a:xfrm>
            </p:grpSpPr>
            <p:sp>
              <p:nvSpPr>
                <p:cNvPr id="638" name=""/>
                <p:cNvSpPr/>
                <p:nvPr/>
              </p:nvSpPr>
              <p:spPr>
                <a:xfrm flipV="1">
                  <a:off x="520920" y="4745160"/>
                  <a:ext cx="0" cy="61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20920" y="5181840"/>
                  <a:ext cx="409104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40" name=""/>
                  <p:cNvSpPr txBox="1"/>
                  <p:nvPr/>
                </p:nvSpPr>
                <p:spPr>
                  <a:xfrm>
                    <a:off x="4616640" y="5058000"/>
                    <a:ext cx="322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41" name=""/>
            <p:cNvSpPr/>
            <p:nvPr/>
          </p:nvSpPr>
          <p:spPr>
            <a:xfrm>
              <a:off x="67680" y="43862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1301760" y="4540320"/>
            <a:ext cx="3127320" cy="1542960"/>
            <a:chOff x="1301760" y="4540320"/>
            <a:chExt cx="3127320" cy="1542960"/>
          </a:xfrm>
        </p:grpSpPr>
        <p:sp>
          <p:nvSpPr>
            <p:cNvPr id="643" name=""/>
            <p:cNvSpPr/>
            <p:nvPr/>
          </p:nvSpPr>
          <p:spPr>
            <a:xfrm>
              <a:off x="1301760" y="454032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85840" y="457848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51200" y="457848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51120" y="457848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9080" y="454032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稳压二极管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稳压二极管是由硅材料制成的面结合型晶体二极管，它是利用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结反向击穿时的电压基本上不随电流的变化而变化的特点，来达到稳压的目的，因为它能在电路中起稳压作用，故称为稳压二极管（简称稳压管）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0128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二极管检测方法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二极管的极性通常在管壳上注有标记，如无标记，可用万用表电阻档测量其正反向电阻来判断（一般用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×100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×1K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档）具体方法如表一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2266920"/>
            <a:ext cx="82296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0840" y="421920"/>
            <a:ext cx="6019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晶闸管及其工作原理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4" name=""/>
          <p:cNvSpPr/>
          <p:nvPr/>
        </p:nvSpPr>
        <p:spPr>
          <a:xfrm>
            <a:off x="2995560" y="558972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1.1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晶闸管的外型及符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9640" y="184464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晶闸管的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240440" cy="2781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0" y="91440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363760" y="11430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硅晶体闸流管的简称，俗称可控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12840" y="421920"/>
            <a:ext cx="46483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Garamond"/>
              </a:rPr>
              <a:t>、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晶闸管的工作原理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0" name=""/>
          <p:cNvSpPr/>
          <p:nvPr/>
        </p:nvSpPr>
        <p:spPr>
          <a:xfrm>
            <a:off x="2767680" y="525780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1.3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晶闸管的内部结构和等效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95280" y="580536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导通：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施加正向电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加正向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闸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单向导电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通条件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阳极正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门极加正向触发电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111640" cy="29559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0" y="83808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Verdana"/>
                <a:ea typeface="黑体"/>
              </a:rPr>
              <a:t>晶闸管的工作原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0920" y="476280"/>
            <a:ext cx="8713800" cy="25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幼圆"/>
              </a:rPr>
              <a:t>晶闸管开通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正向阳极电压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J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J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正偏置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J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反偏。要使晶闸管导通，须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J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失去阻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一个三极管集电极同另一三极管基极相接，当有足够门极电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I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幼圆"/>
              </a:rPr>
              <a:t>流入，形成强烈正反馈，两个晶体管饱和导通，即晶闸管导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35640" y="3357720"/>
            <a:ext cx="3384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楷体_GB2312"/>
                <a:ea typeface="幼圆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流入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g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时（即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g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增大，表示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），有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b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α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c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= 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b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α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c1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I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楷体_GB2312"/>
                <a:ea typeface="幼圆"/>
              </a:rPr>
              <a:t>b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幼圆"/>
              </a:rPr>
              <a:t>的正反馈过程发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250920" y="3352680"/>
                <a:ext cx="529272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Verdana"/>
                <a:ea typeface="黑体"/>
              </a:rPr>
              <a:t>晶闸管的开通和关断条件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9280" y="692280"/>
            <a:ext cx="896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晶闸管加正向阳极电压，门极断开或接反向电压，灯泡不亮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晶闸管加反向阳极电压，不论门极电源开关闭合与否，灯泡均不亮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晶闸管加正向阳极电压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门极接正向电压，灯泡亮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晶闸管导通后，门极开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Ｓ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打开或接反向电压（门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失去作用），灯泡仍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C2-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77520" cy="541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2952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62320" y="838080"/>
            <a:ext cx="5518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宋体"/>
              </a:rPr>
              <a:t>桥式半控整流电路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Verdana"/>
                <a:ea typeface="黑体"/>
              </a:rPr>
              <a:t>晶闸管的开通和关断条件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4000" y="692280"/>
            <a:ext cx="8820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晶闸管承受正向阳极电压，仅在门极承受正向电压时导通，即从关断转变为导通必须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同时具备正向阳极电压和正向门极电压</a:t>
            </a:r>
            <a:r>
              <a:rPr b="0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两个条件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晶闸管承受反向阳极电压，不论门极承受何种电压，晶闸管都处于关断状态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晶闸管导通后，只要仍有一定正向阳极电压，不论门极电压如何，晶闸管仍保持导通，即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晶闸管导通后，门极失去控制作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幼圆"/>
                <a:ea typeface="幼圆"/>
              </a:rPr>
              <a:t>晶闸管导通情况下，主回路电压（或电流）减小到接近于零时，晶闸管关断。能保持导通的最小电流称为维持电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76500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rcRect l="0" t="0" r="24774" b="0"/>
          <a:stretch/>
        </p:blipFill>
        <p:spPr>
          <a:xfrm>
            <a:off x="685800" y="0"/>
            <a:ext cx="77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600200" y="154080"/>
            <a:ext cx="58928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9501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单结晶体管结构及工作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5c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053720" y="1726200"/>
            <a:ext cx="5118480" cy="3558240"/>
            <a:chOff x="1053720" y="1726200"/>
            <a:chExt cx="5118480" cy="3558240"/>
          </a:xfrm>
        </p:grpSpPr>
        <p:sp>
          <p:nvSpPr>
            <p:cNvPr id="679" name=""/>
            <p:cNvSpPr/>
            <p:nvPr/>
          </p:nvSpPr>
          <p:spPr>
            <a:xfrm>
              <a:off x="3405600" y="172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053720" y="2284920"/>
              <a:ext cx="5118480" cy="2999520"/>
              <a:chOff x="1053720" y="2284920"/>
              <a:chExt cx="5118480" cy="2999520"/>
            </a:xfrm>
          </p:grpSpPr>
          <p:sp>
            <p:nvSpPr>
              <p:cNvPr id="681" name=""/>
              <p:cNvSpPr/>
              <p:nvPr/>
            </p:nvSpPr>
            <p:spPr>
              <a:xfrm>
                <a:off x="4134960" y="22849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第二基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513600" y="47743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97120" y="2286000"/>
                <a:ext cx="152640" cy="55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597120" y="4302000"/>
                <a:ext cx="152640" cy="55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200400" y="3809160"/>
                <a:ext cx="52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24080" y="2514600"/>
                <a:ext cx="457200" cy="2019240"/>
              </a:xfrm>
              <a:prstGeom prst="rect">
                <a:avLst/>
              </a:prstGeom>
              <a:solidFill>
                <a:srgbClr val="99ff33"/>
              </a:solidFill>
              <a:ln w="19080">
                <a:solidFill>
                  <a:srgbClr val="00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3811680" y="2666520"/>
                <a:ext cx="925200" cy="10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3809880" y="3697200"/>
                <a:ext cx="876240" cy="77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4280" y="32767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欧姆接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接触电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 flipV="1" rot="430800">
                <a:off x="3138480" y="3013200"/>
                <a:ext cx="138240" cy="339480"/>
              </a:xfrm>
              <a:custGeom>
                <a:avLst/>
                <a:gdLst/>
                <a:ahLst/>
                <a:rect l="l" t="t" r="r" b="b"/>
                <a:pathLst>
                  <a:path w="298" h="552">
                    <a:moveTo>
                      <a:pt x="60" y="0"/>
                    </a:moveTo>
                    <a:cubicBezTo>
                      <a:pt x="179" y="110"/>
                      <a:pt x="298" y="220"/>
                      <a:pt x="288" y="312"/>
                    </a:cubicBezTo>
                    <a:cubicBezTo>
                      <a:pt x="278" y="404"/>
                      <a:pt x="46" y="512"/>
                      <a:pt x="0" y="552"/>
                    </a:cubicBezTo>
                  </a:path>
                </a:pathLst>
              </a:custGeom>
              <a:solidFill>
                <a:srgbClr val="cc0000"/>
              </a:solidFill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170080" y="3027240"/>
                <a:ext cx="971640" cy="304920"/>
              </a:xfrm>
              <a:prstGeom prst="rect">
                <a:avLst/>
              </a:prstGeom>
              <a:solidFill>
                <a:srgbClr val="ffff66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151080" y="3017880"/>
                <a:ext cx="0" cy="3333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77160" y="289476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81280" y="2514600"/>
                <a:ext cx="76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81280" y="4302000"/>
                <a:ext cx="7632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53720" y="2930400"/>
                <a:ext cx="10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发射极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48080" y="4419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宋体"/>
                  </a:rPr>
                  <a:t>第一基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1665360" y="3733920"/>
            <a:ext cx="1058760" cy="533160"/>
          </a:xfrm>
          <a:prstGeom prst="wedgeEllipseCallout">
            <a:avLst>
              <a:gd name="adj1" fmla="val 91379"/>
              <a:gd name="adj2" fmla="val -127083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73280" y="4648320"/>
            <a:ext cx="1363680" cy="609480"/>
          </a:xfrm>
          <a:prstGeom prst="wedgeEllipseCallout">
            <a:avLst>
              <a:gd name="adj1" fmla="val 77939"/>
              <a:gd name="adj2" fmla="val -123699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型硅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85000" y="51814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94720" y="5667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结晶体管结构示意图及其表示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021720" y="1827720"/>
            <a:ext cx="1978920" cy="3038760"/>
            <a:chOff x="6021720" y="1827720"/>
            <a:chExt cx="1978920" cy="3038760"/>
          </a:xfrm>
        </p:grpSpPr>
        <p:sp>
          <p:nvSpPr>
            <p:cNvPr id="703" name=""/>
            <p:cNvSpPr/>
            <p:nvPr/>
          </p:nvSpPr>
          <p:spPr>
            <a:xfrm>
              <a:off x="6171840" y="44067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符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021720" y="1827720"/>
              <a:ext cx="1978920" cy="2428200"/>
              <a:chOff x="6021720" y="1827720"/>
              <a:chExt cx="1978920" cy="2428200"/>
            </a:xfrm>
          </p:grpSpPr>
          <p:sp>
            <p:nvSpPr>
              <p:cNvPr id="705" name=""/>
              <p:cNvSpPr/>
              <p:nvPr/>
            </p:nvSpPr>
            <p:spPr>
              <a:xfrm>
                <a:off x="7419240" y="182772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B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41960" y="2687760"/>
                <a:ext cx="0" cy="76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034040" y="2862000"/>
                <a:ext cx="3312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41960" y="3295800"/>
                <a:ext cx="318600" cy="2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60920" y="2160720"/>
                <a:ext cx="0" cy="70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60920" y="3316320"/>
                <a:ext cx="0" cy="70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1720" y="2894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89080" y="3796200"/>
                <a:ext cx="51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B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7319880" y="2057400"/>
                <a:ext cx="82080" cy="7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319880" y="4025160"/>
                <a:ext cx="82080" cy="79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6130800" y="3047760"/>
                <a:ext cx="915120" cy="338400"/>
                <a:chOff x="6130800" y="3047760"/>
                <a:chExt cx="915120" cy="3384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222600" y="3346560"/>
                  <a:ext cx="55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130800" y="3306960"/>
                  <a:ext cx="82080" cy="792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6746400" y="3047760"/>
                  <a:ext cx="299520" cy="299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判断单结晶体管发射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方法是：把万用表置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*1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挡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*1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挡，黑表笔接假设的发射极，红表笔接另外两极，当出现两次低电阻时，黑表笔接的就是单结晶体管的发射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单结晶体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判断方法是：把万用表置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*1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挡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*1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挡，用黑表笔接发射极，红表笔分别接另外两极，两次测量中，电阻大的一次，红表笔接的就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328680"/>
            <a:ext cx="27799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5c00"/>
                </a:solidFill>
                <a:latin typeface="Garamond"/>
              </a:rPr>
              <a:t>2. </a:t>
            </a:r>
            <a:r>
              <a:rPr b="1" lang="zh-CN" sz="3300" spc="-1" strike="noStrike">
                <a:solidFill>
                  <a:srgbClr val="005c00"/>
                </a:solidFill>
                <a:latin typeface="Garamond"/>
              </a:rPr>
              <a:t>工作原理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"/>
          <p:cNvSpPr/>
          <p:nvPr/>
        </p:nvSpPr>
        <p:spPr>
          <a:xfrm>
            <a:off x="4876920" y="1143000"/>
            <a:ext cx="3657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105520" y="900000"/>
            <a:ext cx="3657240" cy="1549080"/>
            <a:chOff x="5105520" y="900000"/>
            <a:chExt cx="3657240" cy="15490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5105520" y="900000"/>
              <a:ext cx="2981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"/>
            <a:stretch/>
          </p:blipFill>
          <p:spPr>
            <a:xfrm>
              <a:off x="5697720" y="1482480"/>
              <a:ext cx="3065040" cy="9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"/>
          <p:cNvSpPr/>
          <p:nvPr/>
        </p:nvSpPr>
        <p:spPr>
          <a:xfrm>
            <a:off x="4851360" y="2941560"/>
            <a:ext cx="38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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E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BB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90280" y="3443760"/>
            <a:ext cx="267840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反偏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968720" y="4614480"/>
            <a:ext cx="387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正向导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迅速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798080" y="3890880"/>
            <a:ext cx="2127600" cy="630360"/>
            <a:chOff x="4798080" y="3890880"/>
            <a:chExt cx="2127600" cy="630360"/>
          </a:xfrm>
        </p:grpSpPr>
        <p:sp>
          <p:nvSpPr>
            <p:cNvPr id="730" name=""/>
            <p:cNvSpPr/>
            <p:nvPr/>
          </p:nvSpPr>
          <p:spPr>
            <a:xfrm>
              <a:off x="5195160" y="3890880"/>
              <a:ext cx="17305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E </a:t>
              </a:r>
              <a:r>
                <a:rPr b="1" lang="en-US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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r>
                <a:rPr b="1" i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99"/>
                  </a:solidFill>
                  <a:latin typeface="Times New Roman"/>
                  <a:ea typeface="楷体_GB2312"/>
                </a:rPr>
                <a:t>P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98080" y="3915360"/>
              <a:ext cx="4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5044320" y="2514240"/>
            <a:ext cx="30668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–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分压比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5~ 0.9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997160" y="5241960"/>
            <a:ext cx="4038480" cy="1115280"/>
            <a:chOff x="4997160" y="5241960"/>
            <a:chExt cx="4038480" cy="1115280"/>
          </a:xfrm>
        </p:grpSpPr>
        <p:sp>
          <p:nvSpPr>
            <p:cNvPr id="734" name=""/>
            <p:cNvSpPr/>
            <p:nvPr/>
          </p:nvSpPr>
          <p:spPr>
            <a:xfrm>
              <a:off x="5254560" y="5241960"/>
              <a:ext cx="1860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–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峰点电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97160" y="5565960"/>
              <a:ext cx="4038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PN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结正向导通压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7902720" y="4861080"/>
            <a:ext cx="247680" cy="952200"/>
          </a:xfrm>
          <a:custGeom>
            <a:avLst/>
            <a:gdLst>
              <a:gd name="textAreaLeft" fmla="*/ 158400 w 247680"/>
              <a:gd name="textAreaRight" fmla="*/ 248040 w 247680"/>
              <a:gd name="textAreaTop" fmla="*/ 24840 h 952200"/>
              <a:gd name="textAreaBottom" fmla="*/ 927360 h 95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541600" y="3906720"/>
            <a:ext cx="1127160" cy="1496880"/>
            <a:chOff x="2541600" y="3906720"/>
            <a:chExt cx="1127160" cy="1496880"/>
          </a:xfrm>
        </p:grpSpPr>
        <p:sp>
          <p:nvSpPr>
            <p:cNvPr id="738" name=""/>
            <p:cNvSpPr/>
            <p:nvPr/>
          </p:nvSpPr>
          <p:spPr>
            <a:xfrm>
              <a:off x="2554200" y="5371920"/>
              <a:ext cx="1079640" cy="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41600" y="3927240"/>
              <a:ext cx="1127160" cy="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56160" y="3946320"/>
              <a:ext cx="0" cy="145728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41600" y="3906720"/>
              <a:ext cx="0" cy="145728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14360" y="533520"/>
            <a:ext cx="4314960" cy="2341080"/>
            <a:chOff x="414360" y="533520"/>
            <a:chExt cx="4314960" cy="2341080"/>
          </a:xfrm>
        </p:grpSpPr>
        <p:sp>
          <p:nvSpPr>
            <p:cNvPr id="743" name=""/>
            <p:cNvSpPr/>
            <p:nvPr/>
          </p:nvSpPr>
          <p:spPr>
            <a:xfrm>
              <a:off x="2325960" y="1726560"/>
              <a:ext cx="37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97800" y="812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3360" y="2184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40280" y="559080"/>
              <a:ext cx="0" cy="119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14720" y="533520"/>
              <a:ext cx="130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52240" y="157428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16160" y="1739160"/>
              <a:ext cx="101520" cy="307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70160" y="2046960"/>
              <a:ext cx="0" cy="81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70160" y="968400"/>
              <a:ext cx="0" cy="78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1640" y="98424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1360" y="1963080"/>
              <a:ext cx="0" cy="90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6680" y="976320"/>
              <a:ext cx="0" cy="90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520" y="1866240"/>
              <a:ext cx="31896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06600" y="1958400"/>
              <a:ext cx="20304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347840" y="2815200"/>
              <a:ext cx="66960" cy="58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52880" y="13100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81240" y="204696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079800" y="2815200"/>
              <a:ext cx="66960" cy="58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46760" y="2058120"/>
              <a:ext cx="0" cy="76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86600" y="1828080"/>
              <a:ext cx="0" cy="104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88040" y="549360"/>
              <a:ext cx="0" cy="97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54320" y="1654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54320" y="2306160"/>
              <a:ext cx="3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6520" y="1067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76160" y="167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 rot="5400000">
              <a:off x="2131920" y="1573920"/>
              <a:ext cx="103320" cy="307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1520" y="1726560"/>
              <a:ext cx="22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11520" y="171216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442880" y="189936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6680" y="2856960"/>
              <a:ext cx="367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79160" y="138492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4360" y="1457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14720" y="1762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49600" y="1718640"/>
              <a:ext cx="30492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7520" y="1676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27520" y="1753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27520" y="2058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11640" y="129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55560" y="1753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99120" y="1837440"/>
              <a:ext cx="217440" cy="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283280" y="1630800"/>
              <a:ext cx="217440" cy="9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83200" y="1524600"/>
              <a:ext cx="417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86440" y="1753560"/>
              <a:ext cx="417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698920" y="914400"/>
            <a:ext cx="1218600" cy="1904400"/>
            <a:chOff x="2698920" y="914400"/>
            <a:chExt cx="1218600" cy="1904400"/>
          </a:xfrm>
        </p:grpSpPr>
        <p:sp>
          <p:nvSpPr>
            <p:cNvPr id="787" name=""/>
            <p:cNvSpPr/>
            <p:nvPr/>
          </p:nvSpPr>
          <p:spPr>
            <a:xfrm>
              <a:off x="2712240" y="2778840"/>
              <a:ext cx="1167480" cy="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98920" y="940320"/>
              <a:ext cx="1218600" cy="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04200" y="964440"/>
              <a:ext cx="0" cy="185436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98920" y="914400"/>
              <a:ext cx="0" cy="1854360"/>
            </a:xfrm>
            <a:prstGeom prst="line">
              <a:avLst/>
            </a:prstGeom>
            <a:ln w="28440">
              <a:solidFill>
                <a:srgbClr val="3b812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 rot="5400000">
            <a:off x="2012400" y="3047760"/>
            <a:ext cx="457200" cy="304920"/>
          </a:xfrm>
          <a:custGeom>
            <a:avLst/>
            <a:gdLst>
              <a:gd name="textAreaLeft" fmla="*/ 568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109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88880" y="3200400"/>
            <a:ext cx="2285280" cy="1143000"/>
            <a:chOff x="488880" y="3200400"/>
            <a:chExt cx="2285280" cy="1143000"/>
          </a:xfrm>
        </p:grpSpPr>
        <p:sp>
          <p:nvSpPr>
            <p:cNvPr id="793" name=""/>
            <p:cNvSpPr/>
            <p:nvPr/>
          </p:nvSpPr>
          <p:spPr>
            <a:xfrm>
              <a:off x="661320" y="320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等效电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88880" y="3657600"/>
              <a:ext cx="2285280" cy="685800"/>
              <a:chOff x="488880" y="3657600"/>
              <a:chExt cx="2285280" cy="685800"/>
            </a:xfrm>
          </p:grpSpPr>
          <p:sp>
            <p:nvSpPr>
              <p:cNvPr id="795" name=""/>
              <p:cNvSpPr/>
              <p:nvPr/>
            </p:nvSpPr>
            <p:spPr>
              <a:xfrm>
                <a:off x="488880" y="365760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83800" y="3657600"/>
                <a:ext cx="99036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414360" y="2895480"/>
            <a:ext cx="4314960" cy="3301920"/>
            <a:chOff x="414360" y="2895480"/>
            <a:chExt cx="4314960" cy="3301920"/>
          </a:xfrm>
        </p:grpSpPr>
        <p:grpSp>
          <p:nvGrpSpPr>
            <p:cNvPr id="798" name=""/>
            <p:cNvGrpSpPr/>
            <p:nvPr/>
          </p:nvGrpSpPr>
          <p:grpSpPr>
            <a:xfrm>
              <a:off x="414360" y="2895480"/>
              <a:ext cx="4314960" cy="3301920"/>
              <a:chOff x="414360" y="2895480"/>
              <a:chExt cx="4314960" cy="3301920"/>
            </a:xfrm>
          </p:grpSpPr>
          <p:sp>
            <p:nvSpPr>
              <p:cNvPr id="799" name=""/>
              <p:cNvSpPr/>
              <p:nvPr/>
            </p:nvSpPr>
            <p:spPr>
              <a:xfrm>
                <a:off x="3076920" y="289548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414360" y="3452760"/>
                <a:ext cx="4314960" cy="2744640"/>
                <a:chOff x="414360" y="3452760"/>
                <a:chExt cx="4314960" cy="27446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2325960" y="4629240"/>
                  <a:ext cx="736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990880" y="4051080"/>
                  <a:ext cx="103320" cy="3081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990880" y="4892760"/>
                  <a:ext cx="103320" cy="3063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043440" y="4359240"/>
                  <a:ext cx="0" cy="53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2664000" y="4432320"/>
                  <a:ext cx="222120" cy="369360"/>
                  <a:chOff x="2664000" y="4432320"/>
                  <a:chExt cx="222120" cy="3693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2679480" y="4432320"/>
                    <a:ext cx="0" cy="35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664000" y="4432320"/>
                    <a:ext cx="222120" cy="198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2679480" y="4616280"/>
                    <a:ext cx="190440" cy="171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877120" y="4439160"/>
                    <a:ext cx="0" cy="362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0" name=""/>
                <p:cNvSpPr/>
                <p:nvPr/>
              </p:nvSpPr>
              <p:spPr>
                <a:xfrm>
                  <a:off x="3043440" y="3790800"/>
                  <a:ext cx="0" cy="25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3005280" y="4589280"/>
                  <a:ext cx="65160" cy="61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120840" y="4890240"/>
                  <a:ext cx="58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B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120840" y="3873240"/>
                  <a:ext cx="58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B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002040" y="5678280"/>
                  <a:ext cx="1843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061440" y="436176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b812f"/>
                      </a:solidFill>
                      <a:latin typeface="Times New Roman"/>
                      <a:ea typeface="楷体_GB2312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035520" y="3462120"/>
                  <a:ext cx="0" cy="33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043440" y="551808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43440" y="3452760"/>
                  <a:ext cx="134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709440" y="3883680"/>
                  <a:ext cx="63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B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316160" y="4641840"/>
                  <a:ext cx="101520" cy="307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370160" y="4949640"/>
                  <a:ext cx="0" cy="80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370160" y="3871800"/>
                  <a:ext cx="0" cy="784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701640" y="3887640"/>
                  <a:ext cx="69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11360" y="4865760"/>
                  <a:ext cx="0" cy="90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06680" y="3879720"/>
                  <a:ext cx="0" cy="90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60520" y="4768920"/>
                  <a:ext cx="3189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06600" y="4860720"/>
                  <a:ext cx="203040" cy="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1347840" y="5717520"/>
                  <a:ext cx="66960" cy="58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252880" y="4213080"/>
                  <a:ext cx="40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181240" y="4949640"/>
                  <a:ext cx="517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i="1" lang="en-US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3011760" y="5717520"/>
                  <a:ext cx="66600" cy="58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043440" y="5210280"/>
                  <a:ext cx="0" cy="33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3008520" y="5481720"/>
                  <a:ext cx="66600" cy="61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386600" y="4746600"/>
                  <a:ext cx="0" cy="1030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375440" y="3452760"/>
                  <a:ext cx="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254320" y="45576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254320" y="5208480"/>
                  <a:ext cx="36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flipV="1" rot="5400000">
                  <a:off x="2131920" y="4476960"/>
                  <a:ext cx="103320" cy="307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811520" y="4629240"/>
                  <a:ext cx="220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811520" y="4614840"/>
                  <a:ext cx="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442880" y="4802040"/>
                  <a:ext cx="36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06680" y="5759280"/>
                  <a:ext cx="3679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379160" y="4287960"/>
                  <a:ext cx="491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14360" y="43606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14720" y="466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143600" y="4425840"/>
                  <a:ext cx="417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146840" y="4654440"/>
                  <a:ext cx="417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259520" y="45352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262760" y="478476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376520" y="390996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376160" y="4519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"/>
            <p:cNvSpPr/>
            <p:nvPr/>
          </p:nvSpPr>
          <p:spPr>
            <a:xfrm>
              <a:off x="3014280" y="342900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14280" y="533376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307880" y="5811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单结晶体管的实验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161680" y="380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图可求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395280" y="24840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00"/>
                </a:solidFill>
                <a:latin typeface="Times New Roman"/>
              </a:rPr>
              <a:t>3 .</a:t>
            </a:r>
            <a:r>
              <a:rPr b="1" lang="zh-CN" sz="2800" spc="-1" strike="noStrike">
                <a:solidFill>
                  <a:srgbClr val="005c00"/>
                </a:solidFill>
                <a:latin typeface="宋体"/>
              </a:rPr>
              <a:t>单结晶体管的伏安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016520" y="5076720"/>
            <a:ext cx="5127480" cy="1477080"/>
            <a:chOff x="4016520" y="5076720"/>
            <a:chExt cx="5127480" cy="1477080"/>
          </a:xfrm>
        </p:grpSpPr>
        <p:sp>
          <p:nvSpPr>
            <p:cNvPr id="858" name=""/>
            <p:cNvSpPr/>
            <p:nvPr/>
          </p:nvSpPr>
          <p:spPr>
            <a:xfrm>
              <a:off x="5584680" y="5076720"/>
              <a:ext cx="1879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、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谷点电压、电流</a:t>
              </a: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16520" y="5606640"/>
              <a:ext cx="512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维持单结管导通的最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压、电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966600" y="4799880"/>
            <a:ext cx="3039840" cy="1778400"/>
            <a:chOff x="966600" y="4799880"/>
            <a:chExt cx="3039840" cy="1778400"/>
          </a:xfrm>
        </p:grpSpPr>
        <p:sp>
          <p:nvSpPr>
            <p:cNvPr id="861" name=""/>
            <p:cNvSpPr/>
            <p:nvPr/>
          </p:nvSpPr>
          <p:spPr>
            <a:xfrm>
              <a:off x="1875960" y="4799880"/>
              <a:ext cx="27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b812f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66600" y="5145480"/>
              <a:ext cx="30398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峰点电压</a:t>
              </a: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)</a:t>
              </a:r>
              <a:r>
                <a:rPr b="1" lang="zh-CN" sz="2800" spc="-1" strike="noStrike" baseline="-25000">
                  <a:solidFill>
                    <a:srgbClr val="ff3300"/>
                  </a:solidFill>
                  <a:latin typeface="宋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结管由截止变导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需发射极电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434040" y="3932280"/>
            <a:ext cx="4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13800" y="3978360"/>
            <a:ext cx="4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047760" y="4013280"/>
            <a:ext cx="2038680" cy="519120"/>
            <a:chOff x="3047760" y="4013280"/>
            <a:chExt cx="2038680" cy="519120"/>
          </a:xfrm>
        </p:grpSpPr>
        <p:sp>
          <p:nvSpPr>
            <p:cNvPr id="866" name=""/>
            <p:cNvSpPr/>
            <p:nvPr/>
          </p:nvSpPr>
          <p:spPr>
            <a:xfrm>
              <a:off x="5086440" y="4040280"/>
              <a:ext cx="0" cy="49212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47760" y="4013280"/>
              <a:ext cx="201132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2430360" y="655560"/>
            <a:ext cx="4948200" cy="4239000"/>
            <a:chOff x="2430360" y="655560"/>
            <a:chExt cx="4948200" cy="4239000"/>
          </a:xfrm>
        </p:grpSpPr>
        <p:sp>
          <p:nvSpPr>
            <p:cNvPr id="869" name=""/>
            <p:cNvSpPr/>
            <p:nvPr/>
          </p:nvSpPr>
          <p:spPr>
            <a:xfrm>
              <a:off x="2890080" y="4313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58000" y="42069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4480" y="946080"/>
              <a:ext cx="6120" cy="359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4530600"/>
              <a:ext cx="4408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30360" y="655560"/>
              <a:ext cx="69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404360" y="1068480"/>
            <a:ext cx="1629720" cy="579600"/>
            <a:chOff x="1404360" y="1068480"/>
            <a:chExt cx="1629720" cy="579600"/>
          </a:xfrm>
        </p:grpSpPr>
        <p:sp>
          <p:nvSpPr>
            <p:cNvPr id="875" name=""/>
            <p:cNvSpPr/>
            <p:nvPr/>
          </p:nvSpPr>
          <p:spPr>
            <a:xfrm>
              <a:off x="2472480" y="1068480"/>
              <a:ext cx="5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04360" y="1127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峰点电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059280" y="1341360"/>
            <a:ext cx="446040" cy="3193920"/>
            <a:chOff x="3059280" y="1341360"/>
            <a:chExt cx="446040" cy="3193920"/>
          </a:xfrm>
        </p:grpSpPr>
        <p:sp>
          <p:nvSpPr>
            <p:cNvPr id="878" name=""/>
            <p:cNvSpPr/>
            <p:nvPr/>
          </p:nvSpPr>
          <p:spPr>
            <a:xfrm>
              <a:off x="3059280" y="1341360"/>
              <a:ext cx="446040" cy="0"/>
            </a:xfrm>
            <a:prstGeom prst="line">
              <a:avLst/>
            </a:prstGeom>
            <a:ln w="28440">
              <a:solidFill>
                <a:srgbClr val="3b812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29000" y="1366200"/>
              <a:ext cx="0" cy="3169080"/>
            </a:xfrm>
            <a:prstGeom prst="line">
              <a:avLst/>
            </a:prstGeom>
            <a:ln w="28440">
              <a:solidFill>
                <a:srgbClr val="3b812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543480" y="1541520"/>
            <a:ext cx="2323440" cy="2447640"/>
            <a:chOff x="3543480" y="1541520"/>
            <a:chExt cx="2323440" cy="2447640"/>
          </a:xfrm>
        </p:grpSpPr>
        <p:sp>
          <p:nvSpPr>
            <p:cNvPr id="881" name="未知"/>
            <p:cNvSpPr/>
            <p:nvPr/>
          </p:nvSpPr>
          <p:spPr>
            <a:xfrm>
              <a:off x="3562200" y="1620360"/>
              <a:ext cx="2304720" cy="2368800"/>
            </a:xfrm>
            <a:custGeom>
              <a:avLst/>
              <a:gdLst/>
              <a:ahLst/>
              <a:rect l="l" t="t" r="r" b="b"/>
              <a:pathLst>
                <a:path w="1452" h="1440">
                  <a:moveTo>
                    <a:pt x="0" y="0"/>
                  </a:moveTo>
                  <a:cubicBezTo>
                    <a:pt x="55" y="36"/>
                    <a:pt x="42" y="47"/>
                    <a:pt x="60" y="108"/>
                  </a:cubicBezTo>
                  <a:cubicBezTo>
                    <a:pt x="87" y="203"/>
                    <a:pt x="113" y="302"/>
                    <a:pt x="144" y="396"/>
                  </a:cubicBezTo>
                  <a:cubicBezTo>
                    <a:pt x="161" y="447"/>
                    <a:pt x="179" y="500"/>
                    <a:pt x="192" y="552"/>
                  </a:cubicBezTo>
                  <a:cubicBezTo>
                    <a:pt x="205" y="604"/>
                    <a:pt x="210" y="674"/>
                    <a:pt x="240" y="720"/>
                  </a:cubicBezTo>
                  <a:cubicBezTo>
                    <a:pt x="258" y="748"/>
                    <a:pt x="274" y="807"/>
                    <a:pt x="288" y="828"/>
                  </a:cubicBezTo>
                  <a:cubicBezTo>
                    <a:pt x="311" y="862"/>
                    <a:pt x="330" y="900"/>
                    <a:pt x="348" y="936"/>
                  </a:cubicBezTo>
                  <a:cubicBezTo>
                    <a:pt x="385" y="1010"/>
                    <a:pt x="421" y="1093"/>
                    <a:pt x="492" y="1140"/>
                  </a:cubicBezTo>
                  <a:cubicBezTo>
                    <a:pt x="517" y="1216"/>
                    <a:pt x="583" y="1265"/>
                    <a:pt x="648" y="1308"/>
                  </a:cubicBezTo>
                  <a:cubicBezTo>
                    <a:pt x="678" y="1353"/>
                    <a:pt x="698" y="1357"/>
                    <a:pt x="744" y="1380"/>
                  </a:cubicBezTo>
                  <a:cubicBezTo>
                    <a:pt x="819" y="1418"/>
                    <a:pt x="843" y="1426"/>
                    <a:pt x="924" y="1440"/>
                  </a:cubicBezTo>
                  <a:cubicBezTo>
                    <a:pt x="974" y="1436"/>
                    <a:pt x="1080" y="1431"/>
                    <a:pt x="1140" y="1416"/>
                  </a:cubicBezTo>
                  <a:cubicBezTo>
                    <a:pt x="1255" y="1387"/>
                    <a:pt x="1349" y="1336"/>
                    <a:pt x="1452" y="12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3543480" y="1541520"/>
              <a:ext cx="56880" cy="1972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0" y="0"/>
                  </a:moveTo>
                  <a:cubicBezTo>
                    <a:pt x="11" y="32"/>
                    <a:pt x="36" y="82"/>
                    <a:pt x="36" y="12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277640" y="3675240"/>
            <a:ext cx="1635480" cy="579600"/>
            <a:chOff x="1277640" y="3675240"/>
            <a:chExt cx="1635480" cy="579600"/>
          </a:xfrm>
        </p:grpSpPr>
        <p:sp>
          <p:nvSpPr>
            <p:cNvPr id="884" name=""/>
            <p:cNvSpPr/>
            <p:nvPr/>
          </p:nvSpPr>
          <p:spPr>
            <a:xfrm>
              <a:off x="2328480" y="3675240"/>
              <a:ext cx="58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77640" y="3703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谷点电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895480" y="1341360"/>
            <a:ext cx="723960" cy="3200040"/>
            <a:chOff x="2895480" y="1341360"/>
            <a:chExt cx="723960" cy="3200040"/>
          </a:xfrm>
        </p:grpSpPr>
        <p:grpSp>
          <p:nvGrpSpPr>
            <p:cNvPr id="887" name=""/>
            <p:cNvGrpSpPr/>
            <p:nvPr/>
          </p:nvGrpSpPr>
          <p:grpSpPr>
            <a:xfrm>
              <a:off x="2895480" y="1341360"/>
              <a:ext cx="723960" cy="3200040"/>
              <a:chOff x="2895480" y="1341360"/>
              <a:chExt cx="723960" cy="320004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2895480" y="1341360"/>
                <a:ext cx="723960" cy="3200040"/>
                <a:chOff x="2895480" y="1341360"/>
                <a:chExt cx="723960" cy="3200040"/>
              </a:xfrm>
            </p:grpSpPr>
            <p:sp>
              <p:nvSpPr>
                <p:cNvPr id="889" name="未知"/>
                <p:cNvSpPr/>
                <p:nvPr/>
              </p:nvSpPr>
              <p:spPr>
                <a:xfrm>
                  <a:off x="3200400" y="1341360"/>
                  <a:ext cx="419040" cy="358920"/>
                </a:xfrm>
                <a:custGeom>
                  <a:avLst/>
                  <a:gdLst/>
                  <a:ahLst/>
                  <a:rect l="l" t="t" r="r" b="b"/>
                  <a:pathLst>
                    <a:path w="264" h="218">
                      <a:moveTo>
                        <a:pt x="0" y="218"/>
                      </a:moveTo>
                      <a:cubicBezTo>
                        <a:pt x="22" y="131"/>
                        <a:pt x="16" y="55"/>
                        <a:pt x="96" y="2"/>
                      </a:cubicBezTo>
                      <a:cubicBezTo>
                        <a:pt x="120" y="6"/>
                        <a:pt x="148" y="0"/>
                        <a:pt x="168" y="14"/>
                      </a:cubicBezTo>
                      <a:cubicBezTo>
                        <a:pt x="202" y="38"/>
                        <a:pt x="264" y="160"/>
                        <a:pt x="264" y="20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2895480" y="1699920"/>
                  <a:ext cx="304920" cy="284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1" name="未知"/>
              <p:cNvSpPr/>
              <p:nvPr/>
            </p:nvSpPr>
            <p:spPr>
              <a:xfrm>
                <a:off x="3514680" y="1493640"/>
                <a:ext cx="75960" cy="285840"/>
              </a:xfrm>
              <a:custGeom>
                <a:avLst/>
                <a:gdLst/>
                <a:ahLst/>
                <a:rect l="l" t="t" r="r" b="b"/>
                <a:pathLst>
                  <a:path w="48" h="180">
                    <a:moveTo>
                      <a:pt x="0" y="0"/>
                    </a:moveTo>
                    <a:cubicBezTo>
                      <a:pt x="15" y="45"/>
                      <a:pt x="48" y="134"/>
                      <a:pt x="48" y="180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未知"/>
            <p:cNvSpPr/>
            <p:nvPr/>
          </p:nvSpPr>
          <p:spPr>
            <a:xfrm>
              <a:off x="3511440" y="1474560"/>
              <a:ext cx="95400" cy="266760"/>
            </a:xfrm>
            <a:custGeom>
              <a:avLst/>
              <a:gdLst/>
              <a:ahLst/>
              <a:rect l="l" t="t" r="r" b="b"/>
              <a:pathLst>
                <a:path w="60" h="168">
                  <a:moveTo>
                    <a:pt x="0" y="0"/>
                  </a:moveTo>
                  <a:cubicBezTo>
                    <a:pt x="19" y="56"/>
                    <a:pt x="34" y="115"/>
                    <a:pt x="60" y="16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921560" y="3511440"/>
            <a:ext cx="416880" cy="520560"/>
            <a:chOff x="4921560" y="3511440"/>
            <a:chExt cx="416880" cy="520560"/>
          </a:xfrm>
        </p:grpSpPr>
        <p:sp>
          <p:nvSpPr>
            <p:cNvPr id="894" name=""/>
            <p:cNvSpPr/>
            <p:nvPr/>
          </p:nvSpPr>
          <p:spPr>
            <a:xfrm>
              <a:off x="4921560" y="3511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062320" y="393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未知"/>
          <p:cNvSpPr/>
          <p:nvPr/>
        </p:nvSpPr>
        <p:spPr>
          <a:xfrm>
            <a:off x="3467160" y="1332000"/>
            <a:ext cx="1657440" cy="2666880"/>
          </a:xfrm>
          <a:custGeom>
            <a:avLst/>
            <a:gdLst/>
            <a:ahLst/>
            <a:rect l="l" t="t" r="r" b="b"/>
            <a:pathLst>
              <a:path w="1044" h="1680">
                <a:moveTo>
                  <a:pt x="0" y="0"/>
                </a:moveTo>
                <a:cubicBezTo>
                  <a:pt x="63" y="42"/>
                  <a:pt x="73" y="98"/>
                  <a:pt x="96" y="168"/>
                </a:cubicBezTo>
                <a:cubicBezTo>
                  <a:pt x="131" y="272"/>
                  <a:pt x="147" y="373"/>
                  <a:pt x="168" y="480"/>
                </a:cubicBezTo>
                <a:cubicBezTo>
                  <a:pt x="190" y="590"/>
                  <a:pt x="229" y="698"/>
                  <a:pt x="264" y="804"/>
                </a:cubicBezTo>
                <a:cubicBezTo>
                  <a:pt x="285" y="867"/>
                  <a:pt x="303" y="932"/>
                  <a:pt x="324" y="996"/>
                </a:cubicBezTo>
                <a:cubicBezTo>
                  <a:pt x="329" y="1010"/>
                  <a:pt x="342" y="1019"/>
                  <a:pt x="348" y="1032"/>
                </a:cubicBezTo>
                <a:cubicBezTo>
                  <a:pt x="358" y="1055"/>
                  <a:pt x="358" y="1083"/>
                  <a:pt x="372" y="1104"/>
                </a:cubicBezTo>
                <a:cubicBezTo>
                  <a:pt x="412" y="1164"/>
                  <a:pt x="452" y="1224"/>
                  <a:pt x="492" y="1284"/>
                </a:cubicBezTo>
                <a:cubicBezTo>
                  <a:pt x="545" y="1363"/>
                  <a:pt x="592" y="1471"/>
                  <a:pt x="672" y="1524"/>
                </a:cubicBezTo>
                <a:cubicBezTo>
                  <a:pt x="707" y="1576"/>
                  <a:pt x="750" y="1581"/>
                  <a:pt x="804" y="1608"/>
                </a:cubicBezTo>
                <a:cubicBezTo>
                  <a:pt x="879" y="1646"/>
                  <a:pt x="958" y="1680"/>
                  <a:pt x="1044" y="1680"/>
                </a:cubicBezTo>
              </a:path>
            </a:pathLst>
          </a:custGeom>
          <a:noFill/>
          <a:ln w="38160">
            <a:solidFill>
              <a:srgbClr val="005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920760" y="4541760"/>
            <a:ext cx="1184760" cy="459720"/>
            <a:chOff x="3920760" y="4541760"/>
            <a:chExt cx="1184760" cy="459720"/>
          </a:xfrm>
        </p:grpSpPr>
        <p:sp>
          <p:nvSpPr>
            <p:cNvPr id="898" name=""/>
            <p:cNvSpPr/>
            <p:nvPr/>
          </p:nvSpPr>
          <p:spPr>
            <a:xfrm>
              <a:off x="508788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3920760" y="4541760"/>
              <a:ext cx="1184760" cy="459720"/>
              <a:chOff x="3920760" y="4541760"/>
              <a:chExt cx="1184760" cy="459720"/>
            </a:xfrm>
          </p:grpSpPr>
          <p:sp>
            <p:nvSpPr>
              <p:cNvPr id="900" name=""/>
              <p:cNvSpPr/>
              <p:nvPr/>
            </p:nvSpPr>
            <p:spPr>
              <a:xfrm>
                <a:off x="464832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920760" y="45417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宋体"/>
                  </a:rPr>
                  <a:t>负阻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2438280" y="4541760"/>
            <a:ext cx="1447920" cy="688320"/>
            <a:chOff x="2438280" y="4541760"/>
            <a:chExt cx="1447920" cy="688320"/>
          </a:xfrm>
        </p:grpSpPr>
        <p:sp>
          <p:nvSpPr>
            <p:cNvPr id="903" name=""/>
            <p:cNvSpPr/>
            <p:nvPr/>
          </p:nvSpPr>
          <p:spPr>
            <a:xfrm>
              <a:off x="289548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29000" y="45417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438280" y="4770360"/>
              <a:ext cx="1447920" cy="459720"/>
              <a:chOff x="2438280" y="4770360"/>
              <a:chExt cx="1447920" cy="459720"/>
            </a:xfrm>
          </p:grpSpPr>
          <p:sp>
            <p:nvSpPr>
              <p:cNvPr id="906" name=""/>
              <p:cNvSpPr/>
              <p:nvPr/>
            </p:nvSpPr>
            <p:spPr>
              <a:xfrm>
                <a:off x="243828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429000" y="4770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777400" y="4770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5c00"/>
                    </a:solidFill>
                    <a:latin typeface="Times New Roman"/>
                  </a:rPr>
                  <a:t>截止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5105520" y="4541760"/>
            <a:ext cx="1297080" cy="459720"/>
            <a:chOff x="5105520" y="4541760"/>
            <a:chExt cx="1297080" cy="459720"/>
          </a:xfrm>
        </p:grpSpPr>
        <p:sp>
          <p:nvSpPr>
            <p:cNvPr id="910" name=""/>
            <p:cNvSpPr/>
            <p:nvPr/>
          </p:nvSpPr>
          <p:spPr>
            <a:xfrm flipH="1">
              <a:off x="5105520" y="47703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73240" y="4541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5c00"/>
                  </a:solidFill>
                  <a:latin typeface="宋体"/>
                </a:rPr>
                <a:t>饱和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5486400" y="1219320"/>
            <a:ext cx="3276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负阻区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空穴注入基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下降，出现负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378240" y="1036800"/>
            <a:ext cx="602280" cy="520560"/>
            <a:chOff x="3378240" y="1036800"/>
            <a:chExt cx="602280" cy="520560"/>
          </a:xfrm>
        </p:grpSpPr>
        <p:sp>
          <p:nvSpPr>
            <p:cNvPr id="914" name=""/>
            <p:cNvSpPr/>
            <p:nvPr/>
          </p:nvSpPr>
          <p:spPr>
            <a:xfrm>
              <a:off x="3583440" y="1036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378240" y="1306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270440" y="807840"/>
            <a:ext cx="335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单结管截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04960" y="1230480"/>
            <a:ext cx="29131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单结管导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恢复截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186560" y="380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结晶体管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248520" y="608400"/>
            <a:ext cx="1979640" cy="2428200"/>
            <a:chOff x="6248520" y="608400"/>
            <a:chExt cx="1979640" cy="2428200"/>
          </a:xfrm>
        </p:grpSpPr>
        <p:sp>
          <p:nvSpPr>
            <p:cNvPr id="920" name=""/>
            <p:cNvSpPr/>
            <p:nvPr/>
          </p:nvSpPr>
          <p:spPr>
            <a:xfrm>
              <a:off x="7646760" y="60840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69120" y="1468440"/>
              <a:ext cx="0" cy="76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261200" y="1642680"/>
              <a:ext cx="3315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69120" y="2076480"/>
              <a:ext cx="318960" cy="2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88080" y="9414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88080" y="20970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48520" y="167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16600" y="257688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547040" y="838080"/>
              <a:ext cx="82440" cy="79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547040" y="2805840"/>
              <a:ext cx="82440" cy="79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357960" y="1828440"/>
              <a:ext cx="915840" cy="338400"/>
              <a:chOff x="6357960" y="1828440"/>
              <a:chExt cx="915840" cy="338400"/>
            </a:xfrm>
          </p:grpSpPr>
          <p:sp>
            <p:nvSpPr>
              <p:cNvPr id="931" name=""/>
              <p:cNvSpPr/>
              <p:nvPr/>
            </p:nvSpPr>
            <p:spPr>
              <a:xfrm>
                <a:off x="6450120" y="2127240"/>
                <a:ext cx="55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357960" y="2087640"/>
                <a:ext cx="82440" cy="7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973920" y="1828440"/>
                <a:ext cx="299880" cy="29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4" name=""/>
          <p:cNvSpPr/>
          <p:nvPr/>
        </p:nvSpPr>
        <p:spPr>
          <a:xfrm>
            <a:off x="762120" y="2362320"/>
            <a:ext cx="838188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结晶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的峰点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加固定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分压比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加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B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压比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，则峰点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2120" y="4276800"/>
            <a:ext cx="79246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单结晶体管的谷点电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谷点电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一样。谷点电压大约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~ 5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。常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稍大一些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稍小的单结晶体管，以增大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脉冲幅度和移相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334400" y="350640"/>
            <a:ext cx="273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BB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P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106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Garamond"/>
              </a:rPr>
              <a:t>单结晶体管触发电路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533160" y="1260000"/>
            <a:ext cx="23619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1.  </a:t>
            </a:r>
            <a:r>
              <a:rPr b="1" lang="zh-CN" sz="2400" spc="-1" strike="noStrike">
                <a:solidFill>
                  <a:srgbClr val="005c00"/>
                </a:solidFill>
                <a:latin typeface="Arial"/>
              </a:rPr>
              <a:t>振荡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476280" y="914400"/>
            <a:ext cx="5810400" cy="162000"/>
            <a:chOff x="476280" y="914400"/>
            <a:chExt cx="5810400" cy="162000"/>
          </a:xfrm>
        </p:grpSpPr>
        <p:pic>
          <p:nvPicPr>
            <p:cNvPr id="940" name="" descr=""/>
            <p:cNvPicPr/>
            <p:nvPr/>
          </p:nvPicPr>
          <p:blipFill>
            <a:blip r:embed="rId1"/>
            <a:stretch/>
          </p:blipFill>
          <p:spPr>
            <a:xfrm>
              <a:off x="476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" descr=""/>
            <p:cNvPicPr/>
            <p:nvPr/>
          </p:nvPicPr>
          <p:blipFill>
            <a:blip r:embed="rId2"/>
            <a:stretch/>
          </p:blipFill>
          <p:spPr>
            <a:xfrm>
              <a:off x="638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3"/>
            <a:stretch/>
          </p:blipFill>
          <p:spPr>
            <a:xfrm>
              <a:off x="933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4"/>
            <a:stretch/>
          </p:blipFill>
          <p:spPr>
            <a:xfrm>
              <a:off x="1095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"/>
            <a:stretch/>
          </p:blipFill>
          <p:spPr>
            <a:xfrm>
              <a:off x="1247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"/>
            <a:stretch/>
          </p:blipFill>
          <p:spPr>
            <a:xfrm>
              <a:off x="1390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7"/>
            <a:stretch/>
          </p:blipFill>
          <p:spPr>
            <a:xfrm>
              <a:off x="790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8"/>
            <a:stretch/>
          </p:blipFill>
          <p:spPr>
            <a:xfrm>
              <a:off x="1552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9"/>
            <a:stretch/>
          </p:blipFill>
          <p:spPr>
            <a:xfrm>
              <a:off x="17049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10"/>
            <a:stretch/>
          </p:blipFill>
          <p:spPr>
            <a:xfrm>
              <a:off x="1847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11"/>
            <a:stretch/>
          </p:blipFill>
          <p:spPr>
            <a:xfrm>
              <a:off x="2009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12"/>
            <a:stretch/>
          </p:blipFill>
          <p:spPr>
            <a:xfrm>
              <a:off x="21621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13"/>
            <a:stretch/>
          </p:blipFill>
          <p:spPr>
            <a:xfrm>
              <a:off x="2305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14"/>
            <a:stretch/>
          </p:blipFill>
          <p:spPr>
            <a:xfrm>
              <a:off x="2467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15"/>
            <a:stretch/>
          </p:blipFill>
          <p:spPr>
            <a:xfrm>
              <a:off x="2762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16"/>
            <a:stretch/>
          </p:blipFill>
          <p:spPr>
            <a:xfrm>
              <a:off x="2924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17"/>
            <a:stretch/>
          </p:blipFill>
          <p:spPr>
            <a:xfrm>
              <a:off x="3076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18"/>
            <a:stretch/>
          </p:blipFill>
          <p:spPr>
            <a:xfrm>
              <a:off x="3219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19"/>
            <a:stretch/>
          </p:blipFill>
          <p:spPr>
            <a:xfrm>
              <a:off x="3381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0"/>
            <a:stretch/>
          </p:blipFill>
          <p:spPr>
            <a:xfrm>
              <a:off x="3676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1"/>
            <a:stretch/>
          </p:blipFill>
          <p:spPr>
            <a:xfrm>
              <a:off x="3838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22"/>
            <a:stretch/>
          </p:blipFill>
          <p:spPr>
            <a:xfrm>
              <a:off x="39909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23"/>
            <a:stretch/>
          </p:blipFill>
          <p:spPr>
            <a:xfrm>
              <a:off x="4133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4"/>
            <a:stretch/>
          </p:blipFill>
          <p:spPr>
            <a:xfrm>
              <a:off x="26193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25"/>
            <a:stretch/>
          </p:blipFill>
          <p:spPr>
            <a:xfrm>
              <a:off x="3533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6"/>
            <a:stretch/>
          </p:blipFill>
          <p:spPr>
            <a:xfrm>
              <a:off x="42958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27"/>
            <a:stretch/>
          </p:blipFill>
          <p:spPr>
            <a:xfrm>
              <a:off x="44481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8"/>
            <a:stretch/>
          </p:blipFill>
          <p:spPr>
            <a:xfrm>
              <a:off x="4591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9"/>
            <a:stretch/>
          </p:blipFill>
          <p:spPr>
            <a:xfrm>
              <a:off x="47530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30"/>
            <a:stretch/>
          </p:blipFill>
          <p:spPr>
            <a:xfrm>
              <a:off x="49053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31"/>
            <a:stretch/>
          </p:blipFill>
          <p:spPr>
            <a:xfrm>
              <a:off x="5048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32"/>
            <a:stretch/>
          </p:blipFill>
          <p:spPr>
            <a:xfrm>
              <a:off x="52102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33"/>
            <a:stretch/>
          </p:blipFill>
          <p:spPr>
            <a:xfrm>
              <a:off x="5505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34"/>
            <a:stretch/>
          </p:blipFill>
          <p:spPr>
            <a:xfrm>
              <a:off x="56674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35"/>
            <a:stretch/>
          </p:blipFill>
          <p:spPr>
            <a:xfrm>
              <a:off x="58197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36"/>
            <a:stretch/>
          </p:blipFill>
          <p:spPr>
            <a:xfrm>
              <a:off x="5962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37"/>
            <a:stretch/>
          </p:blipFill>
          <p:spPr>
            <a:xfrm>
              <a:off x="612468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8"/>
            <a:stretch/>
          </p:blipFill>
          <p:spPr>
            <a:xfrm>
              <a:off x="5362560" y="914400"/>
              <a:ext cx="1620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8" name=""/>
          <p:cNvSpPr/>
          <p:nvPr/>
        </p:nvSpPr>
        <p:spPr>
          <a:xfrm>
            <a:off x="1671480" y="5334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结晶体管弛张振荡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683240" y="1600200"/>
            <a:ext cx="25304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结晶体管弛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振荡电路利用单结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负阻特性及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充放电特性组成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可调的振荡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28600" y="1981080"/>
            <a:ext cx="4021200" cy="3200400"/>
            <a:chOff x="228600" y="1981080"/>
            <a:chExt cx="4021200" cy="3200400"/>
          </a:xfrm>
        </p:grpSpPr>
        <p:sp>
          <p:nvSpPr>
            <p:cNvPr id="981" name=""/>
            <p:cNvSpPr/>
            <p:nvPr/>
          </p:nvSpPr>
          <p:spPr>
            <a:xfrm>
              <a:off x="2758680" y="4119120"/>
              <a:ext cx="47340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44280" y="211356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8040" y="400428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06520" y="2004840"/>
              <a:ext cx="0" cy="6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1320840" y="2638440"/>
              <a:ext cx="165240" cy="941040"/>
              <a:chOff x="1320840" y="2638440"/>
              <a:chExt cx="165240" cy="941040"/>
            </a:xfrm>
          </p:grpSpPr>
          <p:sp>
            <p:nvSpPr>
              <p:cNvPr id="986" name=""/>
              <p:cNvSpPr/>
              <p:nvPr/>
            </p:nvSpPr>
            <p:spPr>
              <a:xfrm>
                <a:off x="1320840" y="2638440"/>
                <a:ext cx="165240" cy="43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13000" y="3071160"/>
                <a:ext cx="0" cy="50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1474920" y="2274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89960" y="3305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93720" y="40028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519280" y="318600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44720" y="3578040"/>
              <a:ext cx="218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712960" y="3595680"/>
              <a:ext cx="0" cy="63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2712960" y="286164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838520" y="3072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97160" y="1996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08280" y="46702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35440" y="2852640"/>
              <a:ext cx="4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1392120" y="3573360"/>
              <a:ext cx="62568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24160" y="358920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252440" y="43066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52440" y="4452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24160" y="4452840"/>
              <a:ext cx="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16200" y="4077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95360" y="365256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95360" y="430668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82880" y="3579840"/>
              <a:ext cx="4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62280" y="379872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90720" y="443844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33760" y="2420640"/>
              <a:ext cx="164880" cy="43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05040" y="1981080"/>
              <a:ext cx="0" cy="4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33760" y="4233600"/>
              <a:ext cx="164880" cy="43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63600" y="3361680"/>
              <a:ext cx="363600" cy="21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36760" y="517032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40120" y="45867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35440" y="1981080"/>
              <a:ext cx="0" cy="13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35440" y="3798720"/>
              <a:ext cx="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616200" y="3362040"/>
              <a:ext cx="436680" cy="398520"/>
              <a:chOff x="3616200" y="3362040"/>
              <a:chExt cx="436680" cy="398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3616200" y="336204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616200" y="361188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688920" y="3484440"/>
                <a:ext cx="29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688920" y="3760560"/>
                <a:ext cx="29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1396080" y="270828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76680" y="2489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8600" y="44406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 47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11360" y="329724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14600" y="36018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4818240" y="1752480"/>
            <a:ext cx="4020480" cy="3200400"/>
            <a:chOff x="4818240" y="1752480"/>
            <a:chExt cx="4020480" cy="3200400"/>
          </a:xfrm>
        </p:grpSpPr>
        <p:sp>
          <p:nvSpPr>
            <p:cNvPr id="1029" name=""/>
            <p:cNvSpPr/>
            <p:nvPr/>
          </p:nvSpPr>
          <p:spPr>
            <a:xfrm>
              <a:off x="7347960" y="3890520"/>
              <a:ext cx="47340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33560" y="188496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26960" y="3775680"/>
              <a:ext cx="54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95800" y="1776240"/>
              <a:ext cx="0" cy="6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5910120" y="2409840"/>
              <a:ext cx="164880" cy="941040"/>
              <a:chOff x="5910120" y="2409840"/>
              <a:chExt cx="164880" cy="9410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910120" y="2409840"/>
                <a:ext cx="164880" cy="432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002280" y="2842560"/>
                <a:ext cx="0" cy="50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064200" y="2045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779240" y="307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80480" y="3759120"/>
              <a:ext cx="523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7108560" y="295740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34000" y="3349440"/>
              <a:ext cx="21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302240" y="3367080"/>
              <a:ext cx="0" cy="63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302240" y="2633040"/>
              <a:ext cx="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27800" y="2844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86440" y="1768320"/>
              <a:ext cx="243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97560" y="44416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424720" y="2624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5981040" y="3344760"/>
              <a:ext cx="6253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3440" y="3360600"/>
              <a:ext cx="0" cy="71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41720" y="407808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41720" y="422424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13440" y="4224240"/>
              <a:ext cx="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05480" y="3848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84640" y="34239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84640" y="407808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72160" y="3351240"/>
              <a:ext cx="4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1560" y="35701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80000" y="420984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3040" y="2192040"/>
              <a:ext cx="164520" cy="43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94320" y="1752480"/>
              <a:ext cx="0" cy="4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23040" y="4005000"/>
              <a:ext cx="164520" cy="43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752880" y="3133080"/>
              <a:ext cx="363240" cy="21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26040" y="4941720"/>
              <a:ext cx="239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29040" y="43581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24720" y="1752480"/>
              <a:ext cx="0" cy="13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24720" y="3570120"/>
              <a:ext cx="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8205480" y="3133440"/>
              <a:ext cx="436320" cy="398520"/>
              <a:chOff x="8205480" y="3133440"/>
              <a:chExt cx="436320" cy="398520"/>
            </a:xfrm>
          </p:grpSpPr>
          <p:sp>
            <p:nvSpPr>
              <p:cNvPr id="1067" name=""/>
              <p:cNvSpPr/>
              <p:nvPr/>
            </p:nvSpPr>
            <p:spPr>
              <a:xfrm>
                <a:off x="8205480" y="313344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205480" y="338328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278200" y="3255840"/>
                <a:ext cx="29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278200" y="3531960"/>
                <a:ext cx="29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5985000" y="247968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k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65600" y="22604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18240" y="421200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 47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00640" y="3068640"/>
              <a:ext cx="22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03880" y="3373200"/>
              <a:ext cx="22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5c00"/>
                </a:solidFill>
                <a:latin typeface="Garamond"/>
              </a:rPr>
              <a:t>2.</a:t>
            </a:r>
            <a:r>
              <a:rPr b="1" lang="en-US" sz="3300" spc="-1" strike="noStrike">
                <a:solidFill>
                  <a:srgbClr val="005c00"/>
                </a:solidFill>
                <a:latin typeface="宋体"/>
              </a:rPr>
              <a:t> </a:t>
            </a:r>
            <a:r>
              <a:rPr b="1" lang="zh-CN" sz="3300" spc="-1" strike="noStrike">
                <a:solidFill>
                  <a:srgbClr val="005c00"/>
                </a:solidFill>
                <a:latin typeface="宋体"/>
              </a:rPr>
              <a:t>振荡过程分析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"/>
          <p:cNvSpPr/>
          <p:nvPr/>
        </p:nvSpPr>
        <p:spPr>
          <a:xfrm>
            <a:off x="1317240" y="762120"/>
            <a:ext cx="209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通电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7200" y="1187280"/>
            <a:ext cx="4952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通电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电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电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容电压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逐渐升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440" y="2372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921680"/>
            <a:ext cx="5361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i="1" lang="zh-CN" sz="28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单结管导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容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放电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i="1" lang="zh-CN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zh-CN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上得到一脉冲电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未知"/>
          <p:cNvSpPr/>
          <p:nvPr/>
        </p:nvSpPr>
        <p:spPr>
          <a:xfrm rot="21468000">
            <a:off x="1962000" y="3265200"/>
            <a:ext cx="928800" cy="588960"/>
          </a:xfrm>
          <a:custGeom>
            <a:avLst/>
            <a:gdLst/>
            <a:ahLst/>
            <a:rect l="l" t="t" r="r" b="b"/>
            <a:pathLst>
              <a:path w="276" h="72">
                <a:moveTo>
                  <a:pt x="0" y="72"/>
                </a:moveTo>
                <a:cubicBezTo>
                  <a:pt x="31" y="48"/>
                  <a:pt x="62" y="24"/>
                  <a:pt x="108" y="12"/>
                </a:cubicBezTo>
                <a:cubicBezTo>
                  <a:pt x="154" y="0"/>
                  <a:pt x="215" y="0"/>
                  <a:pt x="2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未知"/>
          <p:cNvSpPr/>
          <p:nvPr/>
        </p:nvSpPr>
        <p:spPr>
          <a:xfrm>
            <a:off x="2851200" y="3211560"/>
            <a:ext cx="484200" cy="6444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2817720" y="3390840"/>
            <a:ext cx="459000" cy="1999800"/>
            <a:chOff x="2817720" y="3390840"/>
            <a:chExt cx="459000" cy="1999800"/>
          </a:xfrm>
        </p:grpSpPr>
        <p:sp>
          <p:nvSpPr>
            <p:cNvPr id="1084" name=""/>
            <p:cNvSpPr/>
            <p:nvPr/>
          </p:nvSpPr>
          <p:spPr>
            <a:xfrm>
              <a:off x="2817720" y="3390840"/>
              <a:ext cx="0" cy="199980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76720" y="3944160"/>
              <a:ext cx="0" cy="137340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2817720" y="4781520"/>
            <a:ext cx="484200" cy="611280"/>
            <a:chOff x="2817720" y="4781520"/>
            <a:chExt cx="484200" cy="611280"/>
          </a:xfrm>
        </p:grpSpPr>
        <p:sp>
          <p:nvSpPr>
            <p:cNvPr id="1087" name="未知"/>
            <p:cNvSpPr/>
            <p:nvPr/>
          </p:nvSpPr>
          <p:spPr>
            <a:xfrm>
              <a:off x="2817720" y="4781520"/>
              <a:ext cx="484200" cy="58752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16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160" y="4805280"/>
              <a:ext cx="0" cy="587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935000" y="2789280"/>
            <a:ext cx="2620080" cy="1319040"/>
            <a:chOff x="1935000" y="2789280"/>
            <a:chExt cx="2620080" cy="1319040"/>
          </a:xfrm>
        </p:grpSpPr>
        <p:sp>
          <p:nvSpPr>
            <p:cNvPr id="1090" name=""/>
            <p:cNvSpPr/>
            <p:nvPr/>
          </p:nvSpPr>
          <p:spPr>
            <a:xfrm>
              <a:off x="1935000" y="321156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73160" y="384012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03200" y="27892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01040" y="34596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039760" y="4313160"/>
            <a:ext cx="2430720" cy="579600"/>
            <a:chOff x="2039760" y="4313160"/>
            <a:chExt cx="2430720" cy="579600"/>
          </a:xfrm>
        </p:grpSpPr>
        <p:sp>
          <p:nvSpPr>
            <p:cNvPr id="1095" name=""/>
            <p:cNvSpPr/>
            <p:nvPr/>
          </p:nvSpPr>
          <p:spPr>
            <a:xfrm>
              <a:off x="2039760" y="4811760"/>
              <a:ext cx="2000160" cy="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96600" y="4313160"/>
              <a:ext cx="107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-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1441800" y="2641680"/>
            <a:ext cx="3510720" cy="1855800"/>
            <a:chOff x="1441800" y="2641680"/>
            <a:chExt cx="3510720" cy="1855800"/>
          </a:xfrm>
        </p:grpSpPr>
        <p:sp>
          <p:nvSpPr>
            <p:cNvPr id="1098" name=""/>
            <p:cNvSpPr/>
            <p:nvPr/>
          </p:nvSpPr>
          <p:spPr>
            <a:xfrm>
              <a:off x="1441800" y="2641680"/>
              <a:ext cx="54360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i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1982880" y="2925360"/>
              <a:ext cx="2895480" cy="1143360"/>
              <a:chOff x="1982880" y="2925360"/>
              <a:chExt cx="2895480" cy="1143360"/>
            </a:xfrm>
          </p:grpSpPr>
          <p:sp>
            <p:nvSpPr>
              <p:cNvPr id="1100" name=""/>
              <p:cNvSpPr/>
              <p:nvPr/>
            </p:nvSpPr>
            <p:spPr>
              <a:xfrm flipV="1">
                <a:off x="1982880" y="292536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982880" y="4068720"/>
                <a:ext cx="289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4415400" y="3916080"/>
              <a:ext cx="53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457640" y="3992400"/>
            <a:ext cx="3492720" cy="1800720"/>
            <a:chOff x="1457640" y="3992400"/>
            <a:chExt cx="3492720" cy="1800720"/>
          </a:xfrm>
        </p:grpSpPr>
        <p:grpSp>
          <p:nvGrpSpPr>
            <p:cNvPr id="1104" name=""/>
            <p:cNvGrpSpPr/>
            <p:nvPr/>
          </p:nvGrpSpPr>
          <p:grpSpPr>
            <a:xfrm>
              <a:off x="1457640" y="3992400"/>
              <a:ext cx="3418560" cy="1371600"/>
              <a:chOff x="1457640" y="3992400"/>
              <a:chExt cx="3418560" cy="137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1457640" y="3992400"/>
                <a:ext cx="5101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1981080" y="4220640"/>
                <a:ext cx="2895120" cy="1143360"/>
                <a:chOff x="1981080" y="4220640"/>
                <a:chExt cx="2895120" cy="1143360"/>
              </a:xfrm>
            </p:grpSpPr>
            <p:sp>
              <p:nvSpPr>
                <p:cNvPr id="1107" name=""/>
                <p:cNvSpPr/>
                <p:nvPr/>
              </p:nvSpPr>
              <p:spPr>
                <a:xfrm flipV="1">
                  <a:off x="1981080" y="422064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981080" y="5364000"/>
                  <a:ext cx="2895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9" name=""/>
            <p:cNvSpPr/>
            <p:nvPr/>
          </p:nvSpPr>
          <p:spPr>
            <a:xfrm>
              <a:off x="4413240" y="5211720"/>
              <a:ext cx="53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6400440" y="2992320"/>
            <a:ext cx="501840" cy="703440"/>
            <a:chOff x="6400440" y="2992320"/>
            <a:chExt cx="501840" cy="703440"/>
          </a:xfrm>
        </p:grpSpPr>
        <p:sp>
          <p:nvSpPr>
            <p:cNvPr id="1111" name=""/>
            <p:cNvSpPr/>
            <p:nvPr/>
          </p:nvSpPr>
          <p:spPr>
            <a:xfrm>
              <a:off x="6400800" y="3031920"/>
              <a:ext cx="501480" cy="66384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6400440" y="2992320"/>
              <a:ext cx="422280" cy="69516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5791320" y="1599840"/>
            <a:ext cx="609480" cy="2134080"/>
            <a:chOff x="5791320" y="1599840"/>
            <a:chExt cx="609480" cy="2134080"/>
          </a:xfrm>
        </p:grpSpPr>
        <p:sp>
          <p:nvSpPr>
            <p:cNvPr id="1114" name=""/>
            <p:cNvSpPr/>
            <p:nvPr/>
          </p:nvSpPr>
          <p:spPr>
            <a:xfrm flipV="1">
              <a:off x="5791320" y="1599840"/>
              <a:ext cx="609480" cy="190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91320" y="1619280"/>
              <a:ext cx="0" cy="211464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6248520" y="3485880"/>
            <a:ext cx="876240" cy="647640"/>
            <a:chOff x="6248520" y="3485880"/>
            <a:chExt cx="876240" cy="647640"/>
          </a:xfrm>
        </p:grpSpPr>
        <p:sp>
          <p:nvSpPr>
            <p:cNvPr id="1117" name=""/>
            <p:cNvSpPr/>
            <p:nvPr/>
          </p:nvSpPr>
          <p:spPr>
            <a:xfrm flipV="1">
              <a:off x="6248520" y="3485880"/>
              <a:ext cx="0" cy="647640"/>
            </a:xfrm>
            <a:prstGeom prst="line">
              <a:avLst/>
            </a:prstGeom>
            <a:ln w="38160">
              <a:solidFill>
                <a:srgbClr val="005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05760" y="3486240"/>
              <a:ext cx="819000" cy="0"/>
            </a:xfrm>
            <a:prstGeom prst="line">
              <a:avLst/>
            </a:prstGeom>
            <a:ln w="38160">
              <a:solidFill>
                <a:srgbClr val="005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7086600" y="3562200"/>
            <a:ext cx="0" cy="1009800"/>
          </a:xfrm>
          <a:prstGeom prst="line">
            <a:avLst/>
          </a:prstGeom>
          <a:ln w="38160">
            <a:solidFill>
              <a:srgbClr val="005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57200" y="568476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容放电至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宋体"/>
              </a:rPr>
              <a:t>v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时，单结管重新关断，使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1136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820960" y="5334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5583240" y="2048040"/>
            <a:ext cx="0" cy="28796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499080" y="2071800"/>
            <a:ext cx="0" cy="284472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843600" y="2678040"/>
            <a:ext cx="0" cy="22636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419960" y="2055960"/>
            <a:ext cx="0" cy="287316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743960" y="2670120"/>
            <a:ext cx="0" cy="217656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33520" y="1920960"/>
            <a:ext cx="308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注意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值不能选的太小，否则导通后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一直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单结管不能关断，电路亦不能振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不能太大，否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分压过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升不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管子不能工作在负阻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5023440" y="2022480"/>
            <a:ext cx="615960" cy="2908440"/>
            <a:chOff x="5023440" y="2022480"/>
            <a:chExt cx="615960" cy="2908440"/>
          </a:xfrm>
        </p:grpSpPr>
        <p:sp>
          <p:nvSpPr>
            <p:cNvPr id="1130" name=""/>
            <p:cNvSpPr/>
            <p:nvPr/>
          </p:nvSpPr>
          <p:spPr>
            <a:xfrm flipV="1">
              <a:off x="5054400" y="4917960"/>
              <a:ext cx="54576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 rot="21468000">
              <a:off x="5035320" y="2033280"/>
              <a:ext cx="591840" cy="6429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4511160" y="1686600"/>
            <a:ext cx="3555000" cy="581400"/>
            <a:chOff x="4511160" y="1686600"/>
            <a:chExt cx="3555000" cy="581400"/>
          </a:xfrm>
        </p:grpSpPr>
        <p:sp>
          <p:nvSpPr>
            <p:cNvPr id="1133" name=""/>
            <p:cNvSpPr/>
            <p:nvPr/>
          </p:nvSpPr>
          <p:spPr>
            <a:xfrm>
              <a:off x="4998960" y="2027160"/>
              <a:ext cx="3067200" cy="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511160" y="1686600"/>
              <a:ext cx="5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573880" y="2033640"/>
            <a:ext cx="398160" cy="2897280"/>
            <a:chOff x="5573880" y="2033640"/>
            <a:chExt cx="398160" cy="2897280"/>
          </a:xfrm>
        </p:grpSpPr>
        <p:sp>
          <p:nvSpPr>
            <p:cNvPr id="1136" name=""/>
            <p:cNvSpPr/>
            <p:nvPr/>
          </p:nvSpPr>
          <p:spPr>
            <a:xfrm>
              <a:off x="5573880" y="423540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5573880" y="2033640"/>
              <a:ext cx="398160" cy="2897280"/>
              <a:chOff x="5573880" y="2033640"/>
              <a:chExt cx="398160" cy="2897280"/>
            </a:xfrm>
          </p:grpSpPr>
          <p:sp>
            <p:nvSpPr>
              <p:cNvPr id="1138" name="未知"/>
              <p:cNvSpPr/>
              <p:nvPr/>
            </p:nvSpPr>
            <p:spPr>
              <a:xfrm>
                <a:off x="5573880" y="4295880"/>
                <a:ext cx="398160" cy="63504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5616360" y="2033640"/>
                <a:ext cx="321840" cy="64764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5912640" y="2035080"/>
            <a:ext cx="601560" cy="2882880"/>
            <a:chOff x="5912640" y="2035080"/>
            <a:chExt cx="601560" cy="2882880"/>
          </a:xfrm>
        </p:grpSpPr>
        <p:sp>
          <p:nvSpPr>
            <p:cNvPr id="1141" name=""/>
            <p:cNvSpPr/>
            <p:nvPr/>
          </p:nvSpPr>
          <p:spPr>
            <a:xfrm>
              <a:off x="5918040" y="4917960"/>
              <a:ext cx="571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 rot="21468000">
              <a:off x="5924520" y="2045880"/>
              <a:ext cx="577800" cy="63180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524120" y="2277360"/>
            <a:ext cx="3681720" cy="2675520"/>
            <a:chOff x="4524120" y="2277360"/>
            <a:chExt cx="3681720" cy="2675520"/>
          </a:xfrm>
        </p:grpSpPr>
        <p:sp>
          <p:nvSpPr>
            <p:cNvPr id="1144" name=""/>
            <p:cNvSpPr/>
            <p:nvPr/>
          </p:nvSpPr>
          <p:spPr>
            <a:xfrm>
              <a:off x="5940360" y="2691000"/>
              <a:ext cx="0" cy="226188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62320" y="2700360"/>
              <a:ext cx="3143520" cy="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24120" y="227736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6500880" y="2021040"/>
            <a:ext cx="398520" cy="2922480"/>
            <a:chOff x="6500880" y="2021040"/>
            <a:chExt cx="398520" cy="2922480"/>
          </a:xfrm>
        </p:grpSpPr>
        <p:sp>
          <p:nvSpPr>
            <p:cNvPr id="1148" name=""/>
            <p:cNvSpPr/>
            <p:nvPr/>
          </p:nvSpPr>
          <p:spPr>
            <a:xfrm>
              <a:off x="6500880" y="424836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6500880" y="4308480"/>
              <a:ext cx="398520" cy="6350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6505560" y="2021040"/>
              <a:ext cx="335160" cy="66024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6834960" y="2030760"/>
            <a:ext cx="603360" cy="2900160"/>
            <a:chOff x="6834960" y="2030760"/>
            <a:chExt cx="603360" cy="2900160"/>
          </a:xfrm>
        </p:grpSpPr>
        <p:sp>
          <p:nvSpPr>
            <p:cNvPr id="1152" name=""/>
            <p:cNvSpPr/>
            <p:nvPr/>
          </p:nvSpPr>
          <p:spPr>
            <a:xfrm>
              <a:off x="6845400" y="4930920"/>
              <a:ext cx="571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 rot="21468000">
              <a:off x="6846840" y="2041560"/>
              <a:ext cx="579600" cy="630360"/>
            </a:xfrm>
            <a:custGeom>
              <a:avLst/>
              <a:gdLst/>
              <a:ahLst/>
              <a:rect l="l" t="t" r="r" b="b"/>
              <a:pathLst>
                <a:path w="276" h="72">
                  <a:moveTo>
                    <a:pt x="0" y="72"/>
                  </a:moveTo>
                  <a:cubicBezTo>
                    <a:pt x="31" y="48"/>
                    <a:pt x="62" y="24"/>
                    <a:pt x="108" y="12"/>
                  </a:cubicBezTo>
                  <a:cubicBezTo>
                    <a:pt x="154" y="0"/>
                    <a:pt x="215" y="0"/>
                    <a:pt x="2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7415280" y="2033640"/>
            <a:ext cx="347760" cy="2926800"/>
            <a:chOff x="7415280" y="2033640"/>
            <a:chExt cx="347760" cy="2926800"/>
          </a:xfrm>
        </p:grpSpPr>
        <p:sp>
          <p:nvSpPr>
            <p:cNvPr id="1155" name=""/>
            <p:cNvSpPr/>
            <p:nvPr/>
          </p:nvSpPr>
          <p:spPr>
            <a:xfrm>
              <a:off x="7415280" y="426996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7415280" y="4295520"/>
              <a:ext cx="347760" cy="63468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7419960" y="2033640"/>
              <a:ext cx="322200" cy="64728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6002280" y="5257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压波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4474440" y="914400"/>
            <a:ext cx="4400640" cy="5346720"/>
            <a:chOff x="4474440" y="914400"/>
            <a:chExt cx="4400640" cy="5346720"/>
          </a:xfrm>
        </p:grpSpPr>
        <p:grpSp>
          <p:nvGrpSpPr>
            <p:cNvPr id="1160" name=""/>
            <p:cNvGrpSpPr/>
            <p:nvPr/>
          </p:nvGrpSpPr>
          <p:grpSpPr>
            <a:xfrm>
              <a:off x="4474440" y="914400"/>
              <a:ext cx="4400640" cy="5346720"/>
              <a:chOff x="4474440" y="914400"/>
              <a:chExt cx="4400640" cy="5346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6592680" y="568152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474440" y="91440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045040" y="1284120"/>
                <a:ext cx="0" cy="19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844880" y="2887560"/>
                <a:ext cx="362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318880" y="2373840"/>
                <a:ext cx="53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337960" y="4371120"/>
                <a:ext cx="53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045040" y="3706920"/>
                <a:ext cx="0" cy="160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84840" y="4944960"/>
                <a:ext cx="370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500360" y="3443760"/>
                <a:ext cx="523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32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465048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50480" y="487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种常用电阻的 结构和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固定电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碳膜电阻：改变碳膜厚度和用刻槽的方法变更碳膜的长度，可以得到不同的阻值。碳膜电阻成本较低，性能一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金属膜电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种电阻和碳膜电阻相比，可靠性高、</a:t>
            </a:r>
            <a:r>
              <a:rPr b="0" lang="zh-CN" sz="3000" spc="-1" strike="noStrike">
                <a:solidFill>
                  <a:srgbClr val="996600"/>
                </a:solidFill>
                <a:latin typeface="Arial"/>
              </a:rPr>
              <a:t>体积小、稳定性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但成本较高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800600"/>
            <a:ext cx="167616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80060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48006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4800600"/>
            <a:ext cx="21333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"/>
          <p:cNvGrpSpPr/>
          <p:nvPr/>
        </p:nvGrpSpPr>
        <p:grpSpPr>
          <a:xfrm>
            <a:off x="4935600" y="2495520"/>
            <a:ext cx="2133720" cy="609480"/>
            <a:chOff x="4935600" y="2495520"/>
            <a:chExt cx="2133720" cy="609480"/>
          </a:xfrm>
        </p:grpSpPr>
        <p:sp>
          <p:nvSpPr>
            <p:cNvPr id="1173" name=""/>
            <p:cNvSpPr/>
            <p:nvPr/>
          </p:nvSpPr>
          <p:spPr>
            <a:xfrm>
              <a:off x="6067440" y="2571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主电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935600" y="2495520"/>
              <a:ext cx="2133720" cy="609480"/>
              <a:chOff x="4935600" y="2495520"/>
              <a:chExt cx="2133720" cy="609480"/>
            </a:xfrm>
          </p:grpSpPr>
          <p:sp>
            <p:nvSpPr>
              <p:cNvPr id="1175" name=""/>
              <p:cNvSpPr/>
              <p:nvPr/>
            </p:nvSpPr>
            <p:spPr>
              <a:xfrm>
                <a:off x="4935600" y="2495520"/>
                <a:ext cx="10666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02280" y="310500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3886200" y="5345280"/>
            <a:ext cx="2743200" cy="1056960"/>
            <a:chOff x="3886200" y="5345280"/>
            <a:chExt cx="2743200" cy="1056960"/>
          </a:xfrm>
        </p:grpSpPr>
        <p:sp>
          <p:nvSpPr>
            <p:cNvPr id="1178" name=""/>
            <p:cNvSpPr/>
            <p:nvPr/>
          </p:nvSpPr>
          <p:spPr>
            <a:xfrm>
              <a:off x="3886200" y="6382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334120" y="5345280"/>
              <a:ext cx="1295280" cy="10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86360" y="5881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触发电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45880" y="895320"/>
            <a:ext cx="8364600" cy="5181480"/>
            <a:chOff x="245880" y="895320"/>
            <a:chExt cx="8364600" cy="5181480"/>
          </a:xfrm>
        </p:grpSpPr>
        <p:grpSp>
          <p:nvGrpSpPr>
            <p:cNvPr id="1182" name=""/>
            <p:cNvGrpSpPr/>
            <p:nvPr/>
          </p:nvGrpSpPr>
          <p:grpSpPr>
            <a:xfrm>
              <a:off x="1863360" y="1428840"/>
              <a:ext cx="489960" cy="1218960"/>
              <a:chOff x="1863360" y="1428840"/>
              <a:chExt cx="489960" cy="1218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1886040" y="1818720"/>
                <a:ext cx="4672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863360" y="14288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925280" y="2647800"/>
                <a:ext cx="157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H="1">
              <a:off x="1882440" y="1349280"/>
              <a:ext cx="10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808280" y="2962080"/>
              <a:ext cx="108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871640" y="133668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834920" y="253836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1767600" y="1679760"/>
              <a:ext cx="958680" cy="987840"/>
              <a:chOff x="1767600" y="1679760"/>
              <a:chExt cx="958680" cy="987840"/>
            </a:xfrm>
          </p:grpSpPr>
          <p:sp>
            <p:nvSpPr>
              <p:cNvPr id="1191" name=""/>
              <p:cNvSpPr/>
              <p:nvPr/>
            </p:nvSpPr>
            <p:spPr>
              <a:xfrm flipH="1" rot="16200000">
                <a:off x="2019240" y="1960920"/>
                <a:ext cx="45468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 rot="16200000">
                <a:off x="2019240" y="1427760"/>
                <a:ext cx="45468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 rot="16200000">
                <a:off x="2018880" y="1695240"/>
                <a:ext cx="455400" cy="9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>
              <a:off x="4792680" y="1733400"/>
              <a:ext cx="92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7130880" y="5145120"/>
              <a:ext cx="489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27600" y="5313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20120" y="1089000"/>
              <a:ext cx="1440" cy="40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88120" y="3525840"/>
              <a:ext cx="0" cy="48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569280" y="3641040"/>
              <a:ext cx="5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6051600" y="5874480"/>
              <a:ext cx="824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58040" y="35661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82160" y="508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841400" y="3530520"/>
              <a:ext cx="11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820880" y="569736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435040" y="4559400"/>
              <a:ext cx="730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746600" y="4184640"/>
              <a:ext cx="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708440" y="5865120"/>
              <a:ext cx="73080" cy="73080"/>
            </a:xfrm>
            <a:prstGeom prst="ellipse">
              <a:avLst/>
            </a:prstGeo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4689360" y="3493440"/>
              <a:ext cx="74520" cy="73080"/>
            </a:xfrm>
            <a:prstGeom prst="ellipse">
              <a:avLst/>
            </a:prstGeo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746600" y="3512880"/>
              <a:ext cx="0" cy="72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46600" y="5043600"/>
              <a:ext cx="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6200000">
              <a:off x="4066920" y="3309480"/>
              <a:ext cx="173160" cy="446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68520" y="4576680"/>
              <a:ext cx="55260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487600" y="4109760"/>
              <a:ext cx="47772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2630520" y="4405320"/>
              <a:ext cx="745920" cy="422280"/>
              <a:chOff x="2630520" y="4405320"/>
              <a:chExt cx="745920" cy="422280"/>
            </a:xfrm>
          </p:grpSpPr>
          <p:sp>
            <p:nvSpPr>
              <p:cNvPr id="1215" name=""/>
              <p:cNvSpPr/>
              <p:nvPr/>
            </p:nvSpPr>
            <p:spPr>
              <a:xfrm>
                <a:off x="3101760" y="4405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>
                <a:off x="2898360" y="4406760"/>
                <a:ext cx="21096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901600" y="4408560"/>
                <a:ext cx="0" cy="38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630520" y="4610160"/>
                <a:ext cx="74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2886840" y="4610160"/>
                <a:ext cx="19980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525480" y="3546360"/>
              <a:ext cx="3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35200" y="3543120"/>
              <a:ext cx="0" cy="112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68520" y="4595760"/>
              <a:ext cx="0" cy="13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2990880" y="351288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029040" y="5118120"/>
              <a:ext cx="0" cy="57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973240" y="5072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7360" y="3540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07040" y="5467320"/>
              <a:ext cx="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49440" y="5902200"/>
              <a:ext cx="22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6880" y="5911920"/>
              <a:ext cx="349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972960" y="424152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230720" y="922320"/>
              <a:ext cx="0" cy="216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341520" y="3087720"/>
              <a:ext cx="20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874960" y="1903320"/>
              <a:ext cx="47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876040" y="2266920"/>
              <a:ext cx="13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89360" y="1349280"/>
              <a:ext cx="0" cy="56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13600" y="1173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513960" y="2392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79040" y="2392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349440" y="922320"/>
              <a:ext cx="48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8480" y="2266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11440" y="1096920"/>
              <a:ext cx="410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230720" y="1096920"/>
              <a:ext cx="15228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28000" y="1173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49440" y="922320"/>
              <a:ext cx="0" cy="214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097080" y="1096560"/>
              <a:ext cx="455760" cy="512640"/>
              <a:chOff x="3097080" y="1096560"/>
              <a:chExt cx="455760" cy="51264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3097080" y="1355400"/>
                <a:ext cx="455760" cy="253800"/>
                <a:chOff x="3097080" y="1355400"/>
                <a:chExt cx="455760" cy="2538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3097080" y="1368360"/>
                  <a:ext cx="45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3160080" y="1355400"/>
                  <a:ext cx="1872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160080" y="1609200"/>
                  <a:ext cx="36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363840" y="1368360"/>
                  <a:ext cx="149760" cy="24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 flipV="1">
                <a:off x="3385800" y="1096560"/>
                <a:ext cx="150840" cy="24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986280" y="1325520"/>
              <a:ext cx="453960" cy="252360"/>
              <a:chOff x="3986280" y="1325520"/>
              <a:chExt cx="453960" cy="252360"/>
            </a:xfrm>
          </p:grpSpPr>
          <p:sp>
            <p:nvSpPr>
              <p:cNvPr id="1253" name=""/>
              <p:cNvSpPr/>
              <p:nvPr/>
            </p:nvSpPr>
            <p:spPr>
              <a:xfrm>
                <a:off x="3986280" y="1338480"/>
                <a:ext cx="45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4049280" y="1325520"/>
                <a:ext cx="186480" cy="2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049280" y="1577880"/>
                <a:ext cx="35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251960" y="1338480"/>
                <a:ext cx="14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3097080" y="2506680"/>
              <a:ext cx="455760" cy="253800"/>
              <a:chOff x="3097080" y="2506680"/>
              <a:chExt cx="455760" cy="253800"/>
            </a:xfrm>
          </p:grpSpPr>
          <p:sp>
            <p:nvSpPr>
              <p:cNvPr id="1258" name=""/>
              <p:cNvSpPr/>
              <p:nvPr/>
            </p:nvSpPr>
            <p:spPr>
              <a:xfrm>
                <a:off x="3097080" y="2518200"/>
                <a:ext cx="4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3160080" y="2506680"/>
                <a:ext cx="187200" cy="25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160080" y="276048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363840" y="2518200"/>
                <a:ext cx="149760" cy="24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3989160" y="2496960"/>
              <a:ext cx="455760" cy="254160"/>
              <a:chOff x="3989160" y="2496960"/>
              <a:chExt cx="455760" cy="254160"/>
            </a:xfrm>
          </p:grpSpPr>
          <p:sp>
            <p:nvSpPr>
              <p:cNvPr id="1263" name=""/>
              <p:cNvSpPr/>
              <p:nvPr/>
            </p:nvSpPr>
            <p:spPr>
              <a:xfrm>
                <a:off x="3989160" y="2508480"/>
                <a:ext cx="4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4051080" y="2496960"/>
                <a:ext cx="190080" cy="25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51080" y="2751120"/>
                <a:ext cx="36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255920" y="2508480"/>
                <a:ext cx="150840" cy="24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 flipV="1">
              <a:off x="3468600" y="4593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946240" y="4064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441520" y="45536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3003120" y="4630680"/>
              <a:ext cx="52236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03480" y="4106880"/>
              <a:ext cx="5223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742400" y="3530520"/>
              <a:ext cx="957240" cy="2166480"/>
              <a:chOff x="1742400" y="3530520"/>
              <a:chExt cx="957240" cy="2166480"/>
            </a:xfrm>
          </p:grpSpPr>
          <p:sp>
            <p:nvSpPr>
              <p:cNvPr id="1273" name=""/>
              <p:cNvSpPr/>
              <p:nvPr/>
            </p:nvSpPr>
            <p:spPr>
              <a:xfrm>
                <a:off x="1870200" y="425052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863000" y="3530520"/>
                <a:ext cx="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825560" y="5003280"/>
                <a:ext cx="0" cy="69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742400" y="4137840"/>
                <a:ext cx="957240" cy="987480"/>
                <a:chOff x="1742400" y="4137840"/>
                <a:chExt cx="957240" cy="987480"/>
              </a:xfrm>
            </p:grpSpPr>
            <p:sp>
              <p:nvSpPr>
                <p:cNvPr id="1277" name=""/>
                <p:cNvSpPr/>
                <p:nvPr/>
              </p:nvSpPr>
              <p:spPr>
                <a:xfrm flipH="1" rot="16200000">
                  <a:off x="1993320" y="4419360"/>
                  <a:ext cx="45468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 rot="16200000">
                  <a:off x="1993320" y="3886560"/>
                  <a:ext cx="45468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 rot="16200000">
                  <a:off x="1992960" y="4154040"/>
                  <a:ext cx="4554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1857960" y="3882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42480" y="485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28920" y="1792080"/>
              <a:ext cx="1029960" cy="2838600"/>
              <a:chOff x="628920" y="1792080"/>
              <a:chExt cx="1029960" cy="2838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1658880" y="1792080"/>
                <a:ext cx="0" cy="283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628920" y="2090880"/>
                <a:ext cx="957240" cy="2315160"/>
                <a:chOff x="628920" y="2090880"/>
                <a:chExt cx="957240" cy="23151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1465920" y="2165400"/>
                  <a:ext cx="0" cy="72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503000" y="3637440"/>
                  <a:ext cx="0" cy="69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"/>
                <p:cNvGrpSpPr/>
                <p:nvPr/>
              </p:nvGrpSpPr>
              <p:grpSpPr>
                <a:xfrm>
                  <a:off x="628920" y="2772360"/>
                  <a:ext cx="957240" cy="987480"/>
                  <a:chOff x="628920" y="2772360"/>
                  <a:chExt cx="957240" cy="987480"/>
                </a:xfrm>
              </p:grpSpPr>
              <p:sp>
                <p:nvSpPr>
                  <p:cNvPr id="1288" name=""/>
                  <p:cNvSpPr/>
                  <p:nvPr/>
                </p:nvSpPr>
                <p:spPr>
                  <a:xfrm rot="5400000">
                    <a:off x="880200" y="3053880"/>
                    <a:ext cx="454680" cy="95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rot="5400000">
                    <a:off x="880200" y="2521080"/>
                    <a:ext cx="454680" cy="95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rot="5400000">
                    <a:off x="879840" y="2788560"/>
                    <a:ext cx="455400" cy="957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799" y="2576"/>
                        </a:moveTo>
                        <a:arcTo wR="10800" hR="10800" stAng="-7824396" swAng="44557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799" y="2576"/>
                        </a:moveTo>
                        <a:arcTo wR="10800" hR="10800" stAng="-7824396" swAng="4455715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"/>
                <p:cNvSpPr/>
                <p:nvPr/>
              </p:nvSpPr>
              <p:spPr>
                <a:xfrm>
                  <a:off x="895320" y="2165400"/>
                  <a:ext cx="59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910800" y="4331520"/>
                  <a:ext cx="59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20800" y="2972880"/>
                  <a:ext cx="183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20800" y="2090880"/>
                  <a:ext cx="119520" cy="1198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20800" y="4286160"/>
                  <a:ext cx="119520" cy="1198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6" name=""/>
            <p:cNvSpPr/>
            <p:nvPr/>
          </p:nvSpPr>
          <p:spPr>
            <a:xfrm>
              <a:off x="4400640" y="3521160"/>
              <a:ext cx="281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7" name=""/>
            <p:cNvGrpSpPr/>
            <p:nvPr/>
          </p:nvGrpSpPr>
          <p:grpSpPr>
            <a:xfrm>
              <a:off x="5943600" y="5332320"/>
              <a:ext cx="304920" cy="135000"/>
              <a:chOff x="5943600" y="5332320"/>
              <a:chExt cx="304920" cy="135000"/>
            </a:xfrm>
          </p:grpSpPr>
          <p:sp>
            <p:nvSpPr>
              <p:cNvPr id="1298" name=""/>
              <p:cNvSpPr/>
              <p:nvPr/>
            </p:nvSpPr>
            <p:spPr>
              <a:xfrm>
                <a:off x="5943600" y="5332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43600" y="5467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6103800" y="4648320"/>
              <a:ext cx="0" cy="66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182280" y="4857840"/>
              <a:ext cx="523800" cy="838080"/>
              <a:chOff x="6182280" y="4857840"/>
              <a:chExt cx="523800" cy="838080"/>
            </a:xfrm>
          </p:grpSpPr>
          <p:sp>
            <p:nvSpPr>
              <p:cNvPr id="1302" name=""/>
              <p:cNvSpPr/>
              <p:nvPr/>
            </p:nvSpPr>
            <p:spPr>
              <a:xfrm>
                <a:off x="6182280" y="502452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198480" y="48578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281280" y="5695920"/>
                <a:ext cx="156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4368240" y="409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45200" y="470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4497480" y="4540320"/>
              <a:ext cx="548640" cy="317520"/>
              <a:chOff x="4497480" y="4540320"/>
              <a:chExt cx="548640" cy="317520"/>
            </a:xfrm>
          </p:grpSpPr>
          <p:sp>
            <p:nvSpPr>
              <p:cNvPr id="1308" name=""/>
              <p:cNvSpPr/>
              <p:nvPr/>
            </p:nvSpPr>
            <p:spPr>
              <a:xfrm>
                <a:off x="4497480" y="4556160"/>
                <a:ext cx="44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57600" y="4540320"/>
                <a:ext cx="183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557600" y="4845240"/>
                <a:ext cx="35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910040" y="4540320"/>
                <a:ext cx="13608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724280" y="4552920"/>
                <a:ext cx="183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7102440" y="5391000"/>
              <a:ext cx="125280" cy="34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62920" y="5730840"/>
              <a:ext cx="0" cy="1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62920" y="4933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040440" y="4306680"/>
              <a:ext cx="125280" cy="34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040440" y="3711600"/>
              <a:ext cx="125280" cy="34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95880" y="3503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095880" y="4054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00800" y="3525840"/>
              <a:ext cx="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6171840" y="3867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40480" y="424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21520" y="3981600"/>
              <a:ext cx="125280" cy="34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96040" y="4316400"/>
              <a:ext cx="0" cy="38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6788160" y="4629240"/>
              <a:ext cx="398520" cy="387360"/>
              <a:chOff x="6788160" y="4629240"/>
              <a:chExt cx="398520" cy="387360"/>
            </a:xfrm>
          </p:grpSpPr>
          <p:sp>
            <p:nvSpPr>
              <p:cNvPr id="1326" name=""/>
              <p:cNvSpPr/>
              <p:nvPr/>
            </p:nvSpPr>
            <p:spPr>
              <a:xfrm flipV="1">
                <a:off x="6994440" y="4629240"/>
                <a:ext cx="0" cy="38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6788160" y="4761000"/>
                <a:ext cx="20628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6981840" y="4934160"/>
                <a:ext cx="19224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6994440" y="4700520"/>
                <a:ext cx="19224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6059520" y="4897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059520" y="34855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292720" y="895320"/>
              <a:ext cx="673200" cy="2209680"/>
              <a:chOff x="5292720" y="895320"/>
              <a:chExt cx="673200" cy="2209680"/>
            </a:xfrm>
          </p:grpSpPr>
          <p:sp>
            <p:nvSpPr>
              <p:cNvPr id="1333" name=""/>
              <p:cNvSpPr/>
              <p:nvPr/>
            </p:nvSpPr>
            <p:spPr>
              <a:xfrm>
                <a:off x="5292720" y="1870200"/>
                <a:ext cx="186840" cy="396720"/>
              </a:xfrm>
              <a:prstGeom prst="rect">
                <a:avLst/>
              </a:prstGeom>
              <a:noFill/>
              <a:ln w="381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389200" y="2247840"/>
                <a:ext cx="0" cy="857160"/>
              </a:xfrm>
              <a:prstGeom prst="line">
                <a:avLst/>
              </a:prstGeom>
              <a:ln w="381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389200" y="895320"/>
                <a:ext cx="0" cy="949320"/>
              </a:xfrm>
              <a:prstGeom prst="line">
                <a:avLst/>
              </a:prstGeom>
              <a:ln w="381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6" name=""/>
              <p:cNvGrpSpPr/>
              <p:nvPr/>
            </p:nvGrpSpPr>
            <p:grpSpPr>
              <a:xfrm>
                <a:off x="5442120" y="1428840"/>
                <a:ext cx="523800" cy="914400"/>
                <a:chOff x="5442120" y="1428840"/>
                <a:chExt cx="523800" cy="91440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5442120" y="1641600"/>
                  <a:ext cx="5238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u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445360" y="142884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572800" y="2343240"/>
                  <a:ext cx="156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>
              <a:off x="7186680" y="5222880"/>
              <a:ext cx="49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176960" y="508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04040" y="5848200"/>
              <a:ext cx="1573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229600" y="895320"/>
              <a:ext cx="0" cy="50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121520" y="51253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7121520" y="5880960"/>
              <a:ext cx="824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76520" y="3257640"/>
              <a:ext cx="693396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078600" y="4933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245880" y="2190600"/>
              <a:ext cx="812520" cy="1905120"/>
              <a:chOff x="245880" y="2190600"/>
              <a:chExt cx="812520" cy="1905120"/>
            </a:xfrm>
          </p:grpSpPr>
          <p:sp>
            <p:nvSpPr>
              <p:cNvPr id="1349" name=""/>
              <p:cNvSpPr/>
              <p:nvPr/>
            </p:nvSpPr>
            <p:spPr>
              <a:xfrm>
                <a:off x="679680" y="2981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95160" y="21906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44480" y="4095720"/>
                <a:ext cx="157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45880" y="30430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5638680" y="3409920"/>
              <a:ext cx="2133720" cy="2666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5369040" y="897840"/>
              <a:ext cx="745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5371920" y="3028320"/>
              <a:ext cx="748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33520" y="223920"/>
            <a:ext cx="815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.4.3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单结管触发的半控桥式整流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96960" y="8287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5c00"/>
                </a:solidFill>
                <a:latin typeface="Times New Roman"/>
              </a:rPr>
              <a:t>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838080" y="5257800"/>
            <a:ext cx="2895480" cy="1410840"/>
            <a:chOff x="838080" y="5257800"/>
            <a:chExt cx="2895480" cy="1410840"/>
          </a:xfrm>
        </p:grpSpPr>
        <p:sp>
          <p:nvSpPr>
            <p:cNvPr id="1359" name=""/>
            <p:cNvSpPr/>
            <p:nvPr/>
          </p:nvSpPr>
          <p:spPr>
            <a:xfrm>
              <a:off x="928800" y="6668640"/>
              <a:ext cx="148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2409480" y="5257800"/>
              <a:ext cx="1324080" cy="141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8080" y="5987520"/>
              <a:ext cx="164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</a:rPr>
                <a:t>整流削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763920" y="1034280"/>
            <a:ext cx="15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削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4248360" y="2909880"/>
            <a:ext cx="1314000" cy="579600"/>
            <a:chOff x="4248360" y="2909880"/>
            <a:chExt cx="1314000" cy="579600"/>
          </a:xfrm>
        </p:grpSpPr>
        <p:sp>
          <p:nvSpPr>
            <p:cNvPr id="1364" name=""/>
            <p:cNvSpPr/>
            <p:nvPr/>
          </p:nvSpPr>
          <p:spPr>
            <a:xfrm flipV="1">
              <a:off x="4952880" y="3245040"/>
              <a:ext cx="609480" cy="28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8360" y="2909880"/>
              <a:ext cx="73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2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6262560" y="54237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削 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4309200" y="4820400"/>
            <a:ext cx="1482120" cy="520560"/>
            <a:chOff x="4309200" y="4820400"/>
            <a:chExt cx="1482120" cy="520560"/>
          </a:xfrm>
        </p:grpSpPr>
        <p:sp>
          <p:nvSpPr>
            <p:cNvPr id="1368" name=""/>
            <p:cNvSpPr/>
            <p:nvPr/>
          </p:nvSpPr>
          <p:spPr>
            <a:xfrm flipV="1">
              <a:off x="4942080" y="5110200"/>
              <a:ext cx="849240" cy="28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309200" y="482040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6056280" y="2168640"/>
            <a:ext cx="2206800" cy="3286080"/>
            <a:chOff x="6056280" y="2168640"/>
            <a:chExt cx="2206800" cy="3286080"/>
          </a:xfrm>
        </p:grpSpPr>
        <p:sp>
          <p:nvSpPr>
            <p:cNvPr id="1371" name=""/>
            <p:cNvSpPr/>
            <p:nvPr/>
          </p:nvSpPr>
          <p:spPr>
            <a:xfrm>
              <a:off x="6056280" y="219528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59680" y="218196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263080" y="2168640"/>
              <a:ext cx="0" cy="3259440"/>
            </a:xfrm>
            <a:prstGeom prst="line">
              <a:avLst/>
            </a:prstGeom>
            <a:ln w="28440">
              <a:solidFill>
                <a:srgbClr val="cc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956120" y="3240000"/>
            <a:ext cx="3316320" cy="572760"/>
            <a:chOff x="4956120" y="3240000"/>
            <a:chExt cx="3316320" cy="572760"/>
          </a:xfrm>
        </p:grpSpPr>
        <p:sp>
          <p:nvSpPr>
            <p:cNvPr id="1375" name="未知"/>
            <p:cNvSpPr/>
            <p:nvPr/>
          </p:nvSpPr>
          <p:spPr>
            <a:xfrm>
              <a:off x="7163280" y="324000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未知"/>
            <p:cNvSpPr/>
            <p:nvPr/>
          </p:nvSpPr>
          <p:spPr>
            <a:xfrm>
              <a:off x="4956120" y="324000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未知"/>
            <p:cNvSpPr/>
            <p:nvPr/>
          </p:nvSpPr>
          <p:spPr>
            <a:xfrm>
              <a:off x="6056640" y="3263760"/>
              <a:ext cx="1109160" cy="549000"/>
            </a:xfrm>
            <a:custGeom>
              <a:avLst/>
              <a:gdLst/>
              <a:ahLst/>
              <a:rect l="l" t="t" r="r" b="b"/>
              <a:pathLst>
                <a:path w="784" h="433">
                  <a:moveTo>
                    <a:pt x="783" y="432"/>
                  </a:moveTo>
                  <a:lnTo>
                    <a:pt x="716" y="315"/>
                  </a:lnTo>
                  <a:lnTo>
                    <a:pt x="650" y="213"/>
                  </a:lnTo>
                  <a:lnTo>
                    <a:pt x="584" y="125"/>
                  </a:lnTo>
                  <a:lnTo>
                    <a:pt x="518" y="52"/>
                  </a:lnTo>
                  <a:lnTo>
                    <a:pt x="463" y="15"/>
                  </a:lnTo>
                  <a:lnTo>
                    <a:pt x="397" y="0"/>
                  </a:lnTo>
                  <a:lnTo>
                    <a:pt x="330" y="15"/>
                  </a:lnTo>
                  <a:lnTo>
                    <a:pt x="264" y="52"/>
                  </a:lnTo>
                  <a:lnTo>
                    <a:pt x="198" y="125"/>
                  </a:lnTo>
                  <a:lnTo>
                    <a:pt x="132" y="213"/>
                  </a:lnTo>
                  <a:lnTo>
                    <a:pt x="66" y="323"/>
                  </a:lnTo>
                  <a:lnTo>
                    <a:pt x="0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304200" y="2057040"/>
            <a:ext cx="3810600" cy="2492640"/>
            <a:chOff x="304200" y="2057040"/>
            <a:chExt cx="3810600" cy="2492640"/>
          </a:xfrm>
        </p:grpSpPr>
        <p:sp>
          <p:nvSpPr>
            <p:cNvPr id="1379" name=""/>
            <p:cNvSpPr/>
            <p:nvPr/>
          </p:nvSpPr>
          <p:spPr>
            <a:xfrm>
              <a:off x="2962440" y="2130480"/>
              <a:ext cx="10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38120" y="2139840"/>
              <a:ext cx="11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82320" y="430704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997200" y="3168720"/>
              <a:ext cx="727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308400" y="2793960"/>
              <a:ext cx="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3308400" y="2122200"/>
              <a:ext cx="0" cy="72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08400" y="3652920"/>
              <a:ext cx="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6200000">
              <a:off x="2629080" y="1920600"/>
              <a:ext cx="173160" cy="446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30320" y="3186000"/>
              <a:ext cx="55260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049400" y="2719080"/>
              <a:ext cx="477720" cy="48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1191960" y="3014640"/>
              <a:ext cx="746280" cy="422280"/>
              <a:chOff x="1191960" y="3014640"/>
              <a:chExt cx="746280" cy="422280"/>
            </a:xfrm>
          </p:grpSpPr>
          <p:sp>
            <p:nvSpPr>
              <p:cNvPr id="1390" name=""/>
              <p:cNvSpPr/>
              <p:nvPr/>
            </p:nvSpPr>
            <p:spPr>
              <a:xfrm>
                <a:off x="1663920" y="30146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flipV="1">
                <a:off x="1460160" y="3016080"/>
                <a:ext cx="211320" cy="20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463760" y="3017880"/>
                <a:ext cx="0" cy="38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1191960" y="321948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1449360" y="3219480"/>
                <a:ext cx="20016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 flipH="1">
              <a:off x="2087640" y="215568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097360" y="2152800"/>
              <a:ext cx="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030320" y="3205080"/>
              <a:ext cx="0" cy="13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1552680" y="2122200"/>
              <a:ext cx="0" cy="61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90840" y="3727440"/>
              <a:ext cx="0" cy="57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535400" y="36824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459520" y="2150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011240" y="45115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030400" y="3202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1508400" y="267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1003320" y="3163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1564920" y="3240000"/>
              <a:ext cx="52236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565280" y="2716200"/>
              <a:ext cx="5223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304200" y="2139840"/>
              <a:ext cx="957240" cy="2166840"/>
              <a:chOff x="304200" y="2139840"/>
              <a:chExt cx="957240" cy="2166840"/>
            </a:xfrm>
          </p:grpSpPr>
          <p:sp>
            <p:nvSpPr>
              <p:cNvPr id="1409" name=""/>
              <p:cNvSpPr/>
              <p:nvPr/>
            </p:nvSpPr>
            <p:spPr>
              <a:xfrm>
                <a:off x="432000" y="286020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24800" y="2139840"/>
                <a:ext cx="0" cy="72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7360" y="3612600"/>
                <a:ext cx="0" cy="69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304200" y="2747160"/>
                <a:ext cx="957240" cy="987840"/>
                <a:chOff x="304200" y="2747160"/>
                <a:chExt cx="957240" cy="987840"/>
              </a:xfrm>
            </p:grpSpPr>
            <p:sp>
              <p:nvSpPr>
                <p:cNvPr id="1413" name=""/>
                <p:cNvSpPr/>
                <p:nvPr/>
              </p:nvSpPr>
              <p:spPr>
                <a:xfrm flipH="1" rot="16200000">
                  <a:off x="555120" y="3029040"/>
                  <a:ext cx="45468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 rot="16200000">
                  <a:off x="555120" y="2495880"/>
                  <a:ext cx="45468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 rot="16200000">
                  <a:off x="554760" y="2763360"/>
                  <a:ext cx="455400" cy="9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99" y="2576"/>
                      </a:moveTo>
                      <a:arcTo wR="10800" hR="10800" stAng="-7824396" swAng="44557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99" y="2576"/>
                      </a:moveTo>
                      <a:arcTo wR="10800" hR="10800" stAng="-7824396" swAng="4455715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419760" y="2491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04280" y="346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3354120" y="2514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5484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3059280" y="3149640"/>
              <a:ext cx="549360" cy="317520"/>
              <a:chOff x="3059280" y="3149640"/>
              <a:chExt cx="549360" cy="317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3059280" y="316548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119400" y="3149640"/>
                <a:ext cx="183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119760" y="345456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2200" y="3149640"/>
                <a:ext cx="136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286440" y="3162240"/>
                <a:ext cx="183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 flipV="1">
              <a:off x="3962520" y="4457160"/>
              <a:ext cx="76320" cy="75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4038840" y="20937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2098080" y="2133720"/>
              <a:ext cx="482400" cy="2364480"/>
              <a:chOff x="2098080" y="2133720"/>
              <a:chExt cx="482400" cy="2364480"/>
            </a:xfrm>
          </p:grpSpPr>
          <p:sp>
            <p:nvSpPr>
              <p:cNvPr id="1429" name=""/>
              <p:cNvSpPr/>
              <p:nvPr/>
            </p:nvSpPr>
            <p:spPr>
              <a:xfrm>
                <a:off x="2098080" y="287928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106360" y="2133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127600" y="403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3607920" y="287460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6241320" y="380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整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4959360" y="5097600"/>
            <a:ext cx="3258720" cy="357120"/>
            <a:chOff x="4959360" y="5097600"/>
            <a:chExt cx="3258720" cy="357120"/>
          </a:xfrm>
        </p:grpSpPr>
        <p:grpSp>
          <p:nvGrpSpPr>
            <p:cNvPr id="1435" name=""/>
            <p:cNvGrpSpPr/>
            <p:nvPr/>
          </p:nvGrpSpPr>
          <p:grpSpPr>
            <a:xfrm>
              <a:off x="4959360" y="5115240"/>
              <a:ext cx="1136160" cy="339480"/>
              <a:chOff x="4959360" y="5115240"/>
              <a:chExt cx="1136160" cy="339480"/>
            </a:xfrm>
          </p:grpSpPr>
          <p:sp>
            <p:nvSpPr>
              <p:cNvPr id="1436" name=""/>
              <p:cNvSpPr/>
              <p:nvPr/>
            </p:nvSpPr>
            <p:spPr>
              <a:xfrm>
                <a:off x="5186520" y="5132880"/>
                <a:ext cx="6465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 flipH="1">
                <a:off x="5833440" y="5115240"/>
                <a:ext cx="262080" cy="3394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>
                <a:off x="4959360" y="5115240"/>
                <a:ext cx="262080" cy="3394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7166160" y="5097600"/>
              <a:ext cx="1051920" cy="338040"/>
              <a:chOff x="7166160" y="5097600"/>
              <a:chExt cx="1051920" cy="338040"/>
            </a:xfrm>
          </p:grpSpPr>
          <p:sp>
            <p:nvSpPr>
              <p:cNvPr id="1440" name=""/>
              <p:cNvSpPr/>
              <p:nvPr/>
            </p:nvSpPr>
            <p:spPr>
              <a:xfrm>
                <a:off x="7376400" y="5115240"/>
                <a:ext cx="59868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 flipH="1">
                <a:off x="7975440" y="509760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>
                <a:off x="7166160" y="509760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6095880" y="5116680"/>
              <a:ext cx="1052280" cy="338040"/>
              <a:chOff x="6095880" y="5116680"/>
              <a:chExt cx="1052280" cy="338040"/>
            </a:xfrm>
          </p:grpSpPr>
          <p:sp>
            <p:nvSpPr>
              <p:cNvPr id="1444" name=""/>
              <p:cNvSpPr/>
              <p:nvPr/>
            </p:nvSpPr>
            <p:spPr>
              <a:xfrm>
                <a:off x="6306120" y="5134320"/>
                <a:ext cx="5990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 flipH="1">
                <a:off x="6905520" y="511668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6095880" y="5116680"/>
                <a:ext cx="242640" cy="3380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4230720" y="1035000"/>
            <a:ext cx="4523400" cy="1674360"/>
            <a:chOff x="4230720" y="1035000"/>
            <a:chExt cx="4523400" cy="1674360"/>
          </a:xfrm>
        </p:grpSpPr>
        <p:grpSp>
          <p:nvGrpSpPr>
            <p:cNvPr id="1448" name=""/>
            <p:cNvGrpSpPr/>
            <p:nvPr/>
          </p:nvGrpSpPr>
          <p:grpSpPr>
            <a:xfrm>
              <a:off x="4230720" y="1035000"/>
              <a:ext cx="4523400" cy="1674360"/>
              <a:chOff x="4230720" y="1035000"/>
              <a:chExt cx="4523400" cy="1674360"/>
            </a:xfrm>
          </p:grpSpPr>
          <p:grpSp>
            <p:nvGrpSpPr>
              <p:cNvPr id="1449" name=""/>
              <p:cNvGrpSpPr/>
              <p:nvPr/>
            </p:nvGrpSpPr>
            <p:grpSpPr>
              <a:xfrm>
                <a:off x="4230720" y="1035000"/>
                <a:ext cx="4523400" cy="1674360"/>
                <a:chOff x="4230720" y="1035000"/>
                <a:chExt cx="4523400" cy="1674360"/>
              </a:xfrm>
            </p:grpSpPr>
            <p:grpSp>
              <p:nvGrpSpPr>
                <p:cNvPr id="1450" name=""/>
                <p:cNvGrpSpPr/>
                <p:nvPr/>
              </p:nvGrpSpPr>
              <p:grpSpPr>
                <a:xfrm>
                  <a:off x="4230720" y="1399320"/>
                  <a:ext cx="4490640" cy="1310040"/>
                  <a:chOff x="4230720" y="1399320"/>
                  <a:chExt cx="4490640" cy="1310040"/>
                </a:xfrm>
              </p:grpSpPr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4971960" y="1615680"/>
                    <a:ext cx="3312720" cy="1093680"/>
                    <a:chOff x="4971960" y="1615680"/>
                    <a:chExt cx="3312720" cy="1093680"/>
                  </a:xfrm>
                </p:grpSpPr>
                <p:sp>
                  <p:nvSpPr>
                    <p:cNvPr id="1452" name="未知"/>
                    <p:cNvSpPr/>
                    <p:nvPr/>
                  </p:nvSpPr>
                  <p:spPr>
                    <a:xfrm flipV="1">
                      <a:off x="4971960" y="1635120"/>
                      <a:ext cx="1105920" cy="54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433">
                          <a:moveTo>
                            <a:pt x="0" y="0"/>
                          </a:moveTo>
                          <a:lnTo>
                            <a:pt x="66" y="118"/>
                          </a:lnTo>
                          <a:lnTo>
                            <a:pt x="132" y="220"/>
                          </a:lnTo>
                          <a:lnTo>
                            <a:pt x="198" y="308"/>
                          </a:lnTo>
                          <a:lnTo>
                            <a:pt x="264" y="381"/>
                          </a:lnTo>
                          <a:lnTo>
                            <a:pt x="319" y="418"/>
                          </a:lnTo>
                          <a:lnTo>
                            <a:pt x="385" y="432"/>
                          </a:lnTo>
                          <a:lnTo>
                            <a:pt x="451" y="418"/>
                          </a:lnTo>
                          <a:lnTo>
                            <a:pt x="517" y="381"/>
                          </a:lnTo>
                          <a:lnTo>
                            <a:pt x="583" y="308"/>
                          </a:lnTo>
                          <a:lnTo>
                            <a:pt x="649" y="220"/>
                          </a:lnTo>
                          <a:lnTo>
                            <a:pt x="715" y="110"/>
                          </a:lnTo>
                          <a:lnTo>
                            <a:pt x="781" y="0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未知"/>
                    <p:cNvSpPr/>
                    <p:nvPr/>
                  </p:nvSpPr>
                  <p:spPr>
                    <a:xfrm flipV="1">
                      <a:off x="6059520" y="2160720"/>
                      <a:ext cx="1108800" cy="54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4" h="433">
                          <a:moveTo>
                            <a:pt x="783" y="432"/>
                          </a:moveTo>
                          <a:lnTo>
                            <a:pt x="716" y="315"/>
                          </a:lnTo>
                          <a:lnTo>
                            <a:pt x="650" y="213"/>
                          </a:lnTo>
                          <a:lnTo>
                            <a:pt x="584" y="125"/>
                          </a:lnTo>
                          <a:lnTo>
                            <a:pt x="518" y="52"/>
                          </a:lnTo>
                          <a:lnTo>
                            <a:pt x="463" y="15"/>
                          </a:lnTo>
                          <a:lnTo>
                            <a:pt x="397" y="0"/>
                          </a:lnTo>
                          <a:lnTo>
                            <a:pt x="330" y="15"/>
                          </a:lnTo>
                          <a:lnTo>
                            <a:pt x="264" y="52"/>
                          </a:lnTo>
                          <a:lnTo>
                            <a:pt x="198" y="125"/>
                          </a:lnTo>
                          <a:lnTo>
                            <a:pt x="132" y="213"/>
                          </a:lnTo>
                          <a:lnTo>
                            <a:pt x="66" y="323"/>
                          </a:lnTo>
                          <a:lnTo>
                            <a:pt x="0" y="432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未知"/>
                    <p:cNvSpPr/>
                    <p:nvPr/>
                  </p:nvSpPr>
                  <p:spPr>
                    <a:xfrm flipV="1">
                      <a:off x="7178400" y="1615320"/>
                      <a:ext cx="110628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433">
                          <a:moveTo>
                            <a:pt x="0" y="0"/>
                          </a:moveTo>
                          <a:lnTo>
                            <a:pt x="66" y="118"/>
                          </a:lnTo>
                          <a:lnTo>
                            <a:pt x="132" y="220"/>
                          </a:lnTo>
                          <a:lnTo>
                            <a:pt x="198" y="308"/>
                          </a:lnTo>
                          <a:lnTo>
                            <a:pt x="264" y="381"/>
                          </a:lnTo>
                          <a:lnTo>
                            <a:pt x="319" y="418"/>
                          </a:lnTo>
                          <a:lnTo>
                            <a:pt x="385" y="432"/>
                          </a:lnTo>
                          <a:lnTo>
                            <a:pt x="451" y="418"/>
                          </a:lnTo>
                          <a:lnTo>
                            <a:pt x="517" y="381"/>
                          </a:lnTo>
                          <a:lnTo>
                            <a:pt x="583" y="308"/>
                          </a:lnTo>
                          <a:lnTo>
                            <a:pt x="649" y="220"/>
                          </a:lnTo>
                          <a:lnTo>
                            <a:pt x="715" y="110"/>
                          </a:lnTo>
                          <a:lnTo>
                            <a:pt x="781" y="0"/>
                          </a:lnTo>
                        </a:path>
                      </a:pathLst>
                    </a:custGeom>
                    <a:noFill/>
                    <a:ln cap="rnd"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4230720" y="1399320"/>
                    <a:ext cx="4490640" cy="520560"/>
                    <a:chOff x="4230720" y="1399320"/>
                    <a:chExt cx="4490640" cy="52056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 flipV="1">
                      <a:off x="4970520" y="1607400"/>
                      <a:ext cx="3750840" cy="16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4230720" y="1399320"/>
                      <a:ext cx="767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楷体_GB2312"/>
                        </a:rPr>
                        <a:t>U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楷体_GB2312"/>
                        </a:rPr>
                        <a:t>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4952880" y="1035000"/>
                  <a:ext cx="3801240" cy="1587240"/>
                  <a:chOff x="4952880" y="1035000"/>
                  <a:chExt cx="3801240" cy="158724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8230680" y="2101680"/>
                    <a:ext cx="523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460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952880" y="1035000"/>
                    <a:ext cx="33156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1" name=""/>
                  <p:cNvSpPr/>
                  <p:nvPr/>
                </p:nvSpPr>
                <p:spPr>
                  <a:xfrm>
                    <a:off x="4952880" y="2178000"/>
                    <a:ext cx="3733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V="1">
                    <a:off x="4952880" y="1110960"/>
                    <a:ext cx="0" cy="1074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3" name=""/>
              <p:cNvSpPr/>
              <p:nvPr/>
            </p:nvSpPr>
            <p:spPr>
              <a:xfrm>
                <a:off x="4573800" y="1949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33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5106600" y="1139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4572000" y="2635200"/>
            <a:ext cx="4189320" cy="1663560"/>
            <a:chOff x="4572000" y="2635200"/>
            <a:chExt cx="4189320" cy="1663560"/>
          </a:xfrm>
        </p:grpSpPr>
        <p:grpSp>
          <p:nvGrpSpPr>
            <p:cNvPr id="1466" name=""/>
            <p:cNvGrpSpPr/>
            <p:nvPr/>
          </p:nvGrpSpPr>
          <p:grpSpPr>
            <a:xfrm>
              <a:off x="4959360" y="2635200"/>
              <a:ext cx="3801960" cy="1663560"/>
              <a:chOff x="4959360" y="2635200"/>
              <a:chExt cx="3801960" cy="1663560"/>
            </a:xfrm>
          </p:grpSpPr>
          <p:sp>
            <p:nvSpPr>
              <p:cNvPr id="1467" name=""/>
              <p:cNvSpPr/>
              <p:nvPr/>
            </p:nvSpPr>
            <p:spPr>
              <a:xfrm>
                <a:off x="8237880" y="3778200"/>
                <a:ext cx="5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59360" y="3854520"/>
                <a:ext cx="373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4959360" y="2787480"/>
                <a:ext cx="0" cy="10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3360" y="2635200"/>
                <a:ext cx="49860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1" name=""/>
            <p:cNvSpPr/>
            <p:nvPr/>
          </p:nvSpPr>
          <p:spPr>
            <a:xfrm>
              <a:off x="4572000" y="35812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574160" y="4251240"/>
            <a:ext cx="4187160" cy="1647720"/>
            <a:chOff x="4574160" y="4251240"/>
            <a:chExt cx="4187160" cy="1647720"/>
          </a:xfrm>
        </p:grpSpPr>
        <p:grpSp>
          <p:nvGrpSpPr>
            <p:cNvPr id="1473" name=""/>
            <p:cNvGrpSpPr/>
            <p:nvPr/>
          </p:nvGrpSpPr>
          <p:grpSpPr>
            <a:xfrm>
              <a:off x="4959360" y="4251240"/>
              <a:ext cx="3801960" cy="1647720"/>
              <a:chOff x="4959360" y="4251240"/>
              <a:chExt cx="3801960" cy="1647720"/>
            </a:xfrm>
          </p:grpSpPr>
          <p:pic>
            <p:nvPicPr>
              <p:cNvPr id="14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251240"/>
                <a:ext cx="465120" cy="566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75" name=""/>
              <p:cNvGrpSpPr/>
              <p:nvPr/>
            </p:nvGrpSpPr>
            <p:grpSpPr>
              <a:xfrm>
                <a:off x="4959360" y="4387320"/>
                <a:ext cx="3801960" cy="1511640"/>
                <a:chOff x="4959360" y="4387320"/>
                <a:chExt cx="3801960" cy="151164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8237880" y="5378400"/>
                  <a:ext cx="52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959360" y="5454360"/>
                  <a:ext cx="3733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4959360" y="4387320"/>
                  <a:ext cx="0" cy="1074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9" name=""/>
            <p:cNvSpPr/>
            <p:nvPr/>
          </p:nvSpPr>
          <p:spPr>
            <a:xfrm>
              <a:off x="4574160" y="5257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457200" y="24228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触发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5181480" y="2362320"/>
            <a:ext cx="228600" cy="2057040"/>
            <a:chOff x="5181480" y="2362320"/>
            <a:chExt cx="228600" cy="2057040"/>
          </a:xfrm>
        </p:grpSpPr>
        <p:sp>
          <p:nvSpPr>
            <p:cNvPr id="1482" name=""/>
            <p:cNvSpPr/>
            <p:nvPr/>
          </p:nvSpPr>
          <p:spPr>
            <a:xfrm>
              <a:off x="5181480" y="2362320"/>
              <a:ext cx="0" cy="196200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10080" y="2934000"/>
              <a:ext cx="0" cy="148536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5780160" y="2362320"/>
            <a:ext cx="239760" cy="2057040"/>
            <a:chOff x="5780160" y="2362320"/>
            <a:chExt cx="239760" cy="2057040"/>
          </a:xfrm>
        </p:grpSpPr>
        <p:sp>
          <p:nvSpPr>
            <p:cNvPr id="1485" name=""/>
            <p:cNvSpPr/>
            <p:nvPr/>
          </p:nvSpPr>
          <p:spPr>
            <a:xfrm>
              <a:off x="5780160" y="2362320"/>
              <a:ext cx="0" cy="203076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019920" y="2861280"/>
              <a:ext cx="0" cy="155808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791320" y="3903840"/>
            <a:ext cx="239400" cy="531720"/>
            <a:chOff x="5791320" y="3903840"/>
            <a:chExt cx="239400" cy="531720"/>
          </a:xfrm>
        </p:grpSpPr>
        <p:sp>
          <p:nvSpPr>
            <p:cNvPr id="1488" name=""/>
            <p:cNvSpPr/>
            <p:nvPr/>
          </p:nvSpPr>
          <p:spPr>
            <a:xfrm>
              <a:off x="5791320" y="3920760"/>
              <a:ext cx="0" cy="514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未知"/>
            <p:cNvSpPr/>
            <p:nvPr/>
          </p:nvSpPr>
          <p:spPr>
            <a:xfrm>
              <a:off x="5815080" y="3903840"/>
              <a:ext cx="215640" cy="5317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833280" y="3544560"/>
            <a:ext cx="4624920" cy="560880"/>
            <a:chOff x="3833280" y="3544560"/>
            <a:chExt cx="4624920" cy="560880"/>
          </a:xfrm>
        </p:grpSpPr>
        <p:sp>
          <p:nvSpPr>
            <p:cNvPr id="1491" name=""/>
            <p:cNvSpPr/>
            <p:nvPr/>
          </p:nvSpPr>
          <p:spPr>
            <a:xfrm>
              <a:off x="4764240" y="3900240"/>
              <a:ext cx="3693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33280" y="3544560"/>
              <a:ext cx="10263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63560" y="883800"/>
            <a:ext cx="3122640" cy="2697120"/>
            <a:chOff x="763560" y="883800"/>
            <a:chExt cx="3122640" cy="2697120"/>
          </a:xfrm>
        </p:grpSpPr>
        <p:sp>
          <p:nvSpPr>
            <p:cNvPr id="1494" name=""/>
            <p:cNvSpPr/>
            <p:nvPr/>
          </p:nvSpPr>
          <p:spPr>
            <a:xfrm>
              <a:off x="2562120" y="289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019680" y="944640"/>
              <a:ext cx="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376720" y="1107360"/>
              <a:ext cx="5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87720" y="10260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07160" y="265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59040" y="3051000"/>
              <a:ext cx="0" cy="4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1683000" y="2905200"/>
              <a:ext cx="328320" cy="145800"/>
              <a:chOff x="1683000" y="2905200"/>
              <a:chExt cx="328320" cy="145800"/>
            </a:xfrm>
          </p:grpSpPr>
          <p:sp>
            <p:nvSpPr>
              <p:cNvPr id="1501" name=""/>
              <p:cNvSpPr/>
              <p:nvPr/>
            </p:nvSpPr>
            <p:spPr>
              <a:xfrm>
                <a:off x="1683000" y="2905200"/>
                <a:ext cx="32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683000" y="3051000"/>
                <a:ext cx="32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3" name=""/>
            <p:cNvSpPr/>
            <p:nvPr/>
          </p:nvSpPr>
          <p:spPr>
            <a:xfrm>
              <a:off x="1855800" y="2198520"/>
              <a:ext cx="0" cy="68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1957320" y="2394000"/>
              <a:ext cx="523800" cy="901080"/>
              <a:chOff x="1957320" y="2394000"/>
              <a:chExt cx="523800" cy="901080"/>
            </a:xfrm>
          </p:grpSpPr>
          <p:sp>
            <p:nvSpPr>
              <p:cNvPr id="1505" name=""/>
              <p:cNvSpPr/>
              <p:nvPr/>
            </p:nvSpPr>
            <p:spPr>
              <a:xfrm>
                <a:off x="1962000" y="26103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57320" y="2394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46600" y="3295080"/>
                <a:ext cx="169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2960640" y="2968560"/>
              <a:ext cx="135000" cy="366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025800" y="3333600"/>
              <a:ext cx="0" cy="20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25800" y="247788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46440" y="939600"/>
              <a:ext cx="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63720" y="1558800"/>
              <a:ext cx="0" cy="27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75120" y="920520"/>
              <a:ext cx="0" cy="4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1928880" y="1330200"/>
              <a:ext cx="24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56120" y="1739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949840" y="1452600"/>
              <a:ext cx="134640" cy="36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29040" y="1814400"/>
              <a:ext cx="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811600" y="2149200"/>
              <a:ext cx="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2590920" y="2290320"/>
              <a:ext cx="22068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70440" y="2809800"/>
              <a:ext cx="49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  <a:ea typeface="楷体_GB2312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041640" y="2641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78440" y="3460680"/>
              <a:ext cx="168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827360" y="2477880"/>
              <a:ext cx="77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74880" y="3537000"/>
              <a:ext cx="28368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74880" y="9381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5960" y="1832040"/>
              <a:ext cx="135000" cy="36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5960" y="1193760"/>
              <a:ext cx="135000" cy="365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72920" y="1914480"/>
              <a:ext cx="4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903240" y="883440"/>
              <a:ext cx="7488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943200" y="3506040"/>
              <a:ext cx="7308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3811680" y="269316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3811680" y="3506040"/>
              <a:ext cx="74520" cy="74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3560" y="92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03240" y="3403440"/>
              <a:ext cx="1684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19520" y="223200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19520" y="24778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32280" y="2728800"/>
              <a:ext cx="77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6248520" y="2666880"/>
            <a:ext cx="177840" cy="1752480"/>
            <a:chOff x="6248520" y="2666880"/>
            <a:chExt cx="177840" cy="1752480"/>
          </a:xfrm>
        </p:grpSpPr>
        <p:sp>
          <p:nvSpPr>
            <p:cNvPr id="1539" name=""/>
            <p:cNvSpPr/>
            <p:nvPr/>
          </p:nvSpPr>
          <p:spPr>
            <a:xfrm>
              <a:off x="6426360" y="2877120"/>
              <a:ext cx="0" cy="154224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48520" y="2666880"/>
              <a:ext cx="0" cy="1667880"/>
            </a:xfrm>
            <a:prstGeom prst="line">
              <a:avLst/>
            </a:prstGeom>
            <a:ln w="1908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8472600" y="5772240"/>
            <a:ext cx="190440" cy="1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4857840" y="4495680"/>
            <a:ext cx="552240" cy="56700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2"/>
          <a:stretch/>
        </p:blipFill>
        <p:spPr>
          <a:xfrm>
            <a:off x="4853160" y="3200400"/>
            <a:ext cx="514080" cy="633240"/>
          </a:xfrm>
          <a:prstGeom prst="rect">
            <a:avLst/>
          </a:prstGeom>
          <a:ln w="0">
            <a:noFill/>
          </a:ln>
        </p:spPr>
      </p:pic>
      <p:grpSp>
        <p:nvGrpSpPr>
          <p:cNvPr id="1544" name=""/>
          <p:cNvGrpSpPr/>
          <p:nvPr/>
        </p:nvGrpSpPr>
        <p:grpSpPr>
          <a:xfrm>
            <a:off x="4778280" y="3368160"/>
            <a:ext cx="4135320" cy="1511640"/>
            <a:chOff x="4778280" y="3368160"/>
            <a:chExt cx="4135320" cy="1511640"/>
          </a:xfrm>
        </p:grpSpPr>
        <p:sp>
          <p:nvSpPr>
            <p:cNvPr id="1545" name=""/>
            <p:cNvSpPr/>
            <p:nvPr/>
          </p:nvSpPr>
          <p:spPr>
            <a:xfrm>
              <a:off x="8390160" y="435924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78280" y="4435200"/>
              <a:ext cx="41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4778280" y="3368160"/>
              <a:ext cx="0" cy="10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8412480" y="571356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800600" y="5789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4800600" y="4722480"/>
            <a:ext cx="0" cy="10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未知"/>
          <p:cNvSpPr/>
          <p:nvPr/>
        </p:nvSpPr>
        <p:spPr>
          <a:xfrm>
            <a:off x="5181480" y="2338560"/>
            <a:ext cx="235080" cy="57924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未知"/>
          <p:cNvSpPr/>
          <p:nvPr/>
        </p:nvSpPr>
        <p:spPr>
          <a:xfrm flipV="1">
            <a:off x="5410080" y="2344680"/>
            <a:ext cx="408240" cy="5508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未知"/>
          <p:cNvSpPr/>
          <p:nvPr/>
        </p:nvSpPr>
        <p:spPr>
          <a:xfrm>
            <a:off x="5791320" y="2340000"/>
            <a:ext cx="239760" cy="54288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3"/>
          <a:stretch/>
        </p:blipFill>
        <p:spPr>
          <a:xfrm>
            <a:off x="4835520" y="1752480"/>
            <a:ext cx="550800" cy="600120"/>
          </a:xfrm>
          <a:prstGeom prst="rect">
            <a:avLst/>
          </a:prstGeom>
          <a:ln w="0">
            <a:noFill/>
          </a:ln>
        </p:spPr>
      </p:pic>
      <p:grpSp>
        <p:nvGrpSpPr>
          <p:cNvPr id="1555" name=""/>
          <p:cNvGrpSpPr/>
          <p:nvPr/>
        </p:nvGrpSpPr>
        <p:grpSpPr>
          <a:xfrm>
            <a:off x="4269240" y="2513880"/>
            <a:ext cx="4112640" cy="520560"/>
            <a:chOff x="4269240" y="2513880"/>
            <a:chExt cx="4112640" cy="520560"/>
          </a:xfrm>
        </p:grpSpPr>
        <p:sp>
          <p:nvSpPr>
            <p:cNvPr id="1556" name=""/>
            <p:cNvSpPr/>
            <p:nvPr/>
          </p:nvSpPr>
          <p:spPr>
            <a:xfrm flipV="1">
              <a:off x="4809960" y="2895120"/>
              <a:ext cx="3571920" cy="1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69240" y="2513880"/>
              <a:ext cx="55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767120" y="2209680"/>
            <a:ext cx="3334680" cy="772920"/>
            <a:chOff x="4767120" y="2209680"/>
            <a:chExt cx="3334680" cy="772920"/>
          </a:xfrm>
        </p:grpSpPr>
        <p:sp>
          <p:nvSpPr>
            <p:cNvPr id="1559" name="未知"/>
            <p:cNvSpPr/>
            <p:nvPr/>
          </p:nvSpPr>
          <p:spPr>
            <a:xfrm flipH="1">
              <a:off x="6045840" y="2229120"/>
              <a:ext cx="384120" cy="75348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0" y="228"/>
                  </a:moveTo>
                  <a:cubicBezTo>
                    <a:pt x="5" y="211"/>
                    <a:pt x="10" y="194"/>
                    <a:pt x="36" y="156"/>
                  </a:cubicBezTo>
                  <a:cubicBezTo>
                    <a:pt x="62" y="118"/>
                    <a:pt x="136" y="28"/>
                    <a:pt x="15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00480" y="2249640"/>
              <a:ext cx="94608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4767120" y="2209680"/>
              <a:ext cx="384120" cy="75348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0" y="228"/>
                  </a:moveTo>
                  <a:cubicBezTo>
                    <a:pt x="5" y="211"/>
                    <a:pt x="10" y="194"/>
                    <a:pt x="36" y="156"/>
                  </a:cubicBezTo>
                  <a:cubicBezTo>
                    <a:pt x="62" y="118"/>
                    <a:pt x="136" y="28"/>
                    <a:pt x="15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"/>
            <p:cNvGrpSpPr/>
            <p:nvPr/>
          </p:nvGrpSpPr>
          <p:grpSpPr>
            <a:xfrm>
              <a:off x="6437160" y="2212920"/>
              <a:ext cx="1664640" cy="756720"/>
              <a:chOff x="6437160" y="2212920"/>
              <a:chExt cx="1664640" cy="756720"/>
            </a:xfrm>
          </p:grpSpPr>
          <p:sp>
            <p:nvSpPr>
              <p:cNvPr id="1563" name="未知"/>
              <p:cNvSpPr/>
              <p:nvPr/>
            </p:nvSpPr>
            <p:spPr>
              <a:xfrm flipH="1">
                <a:off x="7717320" y="2231640"/>
                <a:ext cx="384120" cy="7380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769800" y="2252160"/>
                <a:ext cx="9478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未知"/>
              <p:cNvSpPr/>
              <p:nvPr/>
            </p:nvSpPr>
            <p:spPr>
              <a:xfrm>
                <a:off x="6437160" y="2212920"/>
                <a:ext cx="384120" cy="7380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6" name=""/>
          <p:cNvGrpSpPr/>
          <p:nvPr/>
        </p:nvGrpSpPr>
        <p:grpSpPr>
          <a:xfrm>
            <a:off x="6259680" y="4102200"/>
            <a:ext cx="161640" cy="333360"/>
            <a:chOff x="6259680" y="4102200"/>
            <a:chExt cx="161640" cy="333360"/>
          </a:xfrm>
        </p:grpSpPr>
        <p:sp>
          <p:nvSpPr>
            <p:cNvPr id="1567" name="未知"/>
            <p:cNvSpPr/>
            <p:nvPr/>
          </p:nvSpPr>
          <p:spPr>
            <a:xfrm>
              <a:off x="6275880" y="4102200"/>
              <a:ext cx="145440" cy="33336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59680" y="4112640"/>
              <a:ext cx="0" cy="322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6832440" y="2362320"/>
            <a:ext cx="1298520" cy="2056680"/>
            <a:chOff x="6832440" y="2362320"/>
            <a:chExt cx="1298520" cy="2056680"/>
          </a:xfrm>
        </p:grpSpPr>
        <p:grpSp>
          <p:nvGrpSpPr>
            <p:cNvPr id="1570" name=""/>
            <p:cNvGrpSpPr/>
            <p:nvPr/>
          </p:nvGrpSpPr>
          <p:grpSpPr>
            <a:xfrm>
              <a:off x="6832440" y="2362320"/>
              <a:ext cx="237960" cy="2040840"/>
              <a:chOff x="6832440" y="2362320"/>
              <a:chExt cx="237960" cy="204084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32440" y="2362320"/>
                <a:ext cx="0" cy="19465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70400" y="2929680"/>
                <a:ext cx="0" cy="147348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7456320" y="2362320"/>
              <a:ext cx="239760" cy="2046600"/>
              <a:chOff x="7456320" y="2362320"/>
              <a:chExt cx="239760" cy="2046600"/>
            </a:xfrm>
          </p:grpSpPr>
          <p:sp>
            <p:nvSpPr>
              <p:cNvPr id="1574" name=""/>
              <p:cNvSpPr/>
              <p:nvPr/>
            </p:nvSpPr>
            <p:spPr>
              <a:xfrm>
                <a:off x="7456320" y="2362320"/>
                <a:ext cx="0" cy="20203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696080" y="2858760"/>
                <a:ext cx="0" cy="155016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7953120" y="2646000"/>
              <a:ext cx="177840" cy="1773000"/>
              <a:chOff x="7953120" y="2646000"/>
              <a:chExt cx="177840" cy="1773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8130960" y="2858760"/>
                <a:ext cx="0" cy="156024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53120" y="2646000"/>
                <a:ext cx="0" cy="1687320"/>
              </a:xfrm>
              <a:prstGeom prst="line">
                <a:avLst/>
              </a:prstGeom>
              <a:ln w="19080">
                <a:solidFill>
                  <a:srgbClr val="66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9" name=""/>
          <p:cNvGrpSpPr/>
          <p:nvPr/>
        </p:nvGrpSpPr>
        <p:grpSpPr>
          <a:xfrm>
            <a:off x="6442200" y="2328840"/>
            <a:ext cx="1671120" cy="642960"/>
            <a:chOff x="6442200" y="2328840"/>
            <a:chExt cx="1671120" cy="642960"/>
          </a:xfrm>
        </p:grpSpPr>
        <p:sp>
          <p:nvSpPr>
            <p:cNvPr id="1580" name="未知"/>
            <p:cNvSpPr/>
            <p:nvPr/>
          </p:nvSpPr>
          <p:spPr>
            <a:xfrm>
              <a:off x="6858000" y="2328840"/>
              <a:ext cx="235080" cy="57960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未知"/>
            <p:cNvSpPr/>
            <p:nvPr/>
          </p:nvSpPr>
          <p:spPr>
            <a:xfrm flipV="1">
              <a:off x="7086600" y="2335320"/>
              <a:ext cx="408240" cy="55080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未知"/>
            <p:cNvSpPr/>
            <p:nvPr/>
          </p:nvSpPr>
          <p:spPr>
            <a:xfrm>
              <a:off x="7467840" y="2330280"/>
              <a:ext cx="239760" cy="54324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未知"/>
            <p:cNvSpPr/>
            <p:nvPr/>
          </p:nvSpPr>
          <p:spPr>
            <a:xfrm flipV="1">
              <a:off x="6442200" y="2352600"/>
              <a:ext cx="415800" cy="619200"/>
            </a:xfrm>
            <a:custGeom>
              <a:avLst/>
              <a:gdLst/>
              <a:ahLst/>
              <a:rect l="l" t="t" r="r" b="b"/>
              <a:pathLst>
                <a:path w="228" h="144">
                  <a:moveTo>
                    <a:pt x="0" y="0"/>
                  </a:moveTo>
                  <a:cubicBezTo>
                    <a:pt x="23" y="36"/>
                    <a:pt x="46" y="72"/>
                    <a:pt x="84" y="96"/>
                  </a:cubicBezTo>
                  <a:cubicBezTo>
                    <a:pt x="122" y="120"/>
                    <a:pt x="208" y="138"/>
                    <a:pt x="228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7696440" y="2666880"/>
              <a:ext cx="416880" cy="268200"/>
              <a:chOff x="7696440" y="2666880"/>
              <a:chExt cx="416880" cy="268200"/>
            </a:xfrm>
          </p:grpSpPr>
          <p:sp>
            <p:nvSpPr>
              <p:cNvPr id="1585" name="未知"/>
              <p:cNvSpPr/>
              <p:nvPr/>
            </p:nvSpPr>
            <p:spPr>
              <a:xfrm flipV="1">
                <a:off x="7696440" y="266760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28" h="144">
                    <a:moveTo>
                      <a:pt x="0" y="0"/>
                    </a:moveTo>
                    <a:cubicBezTo>
                      <a:pt x="23" y="36"/>
                      <a:pt x="46" y="72"/>
                      <a:pt x="84" y="96"/>
                    </a:cubicBezTo>
                    <a:cubicBezTo>
                      <a:pt x="122" y="120"/>
                      <a:pt x="208" y="138"/>
                      <a:pt x="228" y="144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未知"/>
              <p:cNvSpPr/>
              <p:nvPr/>
            </p:nvSpPr>
            <p:spPr>
              <a:xfrm>
                <a:off x="7974000" y="2666880"/>
                <a:ext cx="139320" cy="26820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7" name=""/>
          <p:cNvGrpSpPr/>
          <p:nvPr/>
        </p:nvGrpSpPr>
        <p:grpSpPr>
          <a:xfrm>
            <a:off x="4269600" y="2058120"/>
            <a:ext cx="4112280" cy="520560"/>
            <a:chOff x="4269600" y="2058120"/>
            <a:chExt cx="4112280" cy="520560"/>
          </a:xfrm>
        </p:grpSpPr>
        <p:sp>
          <p:nvSpPr>
            <p:cNvPr id="1588" name=""/>
            <p:cNvSpPr/>
            <p:nvPr/>
          </p:nvSpPr>
          <p:spPr>
            <a:xfrm>
              <a:off x="4862520" y="2334960"/>
              <a:ext cx="3519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69600" y="2058120"/>
              <a:ext cx="56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未知"/>
          <p:cNvSpPr/>
          <p:nvPr/>
        </p:nvSpPr>
        <p:spPr>
          <a:xfrm flipV="1">
            <a:off x="4800600" y="2361600"/>
            <a:ext cx="380880" cy="61884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未知"/>
          <p:cNvSpPr/>
          <p:nvPr/>
        </p:nvSpPr>
        <p:spPr>
          <a:xfrm flipV="1">
            <a:off x="6019920" y="2666160"/>
            <a:ext cx="304560" cy="2286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0"/>
                </a:moveTo>
                <a:cubicBezTo>
                  <a:pt x="23" y="36"/>
                  <a:pt x="46" y="72"/>
                  <a:pt x="84" y="96"/>
                </a:cubicBezTo>
                <a:cubicBezTo>
                  <a:pt x="122" y="120"/>
                  <a:pt x="208" y="138"/>
                  <a:pt x="228" y="1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未知"/>
          <p:cNvSpPr/>
          <p:nvPr/>
        </p:nvSpPr>
        <p:spPr>
          <a:xfrm>
            <a:off x="6297480" y="2665440"/>
            <a:ext cx="139680" cy="268200"/>
          </a:xfrm>
          <a:custGeom>
            <a:avLst/>
            <a:gdLst/>
            <a:ahLst/>
            <a:rect l="l" t="t" r="r" b="b"/>
            <a:pathLst>
              <a:path w="180" h="336">
                <a:moveTo>
                  <a:pt x="0" y="0"/>
                </a:moveTo>
                <a:cubicBezTo>
                  <a:pt x="9" y="44"/>
                  <a:pt x="18" y="88"/>
                  <a:pt x="48" y="144"/>
                </a:cubicBezTo>
                <a:cubicBezTo>
                  <a:pt x="78" y="200"/>
                  <a:pt x="154" y="306"/>
                  <a:pt x="180" y="3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5194440" y="3902040"/>
            <a:ext cx="228240" cy="531720"/>
            <a:chOff x="5194440" y="3902040"/>
            <a:chExt cx="228240" cy="531720"/>
          </a:xfrm>
        </p:grpSpPr>
        <p:sp>
          <p:nvSpPr>
            <p:cNvPr id="1594" name=""/>
            <p:cNvSpPr/>
            <p:nvPr/>
          </p:nvSpPr>
          <p:spPr>
            <a:xfrm>
              <a:off x="5194440" y="3918960"/>
              <a:ext cx="0" cy="514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未知"/>
            <p:cNvSpPr/>
            <p:nvPr/>
          </p:nvSpPr>
          <p:spPr>
            <a:xfrm>
              <a:off x="5217120" y="3902040"/>
              <a:ext cx="205560" cy="5317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0" y="0"/>
                  </a:moveTo>
                  <a:cubicBezTo>
                    <a:pt x="9" y="44"/>
                    <a:pt x="18" y="88"/>
                    <a:pt x="48" y="144"/>
                  </a:cubicBezTo>
                  <a:cubicBezTo>
                    <a:pt x="78" y="200"/>
                    <a:pt x="154" y="306"/>
                    <a:pt x="180" y="336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6850080" y="3905280"/>
            <a:ext cx="1227240" cy="533520"/>
            <a:chOff x="6850080" y="3905280"/>
            <a:chExt cx="1227240" cy="533520"/>
          </a:xfrm>
        </p:grpSpPr>
        <p:grpSp>
          <p:nvGrpSpPr>
            <p:cNvPr id="1597" name=""/>
            <p:cNvGrpSpPr/>
            <p:nvPr/>
          </p:nvGrpSpPr>
          <p:grpSpPr>
            <a:xfrm>
              <a:off x="7458120" y="3906720"/>
              <a:ext cx="228240" cy="532080"/>
              <a:chOff x="7458120" y="3906720"/>
              <a:chExt cx="228240" cy="532080"/>
            </a:xfrm>
          </p:grpSpPr>
          <p:sp>
            <p:nvSpPr>
              <p:cNvPr id="1598" name=""/>
              <p:cNvSpPr/>
              <p:nvPr/>
            </p:nvSpPr>
            <p:spPr>
              <a:xfrm>
                <a:off x="7458120" y="3923640"/>
                <a:ext cx="0" cy="5148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未知"/>
              <p:cNvSpPr/>
              <p:nvPr/>
            </p:nvSpPr>
            <p:spPr>
              <a:xfrm>
                <a:off x="7480800" y="3906720"/>
                <a:ext cx="205560" cy="53208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6850080" y="3905280"/>
              <a:ext cx="228240" cy="531720"/>
              <a:chOff x="6850080" y="3905280"/>
              <a:chExt cx="228240" cy="531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6850080" y="3922200"/>
                <a:ext cx="0" cy="5144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未知"/>
              <p:cNvSpPr/>
              <p:nvPr/>
            </p:nvSpPr>
            <p:spPr>
              <a:xfrm>
                <a:off x="6872760" y="3905280"/>
                <a:ext cx="205560" cy="53172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7915320" y="4105440"/>
              <a:ext cx="162000" cy="333360"/>
              <a:chOff x="7915320" y="4105440"/>
              <a:chExt cx="162000" cy="333360"/>
            </a:xfrm>
          </p:grpSpPr>
          <p:sp>
            <p:nvSpPr>
              <p:cNvPr id="1604" name="未知"/>
              <p:cNvSpPr/>
              <p:nvPr/>
            </p:nvSpPr>
            <p:spPr>
              <a:xfrm>
                <a:off x="7931520" y="4105440"/>
                <a:ext cx="145800" cy="333360"/>
              </a:xfrm>
              <a:custGeom>
                <a:avLst/>
                <a:gdLst/>
                <a:ahLst/>
                <a:rect l="l" t="t" r="r" b="b"/>
                <a:pathLst>
                  <a:path w="180" h="336">
                    <a:moveTo>
                      <a:pt x="0" y="0"/>
                    </a:moveTo>
                    <a:cubicBezTo>
                      <a:pt x="9" y="44"/>
                      <a:pt x="18" y="88"/>
                      <a:pt x="48" y="144"/>
                    </a:cubicBezTo>
                    <a:cubicBezTo>
                      <a:pt x="78" y="200"/>
                      <a:pt x="154" y="306"/>
                      <a:pt x="180" y="336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15320" y="4115880"/>
                <a:ext cx="0" cy="3225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6" name=""/>
          <p:cNvGrpSpPr/>
          <p:nvPr/>
        </p:nvGrpSpPr>
        <p:grpSpPr>
          <a:xfrm>
            <a:off x="5181480" y="914400"/>
            <a:ext cx="2943360" cy="4876560"/>
            <a:chOff x="5181480" y="914400"/>
            <a:chExt cx="2943360" cy="4876560"/>
          </a:xfrm>
        </p:grpSpPr>
        <p:sp>
          <p:nvSpPr>
            <p:cNvPr id="1607" name=""/>
            <p:cNvSpPr/>
            <p:nvPr/>
          </p:nvSpPr>
          <p:spPr>
            <a:xfrm>
              <a:off x="6400800" y="1514520"/>
              <a:ext cx="29880" cy="4276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124840" y="1514520"/>
              <a:ext cx="0" cy="4276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5181480" y="914400"/>
              <a:ext cx="0" cy="4876560"/>
              <a:chOff x="5181480" y="914400"/>
              <a:chExt cx="0" cy="4876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5181480" y="914400"/>
                <a:ext cx="0" cy="187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181480" y="3915720"/>
                <a:ext cx="0" cy="18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823080" y="914400"/>
              <a:ext cx="0" cy="4876560"/>
              <a:chOff x="6823080" y="914400"/>
              <a:chExt cx="0" cy="4876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823080" y="914400"/>
                <a:ext cx="0" cy="187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23080" y="3915720"/>
                <a:ext cx="0" cy="18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5" name=""/>
          <p:cNvGrpSpPr/>
          <p:nvPr/>
        </p:nvGrpSpPr>
        <p:grpSpPr>
          <a:xfrm>
            <a:off x="456480" y="4114800"/>
            <a:ext cx="3429360" cy="2211120"/>
            <a:chOff x="456480" y="4114800"/>
            <a:chExt cx="3429360" cy="2211120"/>
          </a:xfrm>
        </p:grpSpPr>
        <p:sp>
          <p:nvSpPr>
            <p:cNvPr id="1616" name=""/>
            <p:cNvSpPr/>
            <p:nvPr/>
          </p:nvSpPr>
          <p:spPr>
            <a:xfrm>
              <a:off x="1505880" y="4446000"/>
              <a:ext cx="233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704680" y="5042160"/>
              <a:ext cx="86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206880" y="5169960"/>
              <a:ext cx="175320" cy="371160"/>
            </a:xfrm>
            <a:prstGeom prst="rect">
              <a:avLst/>
            </a:prstGeom>
            <a:noFill/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297600" y="5523480"/>
              <a:ext cx="0" cy="8024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97600" y="4186080"/>
              <a:ext cx="0" cy="99216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179080" y="4186080"/>
              <a:ext cx="0" cy="212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346760" y="6309720"/>
              <a:ext cx="193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909720" y="5201280"/>
              <a:ext cx="44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911520" y="554112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491840" y="4502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492200" y="564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301840" y="564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551880" y="4682520"/>
              <a:ext cx="37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95720" y="61923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5680" y="4670280"/>
              <a:ext cx="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09040" y="5795280"/>
              <a:ext cx="0" cy="41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456480" y="4990320"/>
              <a:ext cx="700920" cy="924840"/>
              <a:chOff x="456480" y="4990320"/>
              <a:chExt cx="700920" cy="924840"/>
            </a:xfrm>
          </p:grpSpPr>
          <p:sp>
            <p:nvSpPr>
              <p:cNvPr id="1633" name=""/>
              <p:cNvSpPr/>
              <p:nvPr/>
            </p:nvSpPr>
            <p:spPr>
              <a:xfrm flipH="1" rot="16200000">
                <a:off x="593640" y="5351760"/>
                <a:ext cx="425520" cy="70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 rot="16200000">
                <a:off x="593640" y="4852440"/>
                <a:ext cx="425520" cy="70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rot="16200000">
                <a:off x="593640" y="5104800"/>
                <a:ext cx="425880" cy="70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99" y="2576"/>
                    </a:moveTo>
                    <a:arcTo wR="10800" hR="10800" stAng="-7824396" swAng="44557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99" y="2576"/>
                    </a:moveTo>
                    <a:arcTo wR="10800" hR="10800" stAng="-7824396" swAng="4455715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924840" y="4682520"/>
              <a:ext cx="0" cy="5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10080" y="5541120"/>
              <a:ext cx="0" cy="64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179080" y="4446000"/>
              <a:ext cx="1422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47560" y="4502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354320" y="4186080"/>
              <a:ext cx="0" cy="21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1118160" y="4445640"/>
              <a:ext cx="426240" cy="480600"/>
              <a:chOff x="1118160" y="4445640"/>
              <a:chExt cx="426240" cy="48060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1118160" y="4688280"/>
                <a:ext cx="426240" cy="237960"/>
                <a:chOff x="1118160" y="4688280"/>
                <a:chExt cx="426240" cy="23796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1118160" y="4700520"/>
                  <a:ext cx="42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1176840" y="4688280"/>
                  <a:ext cx="175320" cy="23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177200" y="4926240"/>
                  <a:ext cx="33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1367640" y="4700520"/>
                  <a:ext cx="14004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 flipV="1">
                <a:off x="1388160" y="4445640"/>
                <a:ext cx="141120" cy="23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1950120" y="4659840"/>
              <a:ext cx="424800" cy="236520"/>
              <a:chOff x="1950120" y="4659840"/>
              <a:chExt cx="424800" cy="236520"/>
            </a:xfrm>
          </p:grpSpPr>
          <p:sp>
            <p:nvSpPr>
              <p:cNvPr id="1649" name=""/>
              <p:cNvSpPr/>
              <p:nvPr/>
            </p:nvSpPr>
            <p:spPr>
              <a:xfrm>
                <a:off x="1950120" y="4672080"/>
                <a:ext cx="42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2008440" y="4659840"/>
                <a:ext cx="17460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008800" y="4896360"/>
                <a:ext cx="33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198880" y="4672080"/>
                <a:ext cx="13968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1118160" y="5765760"/>
              <a:ext cx="426240" cy="237600"/>
              <a:chOff x="1118160" y="5765760"/>
              <a:chExt cx="426240" cy="237600"/>
            </a:xfrm>
          </p:grpSpPr>
          <p:sp>
            <p:nvSpPr>
              <p:cNvPr id="1654" name=""/>
              <p:cNvSpPr/>
              <p:nvPr/>
            </p:nvSpPr>
            <p:spPr>
              <a:xfrm>
                <a:off x="1118160" y="5776560"/>
                <a:ext cx="42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>
                <a:off x="1176840" y="5765760"/>
                <a:ext cx="175320" cy="23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77200" y="6003360"/>
                <a:ext cx="33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367640" y="5776560"/>
                <a:ext cx="140040" cy="22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1953360" y="5756760"/>
              <a:ext cx="425880" cy="237240"/>
              <a:chOff x="1953360" y="5756760"/>
              <a:chExt cx="425880" cy="237240"/>
            </a:xfrm>
          </p:grpSpPr>
          <p:sp>
            <p:nvSpPr>
              <p:cNvPr id="1659" name=""/>
              <p:cNvSpPr/>
              <p:nvPr/>
            </p:nvSpPr>
            <p:spPr>
              <a:xfrm>
                <a:off x="1953360" y="5767560"/>
                <a:ext cx="42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2010960" y="5756760"/>
                <a:ext cx="177480" cy="23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011320" y="5994000"/>
                <a:ext cx="33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202840" y="5767560"/>
                <a:ext cx="141120" cy="22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3331080" y="4756680"/>
              <a:ext cx="523800" cy="855720"/>
              <a:chOff x="3331080" y="4756680"/>
              <a:chExt cx="523800" cy="855720"/>
            </a:xfrm>
          </p:grpSpPr>
          <p:sp>
            <p:nvSpPr>
              <p:cNvPr id="1664" name=""/>
              <p:cNvSpPr/>
              <p:nvPr/>
            </p:nvSpPr>
            <p:spPr>
              <a:xfrm>
                <a:off x="3331080" y="4936320"/>
                <a:ext cx="5238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350520" y="4756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69680" y="5612400"/>
                <a:ext cx="1468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 flipV="1">
              <a:off x="3808440" y="4399920"/>
              <a:ext cx="77400" cy="77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1354320" y="4114800"/>
              <a:ext cx="2531160" cy="77040"/>
              <a:chOff x="1354320" y="4114800"/>
              <a:chExt cx="2531160" cy="77040"/>
            </a:xfrm>
          </p:grpSpPr>
          <p:sp>
            <p:nvSpPr>
              <p:cNvPr id="1669" name=""/>
              <p:cNvSpPr/>
              <p:nvPr/>
            </p:nvSpPr>
            <p:spPr>
              <a:xfrm>
                <a:off x="1354320" y="4179960"/>
                <a:ext cx="249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3808440" y="4114800"/>
                <a:ext cx="77040" cy="77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1" name=""/>
          <p:cNvSpPr/>
          <p:nvPr/>
        </p:nvSpPr>
        <p:spPr>
          <a:xfrm>
            <a:off x="457200" y="3565440"/>
            <a:ext cx="319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输出电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4800600" y="5089680"/>
            <a:ext cx="3309840" cy="723600"/>
            <a:chOff x="4800600" y="5089680"/>
            <a:chExt cx="3309840" cy="723600"/>
          </a:xfrm>
        </p:grpSpPr>
        <p:sp>
          <p:nvSpPr>
            <p:cNvPr id="1673" name=""/>
            <p:cNvSpPr/>
            <p:nvPr/>
          </p:nvSpPr>
          <p:spPr>
            <a:xfrm>
              <a:off x="5170320" y="5241600"/>
              <a:ext cx="0" cy="571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4800600" y="5089680"/>
              <a:ext cx="3309840" cy="723600"/>
              <a:chOff x="4800600" y="5089680"/>
              <a:chExt cx="3309840" cy="723600"/>
            </a:xfrm>
          </p:grpSpPr>
          <p:sp>
            <p:nvSpPr>
              <p:cNvPr id="1675" name=""/>
              <p:cNvSpPr/>
              <p:nvPr/>
            </p:nvSpPr>
            <p:spPr>
              <a:xfrm flipV="1">
                <a:off x="6477120" y="5776200"/>
                <a:ext cx="380880" cy="14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800600" y="577512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7" name=""/>
              <p:cNvGrpSpPr/>
              <p:nvPr/>
            </p:nvGrpSpPr>
            <p:grpSpPr>
              <a:xfrm>
                <a:off x="6857640" y="5105160"/>
                <a:ext cx="1219680" cy="685080"/>
                <a:chOff x="6857640" y="5105160"/>
                <a:chExt cx="1219680" cy="685080"/>
              </a:xfrm>
            </p:grpSpPr>
            <p:sp>
              <p:nvSpPr>
                <p:cNvPr id="1678" name=""/>
                <p:cNvSpPr/>
                <p:nvPr/>
              </p:nvSpPr>
              <p:spPr>
                <a:xfrm flipH="1">
                  <a:off x="6857640" y="518112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6858000" y="5105160"/>
                  <a:ext cx="457200" cy="456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>
                  <a:off x="6858000" y="5181120"/>
                  <a:ext cx="533520" cy="5328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H="1">
                  <a:off x="6933960" y="5181120"/>
                  <a:ext cx="609480" cy="6091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>
                  <a:off x="7086600" y="5257080"/>
                  <a:ext cx="533520" cy="5331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7238880" y="5333400"/>
                  <a:ext cx="457200" cy="456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7391520" y="5409720"/>
                  <a:ext cx="380880" cy="380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>
                  <a:off x="7543440" y="5485680"/>
                  <a:ext cx="304920" cy="3045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H="1">
                  <a:off x="7695720" y="556200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>
                  <a:off x="7848360" y="5638320"/>
                  <a:ext cx="152280" cy="1519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8001000" y="5714280"/>
                  <a:ext cx="76320" cy="759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9" name="未知"/>
              <p:cNvSpPr/>
              <p:nvPr/>
            </p:nvSpPr>
            <p:spPr>
              <a:xfrm>
                <a:off x="6815160" y="5089680"/>
                <a:ext cx="1295280" cy="72360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840360" y="5241600"/>
                <a:ext cx="0" cy="571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181120" y="5105160"/>
                <a:ext cx="1219680" cy="685080"/>
                <a:chOff x="5181120" y="5105160"/>
                <a:chExt cx="1219680" cy="685080"/>
              </a:xfrm>
            </p:grpSpPr>
            <p:sp>
              <p:nvSpPr>
                <p:cNvPr id="1692" name=""/>
                <p:cNvSpPr/>
                <p:nvPr/>
              </p:nvSpPr>
              <p:spPr>
                <a:xfrm flipH="1">
                  <a:off x="5181120" y="518112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5181480" y="5105160"/>
                  <a:ext cx="457200" cy="456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>
                  <a:off x="5181480" y="5181120"/>
                  <a:ext cx="533520" cy="5328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>
                  <a:off x="5257440" y="5181120"/>
                  <a:ext cx="609480" cy="6091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>
                  <a:off x="5410080" y="5257080"/>
                  <a:ext cx="533520" cy="5331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>
                  <a:off x="5562360" y="5333400"/>
                  <a:ext cx="457200" cy="4568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>
                  <a:off x="5715000" y="5409720"/>
                  <a:ext cx="380880" cy="3805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>
                  <a:off x="5866920" y="5485680"/>
                  <a:ext cx="304920" cy="3045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>
                  <a:off x="6019200" y="556200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6171840" y="5638320"/>
                  <a:ext cx="152280" cy="15192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6324480" y="5714280"/>
                  <a:ext cx="76320" cy="7596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3" name="未知"/>
              <p:cNvSpPr/>
              <p:nvPr/>
            </p:nvSpPr>
            <p:spPr>
              <a:xfrm>
                <a:off x="5181480" y="5089680"/>
                <a:ext cx="1295640" cy="723600"/>
              </a:xfrm>
              <a:custGeom>
                <a:avLst/>
                <a:gdLst/>
                <a:ahLst/>
                <a:rect l="l" t="t" r="r" b="b"/>
                <a:pathLst>
                  <a:path w="444" h="368">
                    <a:moveTo>
                      <a:pt x="0" y="80"/>
                    </a:moveTo>
                    <a:cubicBezTo>
                      <a:pt x="22" y="58"/>
                      <a:pt x="44" y="36"/>
                      <a:pt x="84" y="32"/>
                    </a:cubicBezTo>
                    <a:cubicBezTo>
                      <a:pt x="124" y="28"/>
                      <a:pt x="180" y="0"/>
                      <a:pt x="240" y="56"/>
                    </a:cubicBezTo>
                    <a:cubicBezTo>
                      <a:pt x="300" y="112"/>
                      <a:pt x="408" y="314"/>
                      <a:pt x="444" y="36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4" name=""/>
          <p:cNvSpPr/>
          <p:nvPr/>
        </p:nvSpPr>
        <p:spPr>
          <a:xfrm>
            <a:off x="44218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42188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222800" y="304920"/>
            <a:ext cx="4657680" cy="1663560"/>
            <a:chOff x="4222800" y="304920"/>
            <a:chExt cx="4657680" cy="1663560"/>
          </a:xfrm>
        </p:grpSpPr>
        <p:sp>
          <p:nvSpPr>
            <p:cNvPr id="1707" name=""/>
            <p:cNvSpPr/>
            <p:nvPr/>
          </p:nvSpPr>
          <p:spPr>
            <a:xfrm flipV="1">
              <a:off x="4819680" y="838440"/>
              <a:ext cx="3409920" cy="1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222800" y="527040"/>
              <a:ext cx="5540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9" name=""/>
            <p:cNvGrpSpPr/>
            <p:nvPr/>
          </p:nvGrpSpPr>
          <p:grpSpPr>
            <a:xfrm>
              <a:off x="4800600" y="865440"/>
              <a:ext cx="1600200" cy="666720"/>
              <a:chOff x="4800600" y="865440"/>
              <a:chExt cx="1600200" cy="666720"/>
            </a:xfrm>
          </p:grpSpPr>
          <p:sp>
            <p:nvSpPr>
              <p:cNvPr id="1710" name=""/>
              <p:cNvSpPr/>
              <p:nvPr/>
            </p:nvSpPr>
            <p:spPr>
              <a:xfrm>
                <a:off x="5167440" y="874800"/>
                <a:ext cx="8744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未知"/>
              <p:cNvSpPr/>
              <p:nvPr/>
            </p:nvSpPr>
            <p:spPr>
              <a:xfrm>
                <a:off x="4800600" y="873360"/>
                <a:ext cx="380880" cy="6588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未知"/>
              <p:cNvSpPr/>
              <p:nvPr/>
            </p:nvSpPr>
            <p:spPr>
              <a:xfrm flipH="1">
                <a:off x="6019920" y="865440"/>
                <a:ext cx="380880" cy="65880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6437160" y="838440"/>
              <a:ext cx="1639800" cy="682200"/>
              <a:chOff x="6437160" y="838440"/>
              <a:chExt cx="1639800" cy="682200"/>
            </a:xfrm>
          </p:grpSpPr>
          <p:sp>
            <p:nvSpPr>
              <p:cNvPr id="1714" name=""/>
              <p:cNvSpPr/>
              <p:nvPr/>
            </p:nvSpPr>
            <p:spPr>
              <a:xfrm>
                <a:off x="6813000" y="847800"/>
                <a:ext cx="8960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未知"/>
              <p:cNvSpPr/>
              <p:nvPr/>
            </p:nvSpPr>
            <p:spPr>
              <a:xfrm>
                <a:off x="6437160" y="846360"/>
                <a:ext cx="390240" cy="6742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未知"/>
              <p:cNvSpPr/>
              <p:nvPr/>
            </p:nvSpPr>
            <p:spPr>
              <a:xfrm flipH="1">
                <a:off x="7686720" y="838440"/>
                <a:ext cx="390240" cy="67428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cubicBezTo>
                      <a:pt x="5" y="211"/>
                      <a:pt x="10" y="194"/>
                      <a:pt x="36" y="156"/>
                    </a:cubicBezTo>
                    <a:cubicBezTo>
                      <a:pt x="62" y="118"/>
                      <a:pt x="136" y="28"/>
                      <a:pt x="156" y="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4474080" y="304920"/>
              <a:ext cx="4406400" cy="1663560"/>
              <a:chOff x="4474080" y="304920"/>
              <a:chExt cx="4406400" cy="1663560"/>
            </a:xfrm>
          </p:grpSpPr>
          <p:grpSp>
            <p:nvGrpSpPr>
              <p:cNvPr id="1718" name=""/>
              <p:cNvGrpSpPr/>
              <p:nvPr/>
            </p:nvGrpSpPr>
            <p:grpSpPr>
              <a:xfrm>
                <a:off x="4800600" y="304920"/>
                <a:ext cx="4079880" cy="1663560"/>
                <a:chOff x="4800600" y="304920"/>
                <a:chExt cx="4079880" cy="1663560"/>
              </a:xfrm>
            </p:grpSpPr>
            <p:pic>
              <p:nvPicPr>
                <p:cNvPr id="17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76200" y="304920"/>
                  <a:ext cx="504360" cy="600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20" name=""/>
                <p:cNvGrpSpPr/>
                <p:nvPr/>
              </p:nvGrpSpPr>
              <p:grpSpPr>
                <a:xfrm>
                  <a:off x="4800600" y="456840"/>
                  <a:ext cx="4079880" cy="1511640"/>
                  <a:chOff x="4800600" y="456840"/>
                  <a:chExt cx="4079880" cy="1511640"/>
                </a:xfrm>
              </p:grpSpPr>
              <p:sp>
                <p:nvSpPr>
                  <p:cNvPr id="1721" name=""/>
                  <p:cNvSpPr/>
                  <p:nvPr/>
                </p:nvSpPr>
                <p:spPr>
                  <a:xfrm>
                    <a:off x="8357040" y="1447920"/>
                    <a:ext cx="523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楷体_GB2312"/>
                      </a:rPr>
                      <a:t>t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4800600" y="1523880"/>
                    <a:ext cx="405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V="1">
                    <a:off x="4800600" y="456840"/>
                    <a:ext cx="0" cy="1074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4" name=""/>
              <p:cNvSpPr/>
              <p:nvPr/>
            </p:nvSpPr>
            <p:spPr>
              <a:xfrm>
                <a:off x="4474080" y="1295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33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5" name=""/>
          <p:cNvGrpSpPr/>
          <p:nvPr/>
        </p:nvGrpSpPr>
        <p:grpSpPr>
          <a:xfrm>
            <a:off x="4398120" y="1905120"/>
            <a:ext cx="4515480" cy="1510920"/>
            <a:chOff x="4398120" y="1905120"/>
            <a:chExt cx="4515480" cy="1510920"/>
          </a:xfrm>
        </p:grpSpPr>
        <p:grpSp>
          <p:nvGrpSpPr>
            <p:cNvPr id="1726" name=""/>
            <p:cNvGrpSpPr/>
            <p:nvPr/>
          </p:nvGrpSpPr>
          <p:grpSpPr>
            <a:xfrm>
              <a:off x="4778640" y="1905120"/>
              <a:ext cx="4134960" cy="1510920"/>
              <a:chOff x="4778640" y="1905120"/>
              <a:chExt cx="4134960" cy="1510920"/>
            </a:xfrm>
          </p:grpSpPr>
          <p:sp>
            <p:nvSpPr>
              <p:cNvPr id="1727" name=""/>
              <p:cNvSpPr/>
              <p:nvPr/>
            </p:nvSpPr>
            <p:spPr>
              <a:xfrm>
                <a:off x="8390160" y="2895480"/>
                <a:ext cx="5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778640" y="2971440"/>
                <a:ext cx="411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4778640" y="1905120"/>
                <a:ext cx="0" cy="107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0" name=""/>
            <p:cNvSpPr/>
            <p:nvPr/>
          </p:nvSpPr>
          <p:spPr>
            <a:xfrm>
              <a:off x="4398120" y="281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33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5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0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3051000" y="19620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问 题 讨 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33520" y="728640"/>
            <a:ext cx="7924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单结管触发的可控整流电路中，主电路和触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路为什么接在同一个变压器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33520" y="1911600"/>
            <a:ext cx="818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目的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主电路和触发电路的电源电压同时过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两者同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电容在每半个周期均从零开始充电，从而保证每半个周期的第一个触发脉冲出现的时刻相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一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使输出平均电压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09000" y="35805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触发电路中，整流后为什么加稳压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33520" y="4273560"/>
            <a:ext cx="85341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稳压管的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将整流后的电压变成梯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削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单结管两端电压稳定在稳压管的稳压值上，从而保证单结管产生的脉冲幅度和每半个周期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脉冲的时间，不受交流电源电压变化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649440" y="959040"/>
            <a:ext cx="803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一系列触发脉冲中，为什么只有第一个起作用？如何改变控制角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09480" y="245664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晶闸管的特性，它一旦触发导通，在阳极电压足够大的条件下，即使去掉触发信号，仍能维持导通状态。因此，每半个周期中只有第一个触发脉冲起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135520" y="3657600"/>
            <a:ext cx="3778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充电时间常数即可改变控制角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控制角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变化的范围称为移相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928440" y="464760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电压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1465200" y="5070960"/>
            <a:ext cx="6383160" cy="703800"/>
            <a:chOff x="1465200" y="5070960"/>
            <a:chExt cx="6383160" cy="703800"/>
          </a:xfrm>
        </p:grpSpPr>
        <p:sp>
          <p:nvSpPr>
            <p:cNvPr id="1741" name=""/>
            <p:cNvSpPr/>
            <p:nvPr/>
          </p:nvSpPr>
          <p:spPr>
            <a:xfrm>
              <a:off x="1465200" y="5254200"/>
              <a:ext cx="6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28600" y="5246640"/>
              <a:ext cx="0" cy="4384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09680" y="5457960"/>
              <a:ext cx="419040" cy="74520"/>
            </a:xfrm>
            <a:prstGeom prst="rightArrow">
              <a:avLst>
                <a:gd name="adj1" fmla="val 50000"/>
                <a:gd name="adj2" fmla="val 140580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15720" y="5235120"/>
              <a:ext cx="20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容充电速度变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638680" y="5456520"/>
              <a:ext cx="419040" cy="74520"/>
            </a:xfrm>
            <a:prstGeom prst="rightArrow">
              <a:avLst>
                <a:gd name="adj1" fmla="val 50000"/>
                <a:gd name="adj2" fmla="val 140580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097320" y="51652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629400" y="5227920"/>
              <a:ext cx="0" cy="4381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241760" y="5070960"/>
              <a:ext cx="53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33cc"/>
                  </a:solidFill>
                  <a:latin typeface="宋体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848360" y="5170680"/>
              <a:ext cx="0" cy="4381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81680" y="5456520"/>
              <a:ext cx="419040" cy="74520"/>
            </a:xfrm>
            <a:prstGeom prst="rightArrow">
              <a:avLst>
                <a:gd name="adj1" fmla="val 50000"/>
                <a:gd name="adj2" fmla="val 140580"/>
              </a:avLst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6140520" y="1828800"/>
            <a:ext cx="3003480" cy="3809880"/>
          </a:xfrm>
          <a:prstGeom prst="rect">
            <a:avLst/>
          </a:prstGeom>
          <a:ln w="0">
            <a:noFill/>
          </a:ln>
        </p:spPr>
      </p:pic>
      <p:pic>
        <p:nvPicPr>
          <p:cNvPr id="175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6095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804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 txBox="1"/>
          <p:nvPr/>
        </p:nvSpPr>
        <p:spPr>
          <a:xfrm>
            <a:off x="2438280" y="1905120"/>
            <a:ext cx="4496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大家！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五环精密电阻颜色所代表的数字或意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990720"/>
          <a:ext cx="7848720" cy="5456160"/>
        </p:xfrm>
        <a:graphic>
          <a:graphicData uri="http://schemas.openxmlformats.org/drawingml/2006/table">
            <a:tbl>
              <a:tblPr/>
              <a:tblGrid>
                <a:gridCol w="712800"/>
                <a:gridCol w="1281240"/>
                <a:gridCol w="1282680"/>
                <a:gridCol w="1190520"/>
                <a:gridCol w="1206360"/>
                <a:gridCol w="217512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第一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第二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第三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第二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第一位（误差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±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±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±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±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±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±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±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在电阻体的一端标以彩色环，电阻的色标是由左向右排列的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精密度电阻器的色环标志用五个色环表示。第一至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色环表示电阻的有效数字，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色环表示倍乘数，第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色环表示容许偏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19320"/>
            <a:ext cx="10670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295280"/>
            <a:ext cx="304560" cy="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1295280"/>
            <a:ext cx="304560" cy="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219320"/>
            <a:ext cx="10670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1219320"/>
            <a:ext cx="0" cy="152280"/>
          </a:xfrm>
          <a:prstGeom prst="line">
            <a:avLst/>
          </a:prstGeom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191120"/>
            <a:ext cx="198144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191120"/>
            <a:ext cx="0" cy="304560"/>
          </a:xfrm>
          <a:prstGeom prst="line">
            <a:avLst/>
          </a:prstGeom>
          <a:ln w="76320">
            <a:solidFill>
              <a:srgbClr val="fb2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91120"/>
            <a:ext cx="0" cy="304560"/>
          </a:xfrm>
          <a:prstGeom prst="line">
            <a:avLst/>
          </a:prstGeom>
          <a:ln w="76320">
            <a:solidFill>
              <a:srgbClr val="654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191120"/>
            <a:ext cx="0" cy="304560"/>
          </a:xfrm>
          <a:prstGeom prst="line">
            <a:avLst/>
          </a:prstGeom>
          <a:ln w="76320">
            <a:solidFill>
              <a:srgbClr val="f68d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76320">
            <a:solidFill>
              <a:srgbClr val="a3a3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316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648320"/>
            <a:ext cx="25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红 紫 橙  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029200"/>
            <a:ext cx="25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  7   3  ±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千欧误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657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举例：通用电阻                           精密电阻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191120"/>
            <a:ext cx="236232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4191120"/>
            <a:ext cx="0" cy="304560"/>
          </a:xfrm>
          <a:prstGeom prst="line">
            <a:avLst/>
          </a:prstGeom>
          <a:ln w="76320">
            <a:solidFill>
              <a:srgbClr val="780d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76320">
            <a:solidFill>
              <a:srgbClr val="654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191120"/>
            <a:ext cx="0" cy="304560"/>
          </a:xfrm>
          <a:prstGeom prst="line">
            <a:avLst/>
          </a:prstGeom>
          <a:ln w="76320">
            <a:solidFill>
              <a:srgbClr val="f68d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191120"/>
            <a:ext cx="0" cy="3045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9568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39116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648320"/>
            <a:ext cx="25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橙 紫 绿 银   棕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50292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  7   5  0.01  ±1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7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欧误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±1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191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43400" y="1066680"/>
            <a:ext cx="409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左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1880" y="1066680"/>
            <a:ext cx="409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右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952880" y="685800"/>
            <a:ext cx="388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棕绿黑棕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 5   0   1    1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±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棕绿红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b2f19"/>
                </a:solidFill>
                <a:latin typeface="Arial"/>
              </a:rPr>
              <a:t>金色不可能作为第一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  5     2   ±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038840" cy="2713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40388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71800" y="457200"/>
            <a:ext cx="5184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蓝灰黑棕棕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6 8 0 10)  6.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71800" y="15238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红黄金     （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 2  10000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213372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绿兰红金    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 6  10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2666880"/>
            <a:ext cx="51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绿红金    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5  10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99072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黑橙金   （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 0  1000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20040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红红红金 （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 2 100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65760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红红橙金    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  2  100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19112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黑黑金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 0  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464832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红黄金     （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 2  10000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181480"/>
            <a:ext cx="51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绿蓝棕金    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  6  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51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棕黑黑金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 0  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172200"/>
            <a:ext cx="518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绿兰红金     （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 6  10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±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晶体二极管基础知识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一个</a:t>
            </a: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PN</a:t>
            </a: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结加上相应的电极引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并用管壳封装起来，就构成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半导体二极管，简称二极管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接在</a:t>
            </a: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P</a:t>
            </a: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型半导体一侧的引出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称为阳极；接在</a:t>
            </a: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N</a:t>
            </a: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型半导体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6600"/>
                </a:solidFill>
                <a:latin typeface="Arial"/>
              </a:rPr>
              <a:t>侧的引出线称为阴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8064360" cy="1873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414960" cy="2362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89280" y="1143000"/>
            <a:ext cx="29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二极管的结构和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350640"/>
            <a:ext cx="4468320" cy="3484800"/>
            <a:chOff x="228600" y="350640"/>
            <a:chExt cx="4468320" cy="3484800"/>
          </a:xfrm>
        </p:grpSpPr>
        <p:grpSp>
          <p:nvGrpSpPr>
            <p:cNvPr id="160" name=""/>
            <p:cNvGrpSpPr/>
            <p:nvPr/>
          </p:nvGrpSpPr>
          <p:grpSpPr>
            <a:xfrm>
              <a:off x="228600" y="900000"/>
              <a:ext cx="4468320" cy="2935440"/>
              <a:chOff x="228600" y="900000"/>
              <a:chExt cx="4468320" cy="2935440"/>
            </a:xfrm>
          </p:grpSpPr>
          <p:sp>
            <p:nvSpPr>
              <p:cNvPr id="161" name=""/>
              <p:cNvSpPr/>
              <p:nvPr/>
            </p:nvSpPr>
            <p:spPr>
              <a:xfrm>
                <a:off x="767520" y="162396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6240" y="1586160"/>
                <a:ext cx="68400" cy="69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67520" y="343080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6240" y="3393360"/>
                <a:ext cx="68400" cy="6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1570680" y="2003040"/>
                <a:ext cx="68040" cy="104256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flipH="1">
                <a:off x="1875600" y="2003040"/>
                <a:ext cx="68400" cy="104256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63280" y="1794600"/>
                <a:ext cx="0" cy="145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44360" y="1623960"/>
                <a:ext cx="189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931400" y="3426120"/>
                <a:ext cx="190404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245520" y="2082960"/>
                <a:ext cx="1001160" cy="577440"/>
                <a:chOff x="245520" y="2082960"/>
                <a:chExt cx="1001160" cy="57744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245520" y="2082960"/>
                  <a:ext cx="0" cy="57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5520" y="2660400"/>
                  <a:ext cx="100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未知"/>
              <p:cNvSpPr/>
              <p:nvPr/>
            </p:nvSpPr>
            <p:spPr>
              <a:xfrm>
                <a:off x="242640" y="2369520"/>
                <a:ext cx="726120" cy="54432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1894320"/>
                <a:ext cx="504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75680" y="1997640"/>
                <a:ext cx="504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70680" y="16196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70680" y="30456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44360" y="16221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44360" y="30456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18160" y="1619640"/>
                <a:ext cx="8640" cy="18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09400" y="2257920"/>
                <a:ext cx="0" cy="60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80680" y="20728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28240" y="20728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55880" y="1924920"/>
                <a:ext cx="50472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78840" y="1229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93000" y="10342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78840" y="3314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21320" y="90000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29480" y="2215800"/>
                <a:ext cx="908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809080" y="1413360"/>
                <a:ext cx="293400" cy="422280"/>
                <a:chOff x="2809080" y="1413360"/>
                <a:chExt cx="293400" cy="42228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5400000">
                  <a:off x="2737440" y="1490400"/>
                  <a:ext cx="416520" cy="273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3102480" y="1413360"/>
                  <a:ext cx="0" cy="41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3741480" y="2215800"/>
                <a:ext cx="166680" cy="560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92200" y="2215800"/>
                <a:ext cx="504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496960" y="934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2920" y="350640"/>
              <a:ext cx="52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257800" y="914400"/>
            <a:ext cx="3143160" cy="1294920"/>
            <a:chOff x="5257800" y="914400"/>
            <a:chExt cx="3143160" cy="1294920"/>
          </a:xfrm>
        </p:grpSpPr>
        <p:sp>
          <p:nvSpPr>
            <p:cNvPr id="198" name="未知"/>
            <p:cNvSpPr/>
            <p:nvPr/>
          </p:nvSpPr>
          <p:spPr>
            <a:xfrm>
              <a:off x="5257800" y="9144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flipV="1">
              <a:off x="6067440" y="15552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845400" y="92088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 flipV="1">
              <a:off x="7626240" y="15613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931000" y="1343160"/>
            <a:ext cx="2324160" cy="4743360"/>
            <a:chOff x="5931000" y="1343160"/>
            <a:chExt cx="2324160" cy="4743360"/>
          </a:xfrm>
        </p:grpSpPr>
        <p:sp>
          <p:nvSpPr>
            <p:cNvPr id="203" name=""/>
            <p:cNvSpPr/>
            <p:nvPr/>
          </p:nvSpPr>
          <p:spPr>
            <a:xfrm>
              <a:off x="5931000" y="135252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12200" y="1343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3680" y="138132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55160" y="1343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664880" y="198360"/>
            <a:ext cx="4477320" cy="5641920"/>
            <a:chOff x="4664880" y="198360"/>
            <a:chExt cx="4477320" cy="5641920"/>
          </a:xfrm>
        </p:grpSpPr>
        <p:grpSp>
          <p:nvGrpSpPr>
            <p:cNvPr id="208" name=""/>
            <p:cNvGrpSpPr/>
            <p:nvPr/>
          </p:nvGrpSpPr>
          <p:grpSpPr>
            <a:xfrm>
              <a:off x="4664880" y="198360"/>
              <a:ext cx="4002840" cy="5641920"/>
              <a:chOff x="4664880" y="198360"/>
              <a:chExt cx="4002840" cy="56419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5257800" y="392040"/>
                <a:ext cx="0" cy="544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10120" y="1592280"/>
                <a:ext cx="365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29200" y="3249720"/>
                <a:ext cx="358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86080" y="4869000"/>
                <a:ext cx="358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64880" y="19836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59920" y="1989000"/>
                <a:ext cx="48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80720" y="3627360"/>
                <a:ext cx="526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u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8650440" y="12960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2320" y="1467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8120" y="148644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7120" y="148644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71080" y="154368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6400" y="154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57800" y="2590920"/>
            <a:ext cx="3187800" cy="666720"/>
            <a:chOff x="5257800" y="2590920"/>
            <a:chExt cx="3187800" cy="666720"/>
          </a:xfrm>
        </p:grpSpPr>
        <p:sp>
          <p:nvSpPr>
            <p:cNvPr id="223" name="未知"/>
            <p:cNvSpPr/>
            <p:nvPr/>
          </p:nvSpPr>
          <p:spPr>
            <a:xfrm>
              <a:off x="5257800" y="25909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6838920" y="26100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6040" y="325764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6240" y="325764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57800" y="4876920"/>
            <a:ext cx="3149640" cy="666720"/>
            <a:chOff x="5257800" y="4876920"/>
            <a:chExt cx="3149640" cy="666720"/>
          </a:xfrm>
        </p:grpSpPr>
        <p:grpSp>
          <p:nvGrpSpPr>
            <p:cNvPr id="228" name=""/>
            <p:cNvGrpSpPr/>
            <p:nvPr/>
          </p:nvGrpSpPr>
          <p:grpSpPr>
            <a:xfrm>
              <a:off x="6089760" y="4885920"/>
              <a:ext cx="2317680" cy="657720"/>
              <a:chOff x="6089760" y="4885920"/>
              <a:chExt cx="2317680" cy="657720"/>
            </a:xfrm>
          </p:grpSpPr>
          <p:sp>
            <p:nvSpPr>
              <p:cNvPr id="229" name="未知"/>
              <p:cNvSpPr/>
              <p:nvPr/>
            </p:nvSpPr>
            <p:spPr>
              <a:xfrm flipV="1">
                <a:off x="6089760" y="488556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 flipV="1">
                <a:off x="7632720" y="4895640"/>
                <a:ext cx="774720" cy="64800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6848640" y="4876920"/>
              <a:ext cx="799920" cy="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7800" y="4896000"/>
              <a:ext cx="81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80880" y="3962520"/>
            <a:ext cx="6802920" cy="950400"/>
            <a:chOff x="380880" y="3962520"/>
            <a:chExt cx="6802920" cy="950400"/>
          </a:xfrm>
        </p:grpSpPr>
        <p:grpSp>
          <p:nvGrpSpPr>
            <p:cNvPr id="234" name=""/>
            <p:cNvGrpSpPr/>
            <p:nvPr/>
          </p:nvGrpSpPr>
          <p:grpSpPr>
            <a:xfrm>
              <a:off x="380880" y="3981600"/>
              <a:ext cx="2935800" cy="931320"/>
              <a:chOff x="380880" y="3981600"/>
              <a:chExt cx="2935800" cy="931320"/>
            </a:xfrm>
          </p:grpSpPr>
          <p:sp>
            <p:nvSpPr>
              <p:cNvPr id="235" name=""/>
              <p:cNvSpPr/>
              <p:nvPr/>
            </p:nvSpPr>
            <p:spPr>
              <a:xfrm>
                <a:off x="1101600" y="4435200"/>
                <a:ext cx="4460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7960" y="404784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33080" y="404784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99920" y="4114440"/>
                <a:ext cx="3085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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86680" y="416556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43000" y="4044600"/>
                <a:ext cx="225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95400" y="4165560"/>
                <a:ext cx="2444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6800" y="4444920"/>
                <a:ext cx="195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87200" y="4066920"/>
                <a:ext cx="15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17000" y="4532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02760" y="448596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12200" y="39816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01320" y="4206600"/>
                <a:ext cx="99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55200" y="42066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44160" y="42066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880" y="420660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97880" y="44272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4320" y="44272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302640" y="41655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78040" y="4416480"/>
              <a:ext cx="446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5080" y="40291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00200" y="40291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6360" y="4095720"/>
              <a:ext cx="308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67160" y="4025880"/>
              <a:ext cx="22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62520" y="4146840"/>
              <a:ext cx="244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3240" y="4426200"/>
              <a:ext cx="195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14760" y="4048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93440" y="4513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200" y="4467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89000" y="3962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25680" y="418788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2320" y="41878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02160" y="4187880"/>
              <a:ext cx="977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564080" y="4454280"/>
              <a:ext cx="4608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10160" y="4462560"/>
              <a:ext cx="66600" cy="119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682880" y="4226040"/>
              <a:ext cx="8892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1800" y="4226040"/>
              <a:ext cx="214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84080" y="4469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1520" y="4248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5960" y="42483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818280" y="4911480"/>
            <a:ext cx="2608200" cy="912600"/>
            <a:chOff x="818280" y="4911480"/>
            <a:chExt cx="2608200" cy="912600"/>
          </a:xfrm>
        </p:grpSpPr>
        <p:sp>
          <p:nvSpPr>
            <p:cNvPr id="276" name=""/>
            <p:cNvSpPr/>
            <p:nvPr/>
          </p:nvSpPr>
          <p:spPr>
            <a:xfrm flipV="1">
              <a:off x="1191960" y="5140080"/>
              <a:ext cx="46080" cy="26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8040" y="5148000"/>
              <a:ext cx="6660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311120" y="4911480"/>
              <a:ext cx="88920" cy="35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00040" y="4911840"/>
              <a:ext cx="214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55600" y="5387760"/>
              <a:ext cx="868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89880" y="51177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68160" y="5397120"/>
              <a:ext cx="195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23520" y="5378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1196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2120" y="51591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47800" y="515916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71040" y="5159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99760" y="49338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65400" y="51591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54200" y="49338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8280" y="51559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96800" y="5891040"/>
            <a:ext cx="386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/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0.45 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8480" y="6094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544dc"/>
                </a:solidFill>
                <a:latin typeface="Arial"/>
                <a:ea typeface="隶书"/>
              </a:rPr>
              <a:t>二极管半波整流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1:48:59Z</dcterms:created>
  <dc:creator/>
  <dc:description/>
  <cp:keywords/>
  <dc:language>en-US</dc:language>
  <cp:lastModifiedBy>微软用户</cp:lastModifiedBy>
  <dcterms:modified xsi:type="dcterms:W3CDTF">2012-08-03T02:43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