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5.png" ContentType="image/png"/>
  <Override PartName="/ppt/media/image3.jpeg" ContentType="image/jpeg"/>
  <Override PartName="/ppt/media/image2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2368D-DBD4-452F-8950-31E98FF82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A56CB-4D30-420B-B092-810B928D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1A89-B69A-4B1E-8384-DD17DB7B4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7B5F-6F32-4EEF-BA2A-4B9E75DE0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E2D8-7FD6-4045-83CB-EB665276F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DA6F5-EC13-42D9-907B-A9406E49F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A420E-F16E-4180-BF0C-EA5058E9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9A0D2-4422-4D91-8078-D8F9991AB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B3EBE-295E-4609-9AE5-40958388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BAA67-30EF-450C-9C5B-CF7B1306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52196-F852-431E-AC5F-6CB563237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D98F-2897-40C9-9572-D7D38A5E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D4D23-8792-4633-AA8F-5587D5E62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BE8A6-AF8A-4495-9D8E-4F1D5E2C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DF10E-D1F7-4B39-A561-6F92B07A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DDAF2-B2E8-43C2-9E99-10BB3CCE5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D4DC3-106A-4EDC-83E7-3E8AB8B7E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39DA-9BBF-4F1E-B0B6-029510AF5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06EE-BB28-49B1-936C-680D820B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7268-B0A2-40F7-9A78-284945B45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9C46-9955-48F8-8D44-C178CFAF7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0D519-F0E3-41F4-A87D-9F2878E38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295-CD50-421A-97A0-1830627AE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6F7D1-2768-4D88-96AF-3F4E66D94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349B-AF7B-487A-8D79-FDB30273A995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80808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8080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06B0F-50F3-4CB9-B57E-4D729818CC4B}" type="slidenum">
              <a:rPr b="0" lang="zh-CN" sz="1400" spc="-1" strike="noStrike">
                <a:solidFill>
                  <a:srgbClr val="080808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My%20Receiver%20Files/&#30005;&#23376;&#24037;&#33402;/R858&#35270;&#39057;/017&#39318;&#27425;&#20351;&#29992;&#28889;&#38081;.AVI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My%20Receiver%20Files/&#30005;&#23376;&#24037;&#33402;/R858&#35270;&#39057;/018&#20803;&#22120;&#20214;&#28938;&#25509;.AVI" TargetMode="External"/><Relationship Id="rId3" Type="http://schemas.openxmlformats.org/officeDocument/2006/relationships/oleObject" Target="../embeddings/oleObject1.bin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file:///../My%20Receiver%20Files/&#30005;&#23376;&#24037;&#33402;/R858&#35270;&#39057;/019&#20803;&#22120;&#20214;&#21462;&#19979;.AVI" TargetMode="External"/><Relationship Id="rId3" Type="http://schemas.openxmlformats.org/officeDocument/2006/relationships/hyperlink" Target="file:///../My%20Receiver%20Files/&#30005;&#23376;&#24037;&#33402;/R858&#35270;&#39057;/020&#28938;&#30424;&#23380;&#21435;&#38177;.AVI" TargetMode="External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42433"/>
                </a:solidFill>
                <a:latin typeface="Arial"/>
              </a:rPr>
              <a:t>电子工艺实习内容</a:t>
            </a:r>
            <a:endParaRPr b="0" lang="en-US" sz="6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36596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、元器件的认识和识别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、焊接方法、技巧的学习及焊接训练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、电子产品装配的相关知识的学习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、了解实践产品的工作原理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、装配和调试一个合格的电子产品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、完成实践报告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724360" y="5589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徐晓辉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2"/>
          <a:srcRect l="14810" t="32830" r="8503" b="5042"/>
          <a:stretch/>
        </p:blipFill>
        <p:spPr>
          <a:xfrm>
            <a:off x="2556000" y="2495520"/>
            <a:ext cx="6588000" cy="436248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MF47</a:t>
            </a: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型万用表使用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8820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档位盘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可供侧量直流电流、交直流电压、直流电阻等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,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具有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26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个基本量程和电平、电容、电感、晶体管直流参数等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个附加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参考量程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交直流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2500V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和直流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5A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分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别有单独插座 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MF47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型万用表的使用方法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352872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Arial"/>
              </a:rPr>
              <a:t>机械调零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在使用前应检查指针是否指在机械零位上，如不指在零位时，可旋转表盖的调零器使指针指示在零位上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rcRect l="21990" t="11142" r="11042" b="6978"/>
          <a:stretch/>
        </p:blipFill>
        <p:spPr>
          <a:xfrm>
            <a:off x="3909960" y="1341360"/>
            <a:ext cx="523404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540640" cy="89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MF47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型万用表的使用方法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>
            <a:lum bright="18000"/>
          </a:blip>
          <a:srcRect l="14265" t="32954" r="10115" b="3223"/>
          <a:stretch/>
        </p:blipFill>
        <p:spPr>
          <a:xfrm>
            <a:off x="0" y="1270080"/>
            <a:ext cx="4284720" cy="2950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rcRect l="3016" t="8788" r="5238" b="9709"/>
          <a:stretch/>
        </p:blipFill>
        <p:spPr>
          <a:xfrm>
            <a:off x="4248000" y="1268280"/>
            <a:ext cx="4896000" cy="297036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24000" y="4508640"/>
            <a:ext cx="8540640" cy="23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直流电流测量 测量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0.05~500mA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时，开关至所需电流档，测量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5A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时，转动开关可放在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500mA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直流电流量限上而后将测试棒串接于被测电路中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交直流电压测量测量交流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0~1000V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或直流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0.25~1000V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时，转动开关至所需电压档。测量交直流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2500V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时，开关应分别旋转至交流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000V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或直流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000V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位置上，而后将测试棒跨接于被测电路两端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MF47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型万用表的使用方法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394488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）欧姆调零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将测试棒二端短接，调整零欧姆调整旋钮，使指针对准欧姆“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0”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位上，（若不能指示欧姆零位，则说明电池电压不足，应更换电池），然后将测试棒跨接于被测电路的两端进行测量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）直流电阻测量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准确测量电阻时，应选择合适的电阻档位，使指针尽量能够指向表刻度盘中间三分之一区域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rcRect l="0" t="10960" r="5334" b="-2713"/>
          <a:stretch/>
        </p:blipFill>
        <p:spPr>
          <a:xfrm>
            <a:off x="4200480" y="1341360"/>
            <a:ext cx="49435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MF47</a:t>
            </a:r>
            <a:r>
              <a:rPr b="1" lang="zh-CN" sz="4400" spc="-1" strike="noStrike">
                <a:solidFill>
                  <a:srgbClr val="080808"/>
                </a:solidFill>
                <a:latin typeface="Arial"/>
              </a:rPr>
              <a:t>型万用表的使用方法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920" y="1267920"/>
            <a:ext cx="85406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注意事项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．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万用表虽有双重保护装置，但使用时仍应遵守下列规程，避免意外损失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）测量高压或大电流时，为避免烧坏开关，应在切断电源情况下，变换量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） 测未知量的电压或电流时，应先选择最高数，待第一次读取数值后，方可逐渐转至适当位置以取得较准读数并避免烧坏电路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）偶然发生因过载而烧断保险丝时，可打开表盒换上相同型号的保险丝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(0.5A/250V)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．测量高压时，要站在干燥绝缘板上，并一手操作，防止意外事故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．电阻各档用干电池应定期检查、更换，以保证测量精度。平时不用万用表应将档位盘打到交流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250V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档；如长期不用应取出电池，以防止电液溢出腐蚀而损坏其它零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电阻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449568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电阻值大小的识别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电阻的阻值标注有两种方法，一是直接在电阻上标出数据；二是用色环表示阻值。色环表示阻值可在任意角度识别其阻值大小，不受电阻体积限制，使用方便，被广泛运用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6227640" y="1268280"/>
            <a:ext cx="2968920" cy="525636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500720" y="1268280"/>
            <a:ext cx="17589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色环电阻的识别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0" y="2204640"/>
            <a:ext cx="327672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(1)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五道色环电阻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(2)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四道色环电阻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348000" y="1341360"/>
            <a:ext cx="5491080" cy="271296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3348000" y="4221000"/>
            <a:ext cx="549108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54064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色环电阻表示方法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000" y="1196640"/>
            <a:ext cx="377964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 五道色环电阻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一环表示阻值的第一位数字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二环表示阻值的第二位数字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三环表示阻值的第三位数字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四环表示幂的次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五环表示误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  四道色环电阻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一环表示阻值的第一位数字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二环表示阻值的第二位数字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三环表示幂的次方；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第四环表示误差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（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）表示误差的色环间距较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其他色环间距大些。并且颜色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一般为棕、金、银色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211640" y="1125360"/>
          <a:ext cx="4681440" cy="5443560"/>
        </p:xfrm>
        <a:graphic>
          <a:graphicData uri="http://schemas.openxmlformats.org/drawingml/2006/table">
            <a:tbl>
              <a:tblPr/>
              <a:tblGrid>
                <a:gridCol w="433440"/>
                <a:gridCol w="755640"/>
                <a:gridCol w="755640"/>
                <a:gridCol w="720720"/>
                <a:gridCol w="718920"/>
                <a:gridCol w="12970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颜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色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左第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一位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左第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二位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左第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三位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右第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二位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右第一位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（误差）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棕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F±1%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红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G±2%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橙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黄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绿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D±0.5%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蓝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C±0.25%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紫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B±0.1%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灰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白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黑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0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金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1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J±5%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银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-2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80808"/>
                          </a:solidFill>
                          <a:latin typeface="Times New Roman"/>
                          <a:ea typeface="Times New Roman"/>
                        </a:rPr>
                        <a:t>K±10%</a:t>
                      </a:r>
                      <a:endParaRPr b="0" lang="en-US" sz="20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835280" y="620280"/>
            <a:ext cx="210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电烙铁</a:t>
            </a:r>
            <a:r>
              <a:rPr b="0" lang="zh-CN" sz="40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24000" y="1312560"/>
            <a:ext cx="2952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电烙铁是手工施焊的主要工具，选择合适的电烙铁并正确使用是保证焊接质量的基础，电烙铁按加热方式可分为外热式和内热式两大类。本课程选用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30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瓦外热式电烙铁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276720" y="2579760"/>
            <a:ext cx="5867280" cy="4278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4734000" y="333360"/>
            <a:ext cx="4410000" cy="22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首次使用电烙铁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首次使用电烙铁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时，插上电源插头后，电烙铁温度上升的同时，先在烙铁头上涂上少许松香，待加热到焊锡熔点时，再往烙铁头上加焊锡，在使用过程中，由于电烙铁温度很高，达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300℃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以上，长时间加热会使焊锡熔化挥发，在烙铁头上留下一层污垢，影响焊接，使用时用擦布将烙铁头擦拭干净或在松香里清洗干净，再往烙铁头上加焊锡，保持烙铁头上有一层光亮的焊锡，这样电烙铁才好使用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达到以下基本要求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99640" y="1196640"/>
            <a:ext cx="7993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1.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学习万用表的基本使用方法；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2.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学习元器件的基本识别方法和参数测试方法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3.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了解实践产品的工作原理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4.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学会看懂实践电子产品的电路原理图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5.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了解装配技术有关常识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6.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掌握基本的焊接技术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7.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学习使用万用表对电路性能测试方法和测量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数据的分析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8.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学会调试仪器的基本使用方法；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9.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实践产品的装配和调试合格；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10.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学习科研生产工作的总结方法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其他辅助工具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482436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尖咀钳：头部较细，适用于夹小型金属器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斜口钳：主要用于剪切导线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剥线钳：专用于剥有绝缘层的导线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镊子：用途是夹持导线和元器件，在焊接时夹持器件兼有散热作用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起子：又称螺丝刀。有“一”字和“十”字两种，专用于拧螺钉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通针：又称透针。主要用于除去焊盘圆孔中的焊锡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、吸锡器：吸除焊锡，便于元器件取下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292720" y="1268280"/>
            <a:ext cx="3552840" cy="28720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5292720" y="4076640"/>
            <a:ext cx="35272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焊接材料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9400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焊锡丝：焊锡是由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60%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的锡和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40%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的铅混合而成，焊锡丝内孔装有辅助焊剂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松香：辅助焊剂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716360" y="1268280"/>
            <a:ext cx="3784680" cy="296244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716360" y="4005360"/>
            <a:ext cx="381636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焊接材料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42919" t="11587" r="6685" b="11104"/>
          <a:stretch/>
        </p:blipFill>
        <p:spPr>
          <a:xfrm>
            <a:off x="4140360" y="1844640"/>
            <a:ext cx="4608360" cy="46800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635040" y="1844640"/>
            <a:ext cx="1776240" cy="472428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4"/>
          <a:srcRect l="18607" t="10178" r="17734" b="4568"/>
          <a:stretch/>
        </p:blipFill>
        <p:spPr>
          <a:xfrm>
            <a:off x="2411280" y="1844640"/>
            <a:ext cx="172728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焊接要领</a:t>
            </a: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1680" y="1267920"/>
            <a:ext cx="854064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搪锡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元器件引脚搪锡和印刷电路板的焊盘搪锡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一般情况下出厂的元器件引脚均镀有一层薄的焊料，但时间一长，引脚表面会产生一层氧化膜，影响焊接。除少数有银或金镀层的引脚外，对被焊接的元器件引脚，导线等应搪上一层薄而均匀的焊料，这一过程叫做搪锡。搪锡首先要清除元器件表面氧化层，然后用烙铁辅以焊剂在焊接处镀上锡。这样才焊得快、焊得牢，不至于出现虚焊和假焊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印刷电路板除焊盘外，在铜箔和底板上涂有绝缘漆，出厂时间一长，印刷电路板的焊盘表面也会产生一层氧化膜，影响焊接。同样需要清除焊盘表面氧化层，一般用刀片轻轻刮去表面氧化层即可。必要时对焊盘进行搪锡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26640" y="121932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</a:rPr>
              <a:t>技术</a:t>
            </a: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焊接要领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99640" y="1267920"/>
            <a:ext cx="7559640" cy="25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手工焊接工艺流程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手工焊接工艺流程如图示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2—1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所示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  </a:t>
            </a:r>
            <a:r>
              <a:rPr b="0" lang="zh-CN" sz="28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焊接操作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三要素为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清洁处理、加热、给锡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755640" y="3933720"/>
          <a:ext cx="7632720" cy="1873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3933720"/>
                    <a:ext cx="7632720" cy="187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元器件焊接焊点举例</a:t>
            </a: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1280" y="3644640"/>
            <a:ext cx="7921440" cy="32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正确焊点，焊点就象光滑小山丘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不正确焊点，焊锡多，中间空，虚焊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3.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烙铁不正确焊点，元件线未出头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4.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不正确焊点，半焊，振动易脱焊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5.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不正确焊点，撤离时带出一个小尖峰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6.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正确焊点，桃形焊点，烙铁从元件引脚方向离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7.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不正确焊点，象油滴焊点，与焊盘未焊接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684360" y="1197000"/>
          <a:ext cx="7848360" cy="2160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1197000"/>
                    <a:ext cx="7848360" cy="21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焊接要领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1680" y="1600200"/>
            <a:ext cx="8540640" cy="47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．</a:t>
            </a:r>
            <a:r>
              <a:rPr b="0" lang="zh-CN" sz="2400" spc="-1" strike="noStrike" u="sng">
                <a:solidFill>
                  <a:srgbClr val="0066ff"/>
                </a:solidFill>
                <a:uFillTx/>
                <a:latin typeface="Arial"/>
                <a:hlinkClick r:id="rId2"/>
              </a:rPr>
              <a:t>元器件取下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当元器件焊接不当时，可用电烙铁加热要取下元器件的引脚焊锡，使焊锡熔化，同时用镊子夹持取下元器件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．</a:t>
            </a:r>
            <a:r>
              <a:rPr b="0" lang="zh-CN" sz="2400" spc="-1" strike="noStrike" u="sng">
                <a:solidFill>
                  <a:srgbClr val="0066ff"/>
                </a:solidFill>
                <a:uFillTx/>
                <a:latin typeface="Arial"/>
                <a:hlinkClick r:id="rId3"/>
              </a:rPr>
              <a:t>焊盘孔去锡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元器件取下后，焊锡还留在焊盘孔上，无法再焊接，需要焊盘孔去锡，去锡可用专用吸锡或吹锡工具去锡，也可用通针去锡，方法是用电烙铁加热使焊锡熔化，同时用通针疏通焊盘孔即可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．引脚剪去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元器件焊接好后，元器件引脚不高出电路板面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1mm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，应将多余部分的引脚用斜口钳或其它剪切工具剪去，使印刷电路板整洁美观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eb7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4360" y="475920"/>
            <a:ext cx="77724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第一章 实习的目的、任务和要求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4360" y="1699920"/>
            <a:ext cx="777528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80808"/>
                </a:solidFill>
                <a:latin typeface="Arial"/>
              </a:rPr>
              <a:t>第一节  目  的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80808"/>
                </a:solidFill>
                <a:latin typeface="Arial"/>
              </a:rPr>
              <a:t>《电子工程实践》是电气信息类工程实践课程，是实践教学的重要环节之一。在学习电类有关理论知识之前，通过一个电子产品的装配和调试过程，建立起对电子产品的感性认识是非常必要的。同时对基本操作技能进行必要的训练，为以后整个电类知识的教学，包括理论教学和实践教学打下基础。通过产品的正规化装配和调试，了解电子产品商品化生产过程，对未来工程师素质的提高，思维方式的培养，特别是在实际动手能力的锻炼方面，都将起着积极的作用。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实践报告的内容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79640" y="1267920"/>
            <a:ext cx="5624640" cy="506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1.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实践产品的基本工作原理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2.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装配和调试过程简述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3.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测试数据分析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4.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科研生产工作的总结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5.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对电子产品认识；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6. </a:t>
            </a: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实践的心得体会和对该课程的建议等。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40640" cy="7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实践产品介绍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320" y="907920"/>
            <a:ext cx="8302680" cy="519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      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FUSUN  R-858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型收音机 外型美观，内部结构紧凑，具有时钟、闹钟、自动搜索功能的调频收音机，内部采用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片集成电路，集成块型号为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CD9088CB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TDA2822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CS3610D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。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CD9088CB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它包含了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FM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波段电磁波从天线输入到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音频 输出的全部功能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TDA2822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功能是音频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功率放大，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CS3610D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具有频率显示、时钟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闹钟功能，电路上的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其它器件为一些调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器件、耦合器件和滤 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波器件，主要有电阻、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电感、 电容、晶体三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极管、晶体二极管和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</a:rPr>
              <a:t>液晶显示器等。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rcRect l="0" t="0" r="4707" b="8264"/>
          <a:stretch/>
        </p:blipFill>
        <p:spPr>
          <a:xfrm>
            <a:off x="3348000" y="2041560"/>
            <a:ext cx="579600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实践产品介绍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648320" y="1627200"/>
            <a:ext cx="4194000" cy="21193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8320" y="3936960"/>
            <a:ext cx="4194000" cy="215100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39840" y="1600200"/>
            <a:ext cx="411624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第二章  安装与焊接工艺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80808"/>
                </a:solidFill>
                <a:latin typeface="Arial"/>
              </a:rPr>
              <a:t>          </a:t>
            </a:r>
            <a:r>
              <a:rPr b="0" lang="zh-CN" sz="3600" spc="-1" strike="noStrike">
                <a:solidFill>
                  <a:srgbClr val="080808"/>
                </a:solidFill>
                <a:latin typeface="Arial"/>
              </a:rPr>
              <a:t>科学技术的进步，使电子技术渗透到社会生活的各个领域，作为电气信息类专业工程师，电子产品的安装与焊接是必备的基本技能。本章首先介绍万用表的使用，然后介绍电烙铁、印刷电路板和焊接工艺。</a:t>
            </a:r>
            <a:endParaRPr b="0" lang="en-US" sz="3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9ac"/>
                </a:solidFill>
                <a:latin typeface="Arial"/>
              </a:rPr>
              <a:t> 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第一节  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MF47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型万用表使用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560" y="1341360"/>
            <a:ext cx="340668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P3-7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一、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MF47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万用表基本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功能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MF47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型是设计新颖的磁电系整流式便携式多量程万用电表，可供侧量直流电流、交直流电压、直流电阻等，具有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26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个基本量程和电平、电容、电感、晶体管直流参数等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7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个附加参考量程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>
            <a:lum bright="12000"/>
          </a:blip>
          <a:srcRect l="2894" t="6186" r="6202" b="5978"/>
          <a:stretch/>
        </p:blipFill>
        <p:spPr>
          <a:xfrm>
            <a:off x="3492360" y="1317600"/>
            <a:ext cx="565164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rcRect l="2701" t="7383" r="4451" b="7467"/>
          <a:stretch/>
        </p:blipFill>
        <p:spPr>
          <a:xfrm>
            <a:off x="2556000" y="2462040"/>
            <a:ext cx="6588000" cy="4395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MF47</a:t>
            </a:r>
            <a:r>
              <a:rPr b="1" lang="zh-CN" sz="4000" spc="-1" strike="noStrike">
                <a:solidFill>
                  <a:srgbClr val="0039ac"/>
                </a:solidFill>
                <a:latin typeface="Arial"/>
              </a:rPr>
              <a:t>型万用表使用</a:t>
            </a:r>
            <a:endParaRPr b="0" lang="en-US" sz="40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-360" y="1052280"/>
            <a:ext cx="84596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80808"/>
                </a:solidFill>
                <a:latin typeface="Arial"/>
              </a:rPr>
              <a:t>二、刻度盘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    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刻度盘印制成红、绿、黑三色。刻度盘共有六条刻度，第一条专供测电阻用；第二条供测交直流电压、直流电流之用；第三条供测晶体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管放大倍数用；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第四条供测量电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容之用；第五条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供测电感之用；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第六条供测音频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电平。刻度盘上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装有反光镜，以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80808"/>
                </a:solidFill>
                <a:latin typeface="Arial"/>
              </a:rPr>
              <a:t>消除视差。     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8T06:35:06Z</dcterms:created>
  <dc:creator>sx</dc:creator>
  <dc:description/>
  <dc:language>en-US</dc:language>
  <cp:lastModifiedBy>微软用户</cp:lastModifiedBy>
  <dcterms:modified xsi:type="dcterms:W3CDTF">2012-08-07T08:32:51Z</dcterms:modified>
  <cp:revision>29</cp:revision>
  <dc:subject/>
  <dc:title>幻灯片 1</dc:title>
</cp:coreProperties>
</file>