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3860-725D-4A77-975E-48C0531B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A35-C11D-4AA5-95A8-B4067ED4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BA3E-582A-41BA-9001-115D6C63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C9BB-C726-4D00-A016-8FB24A40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7E98-EAC5-4645-BD89-5B803C0C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18FE-E935-4F60-A342-3D3B55B2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1725-C38A-40B1-A371-EBD77428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072A-92A7-4D64-8AD9-F9ABCCC2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C4FA-A293-4492-99E5-E4DCEA4C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CD11-5F1B-453F-B4D4-C3FFF1D3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C4D0-2FE0-4374-A442-DBF6916F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911-47E5-425E-A755-F96DB3E3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F864-51B4-4F23-94AE-D5BA8D1B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28D0-248B-4BB9-9C30-129B41AB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2ACC-6FD3-4BBB-A437-AD3ABF9B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C187-6FE0-41EC-8A57-4324A68E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B4C6-69A7-4E5B-A48E-889A32F1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CDE-0661-4080-870B-24B51780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D3D5-AD63-4BAC-AD49-FD62A735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2EB3-CFBD-4F11-91D2-78BD3926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0DA-0863-4D50-978E-6D6154DC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576-B253-41D6-B6BD-BB72664B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322-B5F6-4CB5-98D7-13403C81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8750-265C-43EF-A248-2730B09A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A0C0-1582-4CF2-A71B-0ED7AF8DB36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447920" y="6629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82840" cy="159372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3"/>
          <a:stretch/>
        </p:blipFill>
        <p:spPr>
          <a:xfrm>
            <a:off x="7305840" y="333360"/>
            <a:ext cx="1838160" cy="151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1700280"/>
            <a:ext cx="9009000" cy="1052280"/>
            <a:chOff x="0" y="1700280"/>
            <a:chExt cx="9009000" cy="105228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1807920"/>
              <a:ext cx="711360" cy="474480"/>
              <a:chOff x="290520" y="1807920"/>
              <a:chExt cx="71136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180792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180792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230200"/>
              <a:ext cx="737640" cy="474480"/>
              <a:chOff x="414360" y="2230200"/>
              <a:chExt cx="737640" cy="47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23020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23020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15712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1700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252144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D0C5-6F6C-4ACB-A10D-41ED9423A77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6629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82840" cy="1593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305840" y="333360"/>
            <a:ext cx="1838160" cy="1511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4824360" cy="3263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940360" y="4221000"/>
            <a:ext cx="2448000" cy="165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448000" cy="1631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1341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600" spc="-1" strike="noStrike">
                <a:solidFill>
                  <a:srgbClr val="003366"/>
                </a:solidFill>
                <a:latin typeface="Times New Roman"/>
                <a:ea typeface="华文行楷"/>
              </a:rPr>
              <a:t>铸工实训教案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000" y="1267920"/>
            <a:ext cx="2001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教学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44520" y="2567160"/>
            <a:ext cx="646092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项目</a:t>
            </a: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铸造基本知识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项目</a:t>
            </a: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模造型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项目</a:t>
            </a: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模造型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项目</a:t>
            </a: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 </a:t>
            </a:r>
            <a:r>
              <a:rPr b="0" lang="zh-CN" sz="3500" spc="-1" strike="noStrike">
                <a:solidFill>
                  <a:srgbClr val="000000"/>
                </a:solidFill>
                <a:latin typeface="Tahoma"/>
                <a:ea typeface="楷体_GB2312"/>
              </a:rPr>
              <a:t>挖砂造型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铸造基本知识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1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铸造的名称、功能、用途。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Tahoma"/>
                <a:ea typeface="楷体_GB2312"/>
              </a:rPr>
              <a:t>铸造是液态金属成型的一种方法，其过程是指将金属溶化后，浇注到型腔内，冷却、凝固后形成具有型腔形状的金属制品。所铸出的金属制品成为铸件。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铸造基本知识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铸造工具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551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铸造基本知识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233960" y="1773360"/>
            <a:ext cx="4910040" cy="494028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1476360" y="2133720"/>
            <a:ext cx="2438280" cy="4183560"/>
            <a:chOff x="1476360" y="2133720"/>
            <a:chExt cx="2438280" cy="4183560"/>
          </a:xfrm>
        </p:grpSpPr>
        <p:sp>
          <p:nvSpPr>
            <p:cNvPr id="133" name=""/>
            <p:cNvSpPr/>
            <p:nvPr/>
          </p:nvSpPr>
          <p:spPr>
            <a:xfrm>
              <a:off x="2085840" y="21337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零件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80920" y="2962080"/>
              <a:ext cx="1752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铸造工艺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3876480"/>
              <a:ext cx="2438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模样图、芯盒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80920" y="4867200"/>
              <a:ext cx="1752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模样、芯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76360" y="5857560"/>
              <a:ext cx="23619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型（芯）砂制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95320" y="259056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95320" y="342864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95320" y="43430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95320" y="5333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铸造基本知识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49104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铸造基本知识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2384" t="0" r="3905" b="13582"/>
          <a:stretch/>
        </p:blipFill>
        <p:spPr>
          <a:xfrm>
            <a:off x="1116000" y="1989000"/>
            <a:ext cx="7667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铸造基本知识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按模样特征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模两箱造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模造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挖砂造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箱造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块造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刮板造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按砂箱特征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箱造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箱造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箱造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坑造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铸造基本知识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92360" y="3284640"/>
            <a:ext cx="2857320" cy="1504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835280" y="4791240"/>
            <a:ext cx="2520720" cy="2066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197320" y="3581280"/>
            <a:ext cx="3429000" cy="2805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311120" y="2317320"/>
            <a:ext cx="675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大平面铸件应朝下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因为在浇注过程中，熔融金属对型腔上表面的强烈辐射，容易使上表面型砂急剧地膨胀而拱起或开裂，在铸件表面造成夹砂结疤缺陷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铸造基本知识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47640" y="1844640"/>
            <a:ext cx="72136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积较大的薄壁部分应置于铸型下部或垂直、倾斜位置： 如箱盖铸件，将薄壁部分置于铸型上部，易产生浇不足、冷隔等缺陷。改置于铸型于下部后，可避免出现缺陷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76360" y="4797360"/>
            <a:ext cx="3809880" cy="1190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334120" y="4797360"/>
            <a:ext cx="3809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铸造基本知识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选择分型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  <a:ea typeface="黑体"/>
              </a:rPr>
              <a:t>（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  <a:ea typeface="黑体"/>
              </a:rPr>
              <a:t>1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  <a:ea typeface="黑体"/>
              </a:rPr>
              <a:t>）定义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两半铸型相互接触的表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选择原则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尽可能使铸件全部或大部置于同一砂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尽量减少分型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型面尽量平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避免不必要的活块和型芯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方便造型，下芯，合箱，尽量使型腔及主要型芯位于下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762120"/>
            <a:ext cx="5791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教学目标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  <a:ea typeface="楷体_GB2312"/>
              </a:rPr>
              <a:t>一、知识掌握点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了解铸造生产的工艺过程、特点和应用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了解型砂、芯砂等造型材料的性能、组成及制备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熟悉铸型（砂型铸造）、型芯的结构和作用。分清零件、模样和铸件之间的主要区别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铸造基本知识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144520" y="2108160"/>
            <a:ext cx="322236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尽量减少分型面</a:t>
            </a: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908000" y="1989000"/>
            <a:ext cx="576108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000" y="1052640"/>
            <a:ext cx="4319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铸造基本知识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6000" y="1844640"/>
            <a:ext cx="76676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3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  <a:ea typeface="楷体_GB2312"/>
              </a:rPr>
              <a:t>浇注系统设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  <a:ea typeface="楷体_GB2312"/>
              </a:rPr>
              <a:t>定义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金属液流入铸型型腔前所经过的通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  <a:ea typeface="楷体_GB2312"/>
              </a:rPr>
              <a:t>组成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外浇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直浇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横浇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内浇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  <a:ea typeface="楷体_GB2312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使金属液平稳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均匀地充满型腔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防止冲坏铸型和型芯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防止熔渣和空气卷入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补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9391" t="8853" r="61974" b="74147"/>
          <a:stretch/>
        </p:blipFill>
        <p:spPr>
          <a:xfrm>
            <a:off x="5003640" y="2781360"/>
            <a:ext cx="388800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76360" y="1125000"/>
            <a:ext cx="417672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铸造基本知识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144520" y="2043000"/>
            <a:ext cx="489564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4</a:t>
            </a: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绘制铸造工艺图</a:t>
            </a:r>
            <a:r>
              <a:rPr b="1" lang="zh-CN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3540" r="0" b="2879"/>
          <a:stretch/>
        </p:blipFill>
        <p:spPr>
          <a:xfrm>
            <a:off x="1403280" y="1989000"/>
            <a:ext cx="71280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76360" y="981000"/>
            <a:ext cx="42480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铸造基本知识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35280" y="2060640"/>
            <a:ext cx="414792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手工造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68360" y="2637000"/>
            <a:ext cx="7391160" cy="4419000"/>
            <a:chOff x="468360" y="2637000"/>
            <a:chExt cx="7391160" cy="441900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rcRect l="0" t="0" r="55407" b="48681"/>
            <a:stretch/>
          </p:blipFill>
          <p:spPr>
            <a:xfrm>
              <a:off x="2901960" y="2637000"/>
              <a:ext cx="4687200" cy="37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8360" y="5684760"/>
              <a:ext cx="1351800" cy="6091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不铸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96280" y="6217920"/>
              <a:ext cx="2163240" cy="53316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93000" y="62942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有质量要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69800" y="6294240"/>
              <a:ext cx="2163240" cy="761760"/>
            </a:xfrm>
            <a:prstGeom prst="wedgeEllipseCallout">
              <a:avLst>
                <a:gd name="adj1" fmla="val 113800"/>
                <a:gd name="adj2" fmla="val -146041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76960" y="6314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采用型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893040" y="3931920"/>
              <a:ext cx="1803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83400" y="3931920"/>
              <a:ext cx="90000" cy="685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056640" y="3931920"/>
              <a:ext cx="90000" cy="761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893040" y="3931920"/>
              <a:ext cx="180360" cy="685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66640" y="3931920"/>
              <a:ext cx="180000" cy="7617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76000" y="1052640"/>
            <a:ext cx="4319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铸造基本知识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76000" y="1915920"/>
            <a:ext cx="766764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习纪律与安全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)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训练室必须穿工作服，女生戴工作帽；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)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操作者要在指定岗位进行操作，不得串岗；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)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遵守劳动纪律，不准迟到早退；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)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真遵守安全操作规程；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)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护设备及工具、量具，工具、  工件摆放整齐，对损坏和丢失的工具、量具要折价赔偿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496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 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整模造型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-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592452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76000" y="980640"/>
            <a:ext cx="3598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整模造型－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6067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76000" y="1052640"/>
            <a:ext cx="33116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 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分模造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610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546000" y="933480"/>
            <a:ext cx="33433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项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挖砂造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2294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076480" y="2239560"/>
            <a:ext cx="550872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谢   谢！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761760"/>
            <a:ext cx="5791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教学目标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088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了解三箱造型的特点和应用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熟悉浇注系统的组成及作用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了解铸工车间生产安全技术。</a:t>
            </a:r>
            <a:r>
              <a:rPr b="0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ahoma"/>
                <a:ea typeface="楷体_GB2312"/>
              </a:rPr>
              <a:t>二、能力训练点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掌握手工两箱造型各种方法的工艺过程、特点和应用，并进行整模造型和分模造型的独立操作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熟悉型芯的制造方法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了解铸件的落砂和清理，熟悉铸件的常见缺陷及其产生的主要原因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教学目标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学生一个零件让学生自己设计一个零件铸造工艺过程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  <a:ea typeface="楷体_GB2312"/>
              </a:rPr>
              <a:t>三、素质培养点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实际操作训练，培养学生的动手能力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实习中的严格管理和严格要求，使学生在工作作风方面得到锻炼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对实习样件的加工质量和误差进行分析，以提高学生分析问题和解决问题的能力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设计和制定工艺提高学生的工程设计能力和创新能力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  <a:ea typeface="楷体_GB2312"/>
              </a:rPr>
              <a:t>一、大纲重点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握部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掌握铸造的基本概念；常用铸造的种类和加工范围；铸造加工所能达到的精度和表面粗糙度值；常用铸造工具的种类和用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熟练掌握铸造砂型的操作方法及注意事项；按计划完成砂型制作和用蜡浇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熟悉部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ahoma"/>
                <a:ea typeface="楷体_GB2312"/>
              </a:rPr>
              <a:t>铸造是液态金属成型的一种方法，其过程是指将金属溶化后，浇注到型腔内，冷却、凝固后形成具有型腔形状的金属制品。所铸出的金属制品成为铸件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ahoma"/>
                <a:ea typeface="楷体_GB2312"/>
              </a:rPr>
              <a:t>大多数铸件作为毛坯，需要经过机械加工成为各种机器零件使用，也有一些铸件能够达到使用的尺寸精度和表面粗糙度要求，可作为成品零件直接使用。铸造生产的方法有多种，其中最普遍采用的是砂型铸造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部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ahoma"/>
                <a:ea typeface="楷体_GB2312"/>
              </a:rPr>
              <a:t>了解铸造的安全操作规程；加工经济性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Tahoma"/>
                <a:ea typeface="楷体_GB2312"/>
              </a:rPr>
              <a:t>二、学习难点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造型材料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砂型和芯是用型砂和芯砂的制造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的工艺装备有模样、砂箱和造型平板的用法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ahoma"/>
                <a:ea typeface="楷体_GB2312"/>
              </a:rPr>
              <a:t>三、难点化解方法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导教师多动口、多动手，耐心指导每一位学生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学生大量的实践时间，多进行实际操作，在实践过程中总结出规律和技巧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不同的材料，制作难易不同的工件，让学生在乐趣中熟能生巧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0" y="1125360"/>
            <a:ext cx="208764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教学计划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35080" y="1488960"/>
          <a:ext cx="7589880" cy="532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5080" y="1488960"/>
                    <a:ext cx="758988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5867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  <a:ea typeface="楷体_GB2312"/>
              </a:rPr>
              <a:t>物质准备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47920" y="2276640"/>
            <a:ext cx="73720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备：电炉，砂箱，模型，平板等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具：铁铲，又称铁锹，筛子，砂舂，刮板，起模针和起模钉通气针镘刀砂钩成型镘刀压勺秋叶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材料：练习件毛坯、图纸和工艺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具：挂图、实物、模型、录象带等。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02:45:30Z</dcterms:created>
  <dc:creator/>
  <dc:description/>
  <dc:language>en-US</dc:language>
  <cp:lastModifiedBy/>
  <dcterms:modified xsi:type="dcterms:W3CDTF">2012-08-16T09:08:54Z</dcterms:modified>
  <cp:revision>88</cp:revision>
  <dc:subject/>
  <dc:title>PowerPoint 演示文稿</dc:title>
</cp:coreProperties>
</file>