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4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wmf" ContentType="image/x-wmf"/>
  <Override PartName="/ppt/media/image10.png" ContentType="image/png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008-40EC-4DA7-8E7B-F948664E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0A2-17FF-477B-AC1A-EEB779DD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A814-E769-40DA-992F-EE5913B1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40D-1ED0-487D-B01E-7511AD51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CF2D-55DF-4EFC-B7C1-3CCDC44C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B85B-A745-4AE9-96B6-29171CF0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2FE0-22F0-43D2-BE48-BC47DD72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6811-B024-48F5-9AA6-F487FA19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1CBB-BD39-449C-8F98-DBE2F9E5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0A46-93C9-4871-8C6F-4155D3F1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E9F0-F3C2-4846-A55D-5F05598E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FE81-B640-4C60-BB6E-DD4ADD48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53D6-E4AC-445E-B11D-A5F423A4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ADE3-7462-4EDC-B1CD-424FA46F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DCF8-A1F2-4B12-84B9-A6E0E6FB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2D8F-3979-400D-AF79-54A4A5C2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9347-5E8F-450C-AA53-C0E8D873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131-FD96-4725-9768-B76875EB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585-ECE1-425E-B7BC-32B0A1F2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A900-C1BD-4580-9723-30F5775C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79A-A2BF-41EE-9179-2B2D82A3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AE95-D742-486A-92A5-32F7EA18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C2A-94AA-45B7-B8B4-856C7686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E032-CBF2-4C72-949F-661244FD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4D13-2668-4F08-AC58-2052772242E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447920" y="6629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82840" cy="159372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3"/>
          <a:stretch/>
        </p:blipFill>
        <p:spPr>
          <a:xfrm>
            <a:off x="7305840" y="333360"/>
            <a:ext cx="1838160" cy="151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1700280"/>
            <a:ext cx="9009000" cy="1052280"/>
            <a:chOff x="0" y="1700280"/>
            <a:chExt cx="9009000" cy="105228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1807920"/>
              <a:ext cx="711360" cy="474480"/>
              <a:chOff x="290520" y="1807920"/>
              <a:chExt cx="71136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180792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18079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230200"/>
              <a:ext cx="737640" cy="474480"/>
              <a:chOff x="414360" y="2230200"/>
              <a:chExt cx="737640" cy="47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23020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23020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15712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1700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252144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BDC4-E6BB-4755-81FA-68E47401057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6629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82840" cy="1593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305840" y="333360"/>
            <a:ext cx="1838160" cy="1511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H:/../../lengsucai/&#20919;&#21152;&#24037;/&#21032;&#25289;&#25554;/&#21032;&#24179;&#38754;.avi" TargetMode="External"/><Relationship Id="rId2" Type="http://schemas.openxmlformats.org/officeDocument/2006/relationships/hyperlink" Target="file:///H:/../../lengsucai/&#20919;&#21152;&#24037;/&#21032;&#25289;&#25554;/&#21032;&#22402;&#30452;&#38754;.avi" TargetMode="External"/><Relationship Id="rId3" Type="http://schemas.openxmlformats.org/officeDocument/2006/relationships/hyperlink" Target="file:///H:/../../lengsucai/&#20919;&#21152;&#24037;/&#21032;&#25289;&#25554;/&#21032;&#26012;&#38754;.avi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76360" y="1079640"/>
            <a:ext cx="5794560" cy="1125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96600" y="1052640"/>
            <a:ext cx="3655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600" spc="-1" strike="noStrike">
                <a:solidFill>
                  <a:srgbClr val="003366"/>
                </a:solidFill>
                <a:latin typeface="Times New Roman"/>
                <a:ea typeface="华文行楷"/>
              </a:rPr>
              <a:t>刨削实训教案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2852640"/>
            <a:ext cx="7299360" cy="3335400"/>
          </a:xfrm>
          <a:prstGeom prst="rect">
            <a:avLst/>
          </a:prstGeom>
          <a:solidFill>
            <a:srgbClr val="89c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27280" y="2924280"/>
            <a:ext cx="45356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360" y="1196640"/>
            <a:ext cx="24480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教学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6000" y="1844640"/>
            <a:ext cx="7667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项目</a:t>
            </a:r>
            <a:r>
              <a:rPr b="0" lang="zh-CN" sz="35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1 </a:t>
            </a:r>
            <a:r>
              <a:rPr b="0" lang="zh-CN" sz="35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刨削基本知识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项目</a:t>
            </a:r>
            <a:r>
              <a:rPr b="0" lang="zh-CN" sz="35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2 </a:t>
            </a:r>
            <a:r>
              <a:rPr b="0" lang="zh-CN" sz="35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示范操作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刨削基本知识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刨削加工的基本概念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刨削是利用刨刀在刨床上对工件进行切削加工，是加工平面的主要方法之一。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刨削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140360" y="3789360"/>
            <a:ext cx="251928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000" y="1196640"/>
            <a:ext cx="41036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刨削基本知识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6000" y="184464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刨削的工艺特点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刨削加工的生产率低；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用性好，适应性强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工精度可达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T9-IT8,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面粗糙度为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.5-3.2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492360" y="3860640"/>
                <a:ext cx="6811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示范操作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刨床的种类和加工范围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的刨床可分为牛头刨床和龙门刨床两大类。其结构分别如图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图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2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。牛头刨床主要加工较小的零件表面，而龙门刨床主要加工较大的箱体、支架、床身等零件表面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340000" y="4365720"/>
            <a:ext cx="4276800" cy="1771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492360" y="6381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刨工工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示范操作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1871" r="0" b="0"/>
          <a:stretch/>
        </p:blipFill>
        <p:spPr>
          <a:xfrm>
            <a:off x="5076720" y="2421000"/>
            <a:ext cx="3888000" cy="35035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740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头刨床       图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2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龙门刨床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63640" y="2492280"/>
            <a:ext cx="316872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示范操作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刨削主要用于加工平面如</a:t>
            </a:r>
            <a:r>
              <a:rPr b="0" lang="zh-CN" sz="2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  <a:hlinkClick r:id="rId1"/>
              </a:rPr>
              <a:t>水平面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  <a:hlinkClick r:id="rId2"/>
              </a:rPr>
              <a:t>垂直面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zh-CN" sz="2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  <a:hlinkClick r:id="rId3"/>
              </a:rPr>
              <a:t>斜面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还可以加工槽类零件，另外牛头刨床装上夹具后还可以加工齿轮、齿条等成形表面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头刨床组成及作用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头刨床主要由床身、滑枕、刀架、横梁、工作台等部分组成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床身  床身用来支撑和连接刨床的各个部件，其内部有齿轮变速机构和摆杆机构，以改变滑枕的往复运动速度和行程长度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滑枕  滑枕主要用来带动刨刀作直线往复运动 ，其内部装有丝杠螺母传动装置，可以改变滑枕的往复行程位置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示范操作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刀架  刀架如图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3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，其作用是夹持刨刀。它由转盘、溜板、刀座、抬刀板、刀夹等组成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3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刀架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0" r="-1943" b="8064"/>
          <a:stretch/>
        </p:blipFill>
        <p:spPr>
          <a:xfrm>
            <a:off x="3492360" y="2924280"/>
            <a:ext cx="3672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示范操作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作台  工作台是用来安装工件的，上面的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槽科穿入螺栓来装夹工件或夹具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头刨床的传动及调整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头刨床的传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)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动路线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757880" y="4437000"/>
            <a:ext cx="6742800" cy="2211120"/>
            <a:chOff x="1757880" y="4437000"/>
            <a:chExt cx="6742800" cy="2211120"/>
          </a:xfrm>
        </p:grpSpPr>
        <p:sp>
          <p:nvSpPr>
            <p:cNvPr id="150" name=""/>
            <p:cNvSpPr/>
            <p:nvPr/>
          </p:nvSpPr>
          <p:spPr>
            <a:xfrm>
              <a:off x="1757880" y="4557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电动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57880" y="52052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带传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87640" y="5060880"/>
              <a:ext cx="6408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变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机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51240" y="52704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摆杆机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51240" y="4557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丝杠螺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8160" y="4557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滑枕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36520" y="4557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刀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82920" y="5921280"/>
              <a:ext cx="649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连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机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35280" y="5921280"/>
              <a:ext cx="6411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棘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机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76040" y="5948280"/>
              <a:ext cx="4550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丝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螺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07240" y="4437000"/>
              <a:ext cx="7293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刀具往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直线运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34160" y="5925960"/>
              <a:ext cx="8665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工作台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向进给运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50920" y="48448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11280" y="5421240"/>
              <a:ext cx="64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62200" y="542124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0200" y="55656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570200" y="484452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74920" y="47736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87640" y="62848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38560" y="62848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1640" y="477360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19640" y="477360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75280" y="62848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360" y="1125000"/>
            <a:ext cx="352728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示范操作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76000" y="184464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)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摇臂机构  摇臂机构如图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，其作用是把旋转运动变成滑枕的往复直线运动。 由摇臂齿轮、摇 臂、偏心滑块等 组成。摇臂上端 与滑枕内的螺母 相连。摇臂齿轮 由小齿轮带动旋 转时，偏心滑块 就带动摇臂绕支 架左右摆动，于是滑枕就被推动 做往复直线运动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7280" y="765000"/>
            <a:ext cx="58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示范操作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76000" y="1844640"/>
            <a:ext cx="76676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摇臂机构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4607"/>
          <a:stretch/>
        </p:blipFill>
        <p:spPr>
          <a:xfrm>
            <a:off x="2700360" y="2060640"/>
            <a:ext cx="53276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761760"/>
            <a:ext cx="5791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教学目标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  <a:ea typeface="楷体_GB2312"/>
              </a:rPr>
              <a:t>一、知识掌握点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掌握刨削加工工艺的基本概念、工艺特点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了解常用刨床的种类和加工范围，常用刨刀的种   类和用途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掌握刨削加工所能达到的精度和表面粗糙度值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360" y="765000"/>
            <a:ext cx="5867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示范操作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床调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变偏心滑块的偏心距，调整滑枕行程长度。滑枕的行程长度应略长于工件加工平面的长度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5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滑块调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3100" t="0" r="1584" b="7067"/>
          <a:stretch/>
        </p:blipFill>
        <p:spPr>
          <a:xfrm>
            <a:off x="3276720" y="3213000"/>
            <a:ext cx="43923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76000" y="1268280"/>
            <a:ext cx="3311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示范操作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76000" y="1773360"/>
            <a:ext cx="766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开滑枕上的锁紧手柄，摇转丝杠，移动滑枕，以调节刨刀起始位置，适应工件加工。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选定的滑枕每分钟往复次数，扳动变速箱手柄位置。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拨动挡环的位置，通过改变棘轮外面的挡环位置，可以控制棘轮爪每次拨动的有效齿数，从而改变工作台进给量的大小。提起棘轮爪，工作台停止进给运动。其中棘轮机构的作用是使工作台间歇地实现水平进给运动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76000" y="1052640"/>
            <a:ext cx="331164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示范操作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7407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6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棘轮机构          图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挡环调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10300"/>
          <a:stretch/>
        </p:blipFill>
        <p:spPr>
          <a:xfrm>
            <a:off x="1619280" y="2349360"/>
            <a:ext cx="4537080" cy="3346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rcRect l="15277" t="0" r="24993" b="11198"/>
          <a:stretch/>
        </p:blipFill>
        <p:spPr>
          <a:xfrm>
            <a:off x="6372360" y="2781360"/>
            <a:ext cx="255744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338292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示范操作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76000" y="1773360"/>
            <a:ext cx="76676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刨刀的种类和用途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刨刀的种类很多，常见的刨刀如图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。平面刨刀用来刨水平面，偏刀用来刨垂直面或斜面，角度偏刀用来刨燕尾槽和具有相互成一定角度的表面，切刀用来刨削沟槽或切断工件，弯切刀用来刨削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槽或侧面槽，圆头刨刀用来加工直线型的成形表面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刨刀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03640" y="4724280"/>
            <a:ext cx="403236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76000" y="1267920"/>
            <a:ext cx="352908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示范操作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76000" y="1844640"/>
            <a:ext cx="76676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件的安装方法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件装夹常用平口钳装夹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8)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工作台上装夹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9)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专用夹具装夹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10) 3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方法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8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口钳装夹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52578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76360" y="1125000"/>
            <a:ext cx="35272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示范操作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1844640"/>
            <a:ext cx="76676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9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工作台上装夹      图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10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专用工具装夹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3959280" cy="2448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6000" y="2492280"/>
            <a:ext cx="313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6360" y="1125360"/>
            <a:ext cx="3384720" cy="7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示范操作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7407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刨削加工的操作规程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作时，操作者要穿好工作服，女工要戴工作帽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夹工件要安全可靠，工作台和横梁上不准堆放任何物品。开车前要前后照顾，避免发生机床或人身事故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床在运行时，禁止进行变速、调整机床、清除切屑、测量工件等操作。清除切屑要用刷子，不可直接用手，以免刺伤手指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床在运转时，绝不允许离开机床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835280" y="2565360"/>
            <a:ext cx="5711760" cy="26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实习要求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态度认真     精心操作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虚心学习     注意安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教学目标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  <a:ea typeface="楷体_GB2312"/>
              </a:rPr>
              <a:t>二、能力训练点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熟练掌握牛头刨床的操作方法及注意事项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刨刀的选择和安装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各种刨刀刨削表面、沟槽和成型表面的加工方法，完成实习样件的加工。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教学目标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  <a:ea typeface="楷体_GB2312"/>
              </a:rPr>
              <a:t>三、素质培养点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立正确的人生观、世界观，培养踏实的工作作风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养成严谨的科学态度，提高质量意识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立自信心，提高创新精神和实践水平。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360" y="69192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大纲重点、学习</a:t>
            </a:r>
            <a:br>
              <a:rPr sz="3200"/>
            </a:b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难点及化解办法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5920" y="1905120"/>
            <a:ext cx="8164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  <a:ea typeface="楷体_GB2312"/>
              </a:rPr>
              <a:t>一、大纲重点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头刨床的传动系统知识；刨床的结构特点和用途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刨削基本加工工艺知识及工件的安装方法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头刨床的主要组成部分及作用。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2920" y="691920"/>
            <a:ext cx="586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大纲重点、学习</a:t>
            </a:r>
            <a:br>
              <a:rPr sz="3200"/>
            </a:b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难点及化解办法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7948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  <a:ea typeface="楷体_GB2312"/>
              </a:rPr>
              <a:t>二、学习难点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头刨床的传动系统及机构调整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确选择刨刀和切削用量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件在刨床上的正确安装及典型工件的刨削工艺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360" y="63792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大纲重点、学习</a:t>
            </a:r>
            <a:br>
              <a:rPr sz="3200"/>
            </a:b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难点及化解办法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  <a:ea typeface="楷体_GB2312"/>
              </a:rPr>
              <a:t>三、难点化解方法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教师课堂讲授和学生自主学习化解难点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教师反复的操作示范和答疑中解决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学生多多进行实际操作，通过评议实习样件的加工质量和误差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高学生能力，化解难点。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教学计划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692360" y="1933560"/>
          <a:ext cx="7056360" cy="49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933560"/>
                    <a:ext cx="705636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物质准备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备：牛头刨床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665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具：游标卡尺、钢板尺、机用虎钳、刨刀等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材料：毛坯、图纸和工艺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具：挂图、实物、教具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02:45:30Z</dcterms:created>
  <dc:creator/>
  <dc:description/>
  <dc:language>en-US</dc:language>
  <cp:lastModifiedBy/>
  <dcterms:modified xsi:type="dcterms:W3CDTF">2012-08-16T01:58:56Z</dcterms:modified>
  <cp:revision>54</cp:revision>
  <dc:subject/>
  <dc:title>PowerPoint 演示文稿</dc:title>
</cp:coreProperties>
</file>